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E19-D14B-4B0C-9A6C-5026F8DD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11B-8A78-4C7D-BC97-418ADE72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CBB-FF19-4D82-8801-F64307E9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C2E-4735-405B-9E6D-482348BA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415-C7CF-42C4-8616-0230C28D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0FEF-2A4F-4167-AA0D-27968B03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526-E421-4879-8B59-DBD4680E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43CC-683D-4B6D-8F84-4CB292BA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014D-4A4C-4826-BD32-BE346655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AEFA-51E1-4CE4-AA56-0D469A5C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2451-F887-4619-ACCF-D6334A1E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896-DB92-4B9F-BE2D-BC64A12A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AD4C-E6DC-44B7-964B-D6CF85F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F5F8-502C-4E2D-8EBE-A54FD79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96F-B204-44B9-A675-EFD538CC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13C-AAFD-4E07-B0DA-CDCA52DE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F20C-566E-4741-86C8-AFEC9D0A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ADA-114B-40AE-812F-B6A79E8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A29-5A42-4E90-BA2B-990D15AB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F49-37E4-4BB8-9513-A23B6524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DDD-1565-4180-A71E-8CF1F336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902-6328-4630-BB1A-81DDAFE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D6D-1610-48E6-838A-742CC86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4A0-A340-4ED3-BBB8-A650F90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0AAE-17A6-4703-8407-FA05B99A9D5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A472-8C2F-41FF-A885-AB4523086E6A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2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3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3.doc" TargetMode="External"/><Relationship Id="rId2" Type="http://schemas.openxmlformats.org/officeDocument/2006/relationships/hyperlink" Target="file:///&#25903;&#20986;&#24977;&#35657;&#34389;&#29702;&#35201;&#40670;/&#25903;&#20986;&#24977;&#35657;&#34389;&#29702;&#40670;3.doc" TargetMode="External"/><Relationship Id="rId3" Type="http://schemas.openxmlformats.org/officeDocument/2006/relationships/hyperlink" Target="file:///&#35079;&#26412;%20&#22283;&#20013;&#23567;&#21508;&#39006;&#27243;&#24335;&#34920;&#26684;_980225.xls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2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3" Type="http://schemas.openxmlformats.org/officeDocument/2006/relationships/hyperlink" Target="file:///&#35299;&#37323;&#20989;0940006759&#20132;&#36890;&#36027;&#22577;&#25903;.doc" TargetMode="External"/><Relationship Id="rId4" Type="http://schemas.openxmlformats.org/officeDocument/2006/relationships/hyperlink" Target="file:///&#35299;&#37323;&#20989;0940006759&#20132;&#36890;&#36027;&#22577;&#25903;.doc" TargetMode="External"/><Relationship Id="rId5" Type="http://schemas.openxmlformats.org/officeDocument/2006/relationships/hyperlink" Target="file:///&#35299;&#37323;&#20989;0940006759&#20132;&#36890;&#36027;&#22577;&#25903;.doc" TargetMode="External"/><Relationship Id="rId6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7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8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2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44;&#21209;&#20154;&#21729;&#22240;&#20844;&#20663;&#27544;&#27515;&#20129;&#24944;&#21839;&#37329;&#30332;&#32102;&#36774;&#27861;(97.6.27&#20462;&#27491;).doc" TargetMode="External"/><Relationship Id="rId2" Type="http://schemas.openxmlformats.org/officeDocument/2006/relationships/hyperlink" Target="file:///&#26367;&#20195;&#24441;&#23526;&#26045;&#26781;&#20363;(96.1.24&#20462;&#27491;).doc" TargetMode="External"/><Relationship Id="rId3" Type="http://schemas.openxmlformats.org/officeDocument/2006/relationships/hyperlink" Target="file:///&#26367;&#20195;&#24441;&#23526;&#26045;&#26781;&#20363;(96.1.24&#20462;&#27491;).doc" TargetMode="External"/><Relationship Id="rId4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5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6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7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8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9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10" Type="http://schemas.openxmlformats.org/officeDocument/2006/relationships/hyperlink" Target="file:///&#25512;&#21205;&#25919;&#24220;&#27231;&#38364;&#23416;&#26657;&#32025;&#26479;&#28187;&#37327;&#26041;&#26696;.pdf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2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3" Type="http://schemas.openxmlformats.org/officeDocument/2006/relationships/hyperlink" Target="file:///&#24120;&#29992;&#27861;&#35215;/16.&#20839;&#37096;&#23529;&#26680;&#34389;&#29702;&#28310;&#21063;&#31532;24&#26781;.doc" TargetMode="External"/><Relationship Id="rId4" Type="http://schemas.openxmlformats.org/officeDocument/2006/relationships/hyperlink" Target="file:///&#24120;&#29992;&#27861;&#35215;/16.&#20839;&#37096;&#23529;&#26680;&#34389;&#29702;&#28310;&#21063;&#31532;24&#26781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5.doc" TargetMode="External"/><Relationship Id="rId7" Type="http://schemas.openxmlformats.org/officeDocument/2006/relationships/hyperlink" Target="file:///&#25903;&#20986;&#24977;&#35657;&#34389;&#29702;&#35201;&#40670;/&#25903;&#20986;&#24977;&#35657;&#34389;&#29702;&#40670;6.doc" TargetMode="External"/><Relationship Id="rId8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9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10" Type="http://schemas.openxmlformats.org/officeDocument/2006/relationships/hyperlink" Target="file:///&#25903;&#20986;&#24977;&#35657;&#34389;&#29702;&#35201;&#40670;/&#25903;&#20986;&#24977;&#35657;&#34389;&#29702;&#40670;6.doc" TargetMode="External"/><Relationship Id="rId11" Type="http://schemas.openxmlformats.org/officeDocument/2006/relationships/hyperlink" Target="file:///&#25903;&#20986;&#24977;&#35657;&#34389;&#29702;&#35201;&#40670;/&#25903;&#20986;&#24977;&#35657;&#34389;&#29702;&#40670;6.doc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3" Type="http://schemas.openxmlformats.org/officeDocument/2006/relationships/hyperlink" Target="file:///&#25903;&#20986;&#24977;&#35657;&#34389;&#29702;&#35201;&#40670;/&#25903;&#20986;&#24977;&#35657;&#34389;&#29702;&#40670;6.doc" TargetMode="External"/><Relationship Id="rId4" Type="http://schemas.openxmlformats.org/officeDocument/2006/relationships/hyperlink" Target="file:///&#25903;&#20986;&#24977;&#35657;&#34389;&#29702;&#35201;&#40670;/&#25903;&#20986;&#24977;&#35657;&#34389;&#29702;&#40670;6.doc" TargetMode="External"/><Relationship Id="rId5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6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7" Type="http://schemas.openxmlformats.org/officeDocument/2006/relationships/hyperlink" Target="file:///&#24120;&#29992;&#27861;&#35215;/16.&#20839;&#37096;&#23529;&#26680;&#34389;&#29702;&#28310;&#21063;&#31532;24&#26781;.doc" TargetMode="External"/><Relationship Id="rId8" Type="http://schemas.openxmlformats.org/officeDocument/2006/relationships/hyperlink" Target="file:///&#24120;&#29992;&#27861;&#35215;/16.&#20839;&#37096;&#23529;&#26680;&#34389;&#29702;&#28310;&#21063;&#31532;24&#26781;.doc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9.doc" TargetMode="External"/><Relationship Id="rId2" Type="http://schemas.openxmlformats.org/officeDocument/2006/relationships/hyperlink" Target="file:///&#25903;&#20986;&#24977;&#35657;&#34389;&#29702;&#35201;&#40670;/&#25903;&#20986;&#24977;&#35657;&#34389;&#29702;&#40670;15.doc" TargetMode="External"/><Relationship Id="rId3" Type="http://schemas.openxmlformats.org/officeDocument/2006/relationships/hyperlink" Target="file:///&#25903;&#20986;&#24977;&#35657;&#34389;&#29702;&#35201;&#40670;/&#25903;&#20986;&#24977;&#35657;&#34389;&#29702;&#40670;7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2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13.doc" TargetMode="External"/><Relationship Id="rId7" Type="http://schemas.openxmlformats.org/officeDocument/2006/relationships/hyperlink" Target="file:///&#25903;&#20986;&#24977;&#35657;&#34389;&#29702;&#35201;&#40670;/&#25903;&#20986;&#24977;&#35657;&#34389;&#29702;&#40670;4.doc" TargetMode="External"/><Relationship Id="rId8" Type="http://schemas.openxmlformats.org/officeDocument/2006/relationships/hyperlink" Target="file:///&#25903;&#20986;&#24977;&#35657;&#34389;&#29702;&#35201;&#40670;/&#25903;&#20986;&#24977;&#35657;&#34389;&#29702;&#40670;4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4.doc" TargetMode="External"/><Relationship Id="rId2" Type="http://schemas.openxmlformats.org/officeDocument/2006/relationships/hyperlink" Target="file:///&#25903;&#20986;&#24977;&#35657;&#34389;&#29702;&#35201;&#40670;/&#25903;&#20986;&#24977;&#35657;&#34389;&#29702;&#40670;4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2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3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4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7.&#25903;&#20986;&#24977;&#35657;&#34389;&#29702;&#35201;&#40670;(931005&#20462;&#35330;).doc" TargetMode="External"/><Relationship Id="rId3" Type="http://schemas.openxmlformats.org/officeDocument/2006/relationships/hyperlink" Target="file:///&#24120;&#29992;&#27861;&#35215;/8.&#33457;&#34030;&#32291;&#25919;&#24220;&#21729;&#24037;&#20844;(&#20986;)&#24046;&#31649;&#21046;&#35201;&#40670;960430.doc" TargetMode="External"/><Relationship Id="rId4" Type="http://schemas.openxmlformats.org/officeDocument/2006/relationships/hyperlink" Target="file:///&#24120;&#29992;&#27861;&#35215;/9.&#22283;&#20839;&#20986;&#24046;&#26053;&#36027;&#22577;&#25903;&#35201;&#40670;0961400035_1.pdf" TargetMode="External"/><Relationship Id="rId5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6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7" Type="http://schemas.openxmlformats.org/officeDocument/2006/relationships/hyperlink" Target="file:///&#24120;&#29992;&#27861;&#35215;/12.&#21508;&#27231;&#38364;&#23416;&#26657;&#20986;&#24109;&#36027;&#21450;&#31295;&#36027;&#25903;&#32102;&#35201;&#40670;(930930&#20462;&#35330;).doc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3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4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5" Type="http://schemas.openxmlformats.org/officeDocument/2006/relationships/hyperlink" Target="file:///&#24120;&#29992;&#27861;&#35215;/16.&#20839;&#37096;&#23529;&#26680;&#34389;&#29702;&#28310;&#21063;&#31532;24&#26781;.doc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w.dgbas.gov.tw/" TargetMode="External"/><Relationship Id="rId3" Type="http://schemas.openxmlformats.org/officeDocument/2006/relationships/hyperlink" Target="http://law.dgbas.gov.tw/" TargetMode="External"/><Relationship Id="rId4" Type="http://schemas.openxmlformats.org/officeDocument/2006/relationships/hyperlink" Target="http://law.dgbas.gov.tw/" TargetMode="External"/><Relationship Id="rId5" Type="http://schemas.openxmlformats.org/officeDocument/2006/relationships/hyperlink" Target="http://www.bas-association.org.tw/mail/content2.htm" TargetMode="External"/><Relationship Id="rId6" Type="http://schemas.openxmlformats.org/officeDocument/2006/relationships/hyperlink" Target="http://as.hl.gov.tw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5079;&#26412;%20&#22283;&#20013;&#23567;&#21508;&#39006;&#27243;&#24335;&#34920;&#26684;_980225.xls" TargetMode="External"/><Relationship Id="rId3" Type="http://schemas.openxmlformats.org/officeDocument/2006/relationships/hyperlink" Target="http://as.hl.gov.tw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3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4" Type="http://schemas.openxmlformats.org/officeDocument/2006/relationships/hyperlink" Target="file:///&#24120;&#29992;&#27861;&#35215;/17.&#32291;(&#24066;)&#21934;&#20301;&#38928;&#31639;&#22519;&#34892;&#35201;&#40670;(971219&#20462;&#35330;)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經費報支注意事項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報告人：花蓮縣政府主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計處帳務科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趙麗慶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59D-E3C9-4B4D-A5E2-31275A7814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549360"/>
          <a:ext cx="8569080" cy="5229000"/>
        </p:xfrm>
        <a:graphic>
          <a:graphicData uri="http://schemas.openxmlformats.org/drawingml/2006/table">
            <a:tbl>
              <a:tblPr/>
              <a:tblGrid>
                <a:gridCol w="461880"/>
                <a:gridCol w="774720"/>
                <a:gridCol w="2282760"/>
                <a:gridCol w="1189080"/>
                <a:gridCol w="1082520"/>
                <a:gridCol w="1465560"/>
                <a:gridCol w="1312560"/>
              </a:tblGrid>
              <a:tr h="114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授課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助理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交通費、住宿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依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外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外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,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2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視實際需要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核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，高鐵、飛機、住宿費需檢據報支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計程車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除專案報准不得支給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內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專家學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6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教育部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補助及委辦計畫其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2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內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縣屬機關學校及縣轄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鄉鎮公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授課時間每節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其連續上課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者為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90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分鐘，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未滿者減半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課程表所列非實際授課之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綜合座談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開訓典禮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不得支給鐘點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26920" y="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經費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報支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2"/>
              </a:rPr>
              <a:t>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講座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3"/>
              </a:rPr>
              <a:t>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4DB-A713-427C-9B2A-815183070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經費報支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學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76280"/>
          <a:ext cx="8820000" cy="6162480"/>
        </p:xfrm>
        <a:graphic>
          <a:graphicData uri="http://schemas.openxmlformats.org/drawingml/2006/table">
            <a:tbl>
              <a:tblPr/>
              <a:tblGrid>
                <a:gridCol w="934920"/>
                <a:gridCol w="863640"/>
                <a:gridCol w="612720"/>
                <a:gridCol w="576360"/>
                <a:gridCol w="830160"/>
                <a:gridCol w="576360"/>
                <a:gridCol w="1081080"/>
                <a:gridCol w="787320"/>
                <a:gridCol w="2557440"/>
              </a:tblGrid>
              <a:tr h="337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中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小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行政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兼代課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一般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應授足本身每週最高基本節數，始得按實際超出節數發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援工作人員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鄉土語言、英語、藝術與人文等具業證照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攜手計畫課後扶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得依意願選擇支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同上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或不支領鐘點費；不支領鐘點費每人每月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材編輯費及每人每期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,0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活動費辦理表揚、聯誼或文康活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育優先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習輔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不支領鐘點費；支領教材編輯費暑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,5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、寒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75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小課後照顧服務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自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／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教育部補助比例未達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，調整為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委託機構代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代辦機構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B6A-51D8-4FA5-A9EB-D20158690D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申報人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真實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負責，會計人員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合法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審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黏貼憑證用紙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張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請加編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簿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統一發票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二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 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” 、三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扣抵聯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．機關統一編號”、二聯式收銀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統一編號”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商店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名、地址、營利事業統一編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如有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統一發票專用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」字樣只能開發票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個人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受領人簽章、戶籍地址、身份證字號，並依印花稅法黏貼印花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69E-88D9-4144-BD1A-22D7040323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應由領款人或代領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親自簽名或蓋章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。領款人或代領人有數人時，均應分別簽名或蓋章。以劃撥入帳方式撥付者，得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劃撥轉帳金融機構之簽收或證明文件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為之。 </a:t>
            </a:r>
            <a:endParaRPr b="0" lang="en-US" sz="20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每次扣繳金額超過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2,000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元以上者，應代扣所得稅。競技競賽機會中獎獎金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執行業務所得（稿費、演講鐘點費等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0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非固定薪資所得（如出席費、審查費、講授鐘點費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鐘點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課程表（日期、時間、講師、課程名稱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出席費、評審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開會通知單、出席簽到單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8EF-E5B9-4799-B722-EA6F6EF80A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國內出差旅費報告表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具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訓練、講習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性質之會議僅支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不得支領雜費（膳雜費其膳費及雜費各半） ，當天供應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餐以上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不得支領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搭乘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高鐵及飛機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需檢附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票根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且需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當天往返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單位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已提供用餐、接泊車及住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除因公務無法使用，否則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無論是否使用皆不得報支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(0940006759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號函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住宿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一律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檢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縣外出差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請檢附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奉核公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受訓課程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9EA-C6F8-4668-89AC-16C32AE2B5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證明單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據應由其受領人或其代領人親自簽名之。其因特殊情形，不能取得者，經手人應開具支出證明單（附格式一），書明不能取得原因，據以請款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受款人：支付廠商或貸款代墊人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手人：經辦人員或承辦人或申請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如有遺失或供其他用途者，應檢附原立據人簽名負責證明與原本相符之影本，或其他可資證明之文件，並註明無法提出原本之原因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80E-980F-4C14-A674-CA4EEE4AF9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結報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請參照「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編製花蓮縣地方教育發展基金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結報表統一作業流程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」填報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活動或事項辦理結束後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20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日內編製結報表，由學校業務承辦人填寫，會計人員協助查填傳票號碼及複核。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經費項目原則依核定經費概算表依序填寫，執行時如有細項，請於原核定項目下增列細項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依核定經費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概算表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填寫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核定數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實支數依實際執行情形填寫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傳票號碼 須填寫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年度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種類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號碼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例如（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年支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176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039-9FD4-45B9-BAD2-8ABE02294C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機關學校為其公教人員投保額外保險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公務人員因公傷殘死亡慰問金發給辦法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替代役男投保團體意外險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替代役實施條例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4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本職機關、委辦機關人員支領出席費、審查費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90.3.2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及處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字第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0940007761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號函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內部會議、訓練講習低於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人的室內公廳、說明會等購買紙杯、杯水或包裝飲用水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環保署推動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政府機關、學校紙杯減量方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」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A53-E8C1-4418-B332-D44E88C0EA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茶水費、雜支購置點心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花蓮縣政府預算執行節約措施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採購時未填請購單、僅附估價單、送貨單等或請購單未完整填寫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發票或收據缺買受人或日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未輸入學校統一編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60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僅有貨品代號，由經手人加註品名時，未簽章證明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1A7-AB1A-40A9-BFE7-5C34700D2C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三聯式發票，未同時檢附第二、三聯（扣抵聯及收據聯）報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8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廠商收據店章刻有「統一發票專用章」卻未使用統一發票。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買品項眾多時，以一式（批）書寫者，未檢附貨品明細清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1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財物時未做財產（物品）登記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2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8A7-5FF2-4FF6-AD6D-C4719D6F77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用法規、網站、表格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資門劃分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兼職費、講座鐘點費及教學鐘點費</a:t>
            </a:r>
            <a:r>
              <a:rPr b="0" lang="zh-TW" sz="3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原始憑證種類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教育基金經費結報表統一作業流程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見缺失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852-0F40-44BB-8A7C-0E3105B29F4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憑證黏貼用紙未完整核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以影印本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師鐘點費核銷時未檢附課程表、交通費未併入領款數額逕以票根核銷。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出差旅費報銷時未黏貼請示單、搭乘飛機未經批核、報支人未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標準及審核作業手冊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EE6-0704-4C6A-813A-7C2B361B1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特別費報支禮金時未檢附謝卡或支出證明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1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文康活動費未檢附相關計畫書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郵局出具之「購買票品證明單」未填註買受人（學校）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1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運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加班費未檢附請示單及簽到簿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729-2620-4665-B108-8AFB6E2561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班級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學分補助費未檢附收據及成績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年度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主計長信箱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62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印領清冊為支出憑證，未檢附存帳證明文件或由領款人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834-8398-487F-8515-CC5177D5CF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中央訂定基準寛於本府訂定一致性基準或內規，從嚴依本府規定辦理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單位預算執行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核撥結報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計畫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費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預算執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節約措施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共同性費用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8.4.1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支出標準及審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手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年版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p184~6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1A9-6D61-4268-8AE1-1CC85CB898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支出憑證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10.5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8. 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員工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公（出）差管制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4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9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國內出差旅費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1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0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國內出差旅費報支補充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規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6.2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派員參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各項訓練或講習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費用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0.8.28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學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出席費及稿費支給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9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B76-4E85-4B91-B510-8F607F5D1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3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軍公教人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兼職費及講座鐘點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給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地方教育基金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經費結報表統一作業流程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97.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6.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內部審核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準則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第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條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E20-9900-4B89-A923-3408396C8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網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處法規查詢網站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aw.dgbas.gov.tw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bas-association.org.tw/mail/content2.htm</a:t>
            </a: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花蓮縣政府主計處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as.hl.gov.tw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4E3-8565-4FB2-9FEF-D7A70927D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表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國中小</a:t>
            </a: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各類橫式表格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本府主計處網站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表格下載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帳務科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臨時人員薪資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習鐘點費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學鐘點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訓練講師交通住宿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費結報表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26A-DFE7-4A5E-B1D3-488B2EB2DC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資門劃分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耐用年限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以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且金額額超過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萬元之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儀器、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典藏用之圖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章雜誌等購置支出與其他機關購置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圖書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歲出經常門：凡不屬於資本支出之各類歲出均屬之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費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款其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經費，除經本部同意者外，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B4F-BF9B-4AAC-ADD0-514810690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兼職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職費支給以依組織法規或有關法令規定經權責主管機關核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職務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（含由主管院、省（市）政府或縣（市）政府依權責核定之其他機關學校任務編組職務）之人員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為限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各機關所屬單位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未具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編制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預算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依法設置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對外行文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等四項要件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為執行本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業務或執行共同業務而設在上級或他機關（構）學校之任務編組職務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任其他職務、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辦其他業務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B10-248C-4B64-A761-65A6E3634B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8:31:41Z</dcterms:modified>
  <cp:revision>147</cp:revision>
  <dc:subject/>
  <dc:title>歡迎！來自四面八方的伙伴！</dc:title>
</cp:coreProperties>
</file>