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351-DE92-4DD5-90DB-BBE5B360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54F-3D41-439B-A257-6DA14476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797-705F-4756-8BF8-E5FB5F3D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ABE-D5C3-4BB4-AD3E-066E7ADD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6D85-CB06-49FB-9939-833E761E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2FA-7E0D-4096-AB56-BB59282A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773F-3631-4928-994B-FFA02A23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848A-0FA8-466A-B5EF-66C83D0F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054D-5AF8-4F16-8123-EC42DA55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E988-95DD-4222-A55F-76D4803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3335-135B-446F-A34C-113E791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C91-8683-4846-A6A5-55E36D6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1DC3-DAF7-4261-AA11-DE26E76E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B910-4B0A-4E8A-AEC1-C4C6EA6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13AF-FB09-4F8B-8B08-ED921DA0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91E7-43B6-4B65-8809-B1C79FD9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13BF-727B-4C98-9DB5-F9897000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D93-95DC-4B81-99EA-BAC33CAE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B15-293B-40AD-B53C-9EA4C01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FA9-5082-4FAB-8B55-FA771CDC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162-EBA0-4EC6-AB68-397F007A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935-5534-4EDF-B0D7-143D927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DAC-1721-4E0D-A0CA-D131BBB9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E1D-3A09-4E6B-AC8E-4443871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7B91-5D15-4DA3-AD7A-AC664321B4F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18B4-CFFA-4EDF-AFDD-36C3E9628A6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2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3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3.doc" TargetMode="External"/><Relationship Id="rId2" Type="http://schemas.openxmlformats.org/officeDocument/2006/relationships/hyperlink" Target="file:///&#25903;&#20986;&#24977;&#35657;&#34389;&#29702;&#35201;&#40670;/&#25903;&#20986;&#24977;&#35657;&#34389;&#29702;&#40670;3.doc" TargetMode="External"/><Relationship Id="rId3" Type="http://schemas.openxmlformats.org/officeDocument/2006/relationships/hyperlink" Target="file:///&#35079;&#26412;%20&#22283;&#20013;&#23567;&#21508;&#39006;&#27243;&#24335;&#34920;&#26684;_980225.xls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2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3" Type="http://schemas.openxmlformats.org/officeDocument/2006/relationships/hyperlink" Target="file:///&#35299;&#37323;&#20989;0940006759&#20132;&#36890;&#36027;&#22577;&#25903;.doc" TargetMode="External"/><Relationship Id="rId4" Type="http://schemas.openxmlformats.org/officeDocument/2006/relationships/hyperlink" Target="file:///&#35299;&#37323;&#20989;0940006759&#20132;&#36890;&#36027;&#22577;&#25903;.doc" TargetMode="External"/><Relationship Id="rId5" Type="http://schemas.openxmlformats.org/officeDocument/2006/relationships/hyperlink" Target="file:///&#35299;&#37323;&#20989;0940006759&#20132;&#36890;&#36027;&#22577;&#25903;.doc" TargetMode="External"/><Relationship Id="rId6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7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8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2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20844;&#21209;&#20154;&#21729;&#22240;&#20844;&#20663;&#27544;&#27515;&#20129;&#24944;&#21839;&#37329;&#30332;&#32102;&#36774;&#27861;(97.6.27&#20462;&#27491;).doc" TargetMode="External"/><Relationship Id="rId2" Type="http://schemas.openxmlformats.org/officeDocument/2006/relationships/hyperlink" Target="file:///&#26367;&#20195;&#24441;&#23526;&#26045;&#26781;&#20363;(96.1.24&#20462;&#27491;).doc" TargetMode="External"/><Relationship Id="rId3" Type="http://schemas.openxmlformats.org/officeDocument/2006/relationships/hyperlink" Target="file:///&#26367;&#20195;&#24441;&#23526;&#26045;&#26781;&#20363;(96.1.24&#20462;&#27491;).doc" TargetMode="External"/><Relationship Id="rId4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5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6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7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8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9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10" Type="http://schemas.openxmlformats.org/officeDocument/2006/relationships/hyperlink" Target="file:///&#25512;&#21205;&#25919;&#24220;&#27231;&#38364;&#23416;&#26657;&#32025;&#26479;&#28187;&#37327;&#26041;&#26696;.pdf" TargetMode="Externa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2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3" Type="http://schemas.openxmlformats.org/officeDocument/2006/relationships/hyperlink" Target="file:///&#24120;&#29992;&#27861;&#35215;/16.&#20839;&#37096;&#23529;&#26680;&#34389;&#29702;&#28310;&#21063;&#31532;24&#26781;.doc" TargetMode="External"/><Relationship Id="rId4" Type="http://schemas.openxmlformats.org/officeDocument/2006/relationships/hyperlink" Target="file:///&#24120;&#29992;&#27861;&#35215;/16.&#20839;&#37096;&#23529;&#26680;&#34389;&#29702;&#28310;&#21063;&#31532;24&#26781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5.doc" TargetMode="External"/><Relationship Id="rId7" Type="http://schemas.openxmlformats.org/officeDocument/2006/relationships/hyperlink" Target="file:///&#25903;&#20986;&#24977;&#35657;&#34389;&#29702;&#35201;&#40670;/&#25903;&#20986;&#24977;&#35657;&#34389;&#29702;&#40670;6.doc" TargetMode="External"/><Relationship Id="rId8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9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10" Type="http://schemas.openxmlformats.org/officeDocument/2006/relationships/hyperlink" Target="file:///&#25903;&#20986;&#24977;&#35657;&#34389;&#29702;&#35201;&#40670;/&#25903;&#20986;&#24977;&#35657;&#34389;&#29702;&#40670;6.doc" TargetMode="External"/><Relationship Id="rId11" Type="http://schemas.openxmlformats.org/officeDocument/2006/relationships/hyperlink" Target="file:///&#25903;&#20986;&#24977;&#35657;&#34389;&#29702;&#35201;&#40670;/&#25903;&#20986;&#24977;&#35657;&#34389;&#29702;&#40670;6.doc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3" Type="http://schemas.openxmlformats.org/officeDocument/2006/relationships/hyperlink" Target="file:///&#25903;&#20986;&#24977;&#35657;&#34389;&#29702;&#35201;&#40670;/&#25903;&#20986;&#24977;&#35657;&#34389;&#29702;&#40670;6.doc" TargetMode="External"/><Relationship Id="rId4" Type="http://schemas.openxmlformats.org/officeDocument/2006/relationships/hyperlink" Target="file:///&#25903;&#20986;&#24977;&#35657;&#34389;&#29702;&#35201;&#40670;/&#25903;&#20986;&#24977;&#35657;&#34389;&#29702;&#40670;6.doc" TargetMode="External"/><Relationship Id="rId5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6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7" Type="http://schemas.openxmlformats.org/officeDocument/2006/relationships/hyperlink" Target="file:///&#24120;&#29992;&#27861;&#35215;/16.&#20839;&#37096;&#23529;&#26680;&#34389;&#29702;&#28310;&#21063;&#31532;24&#26781;.doc" TargetMode="External"/><Relationship Id="rId8" Type="http://schemas.openxmlformats.org/officeDocument/2006/relationships/hyperlink" Target="file:///&#24120;&#29992;&#27861;&#35215;/16.&#20839;&#37096;&#23529;&#26680;&#34389;&#29702;&#28310;&#21063;&#31532;24&#26781;.doc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9.doc" TargetMode="External"/><Relationship Id="rId2" Type="http://schemas.openxmlformats.org/officeDocument/2006/relationships/hyperlink" Target="file:///&#25903;&#20986;&#24977;&#35657;&#34389;&#29702;&#35201;&#40670;/&#25903;&#20986;&#24977;&#35657;&#34389;&#29702;&#40670;15.doc" TargetMode="External"/><Relationship Id="rId3" Type="http://schemas.openxmlformats.org/officeDocument/2006/relationships/hyperlink" Target="file:///&#25903;&#20986;&#24977;&#35657;&#34389;&#29702;&#35201;&#40670;/&#25903;&#20986;&#24977;&#35657;&#34389;&#29702;&#40670;7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2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13.doc" TargetMode="External"/><Relationship Id="rId7" Type="http://schemas.openxmlformats.org/officeDocument/2006/relationships/hyperlink" Target="file:///&#25903;&#20986;&#24977;&#35657;&#34389;&#29702;&#35201;&#40670;/&#25903;&#20986;&#24977;&#35657;&#34389;&#29702;&#40670;4.doc" TargetMode="External"/><Relationship Id="rId8" Type="http://schemas.openxmlformats.org/officeDocument/2006/relationships/hyperlink" Target="file:///&#25903;&#20986;&#24977;&#35657;&#34389;&#29702;&#35201;&#40670;/&#25903;&#20986;&#24977;&#35657;&#34389;&#29702;&#40670;4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4.doc" TargetMode="External"/><Relationship Id="rId2" Type="http://schemas.openxmlformats.org/officeDocument/2006/relationships/hyperlink" Target="file:///&#25903;&#20986;&#24977;&#35657;&#34389;&#29702;&#35201;&#40670;/&#25903;&#20986;&#24977;&#35657;&#34389;&#29702;&#40670;4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2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3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4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7.&#25903;&#20986;&#24977;&#35657;&#34389;&#29702;&#35201;&#40670;(931005&#20462;&#35330;).doc" TargetMode="External"/><Relationship Id="rId3" Type="http://schemas.openxmlformats.org/officeDocument/2006/relationships/hyperlink" Target="file:///&#24120;&#29992;&#27861;&#35215;/8.&#33457;&#34030;&#32291;&#25919;&#24220;&#21729;&#24037;&#20844;(&#20986;)&#24046;&#31649;&#21046;&#35201;&#40670;960430.doc" TargetMode="External"/><Relationship Id="rId4" Type="http://schemas.openxmlformats.org/officeDocument/2006/relationships/hyperlink" Target="file:///&#24120;&#29992;&#27861;&#35215;/9.&#22283;&#20839;&#20986;&#24046;&#26053;&#36027;&#22577;&#25903;&#35201;&#40670;0961400035_1.pdf" TargetMode="External"/><Relationship Id="rId5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6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7" Type="http://schemas.openxmlformats.org/officeDocument/2006/relationships/hyperlink" Target="file:///&#24120;&#29992;&#27861;&#35215;/12.&#21508;&#27231;&#38364;&#23416;&#26657;&#20986;&#24109;&#36027;&#21450;&#31295;&#36027;&#25903;&#32102;&#35201;&#40670;(930930&#20462;&#35330;).doc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3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4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5" Type="http://schemas.openxmlformats.org/officeDocument/2006/relationships/hyperlink" Target="file:///&#24120;&#29992;&#27861;&#35215;/16.&#20839;&#37096;&#23529;&#26680;&#34389;&#29702;&#28310;&#21063;&#31532;24&#26781;.doc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w.dgbas.gov.tw/" TargetMode="External"/><Relationship Id="rId3" Type="http://schemas.openxmlformats.org/officeDocument/2006/relationships/hyperlink" Target="http://law.dgbas.gov.tw/" TargetMode="External"/><Relationship Id="rId4" Type="http://schemas.openxmlformats.org/officeDocument/2006/relationships/hyperlink" Target="http://law.dgbas.gov.tw/" TargetMode="External"/><Relationship Id="rId5" Type="http://schemas.openxmlformats.org/officeDocument/2006/relationships/hyperlink" Target="http://www.bas-association.org.tw/mail/content2.htm" TargetMode="External"/><Relationship Id="rId6" Type="http://schemas.openxmlformats.org/officeDocument/2006/relationships/hyperlink" Target="http://as.hl.gov.tw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35079;&#26412;%20&#22283;&#20013;&#23567;&#21508;&#39006;&#27243;&#24335;&#34920;&#26684;_980225.xls" TargetMode="External"/><Relationship Id="rId3" Type="http://schemas.openxmlformats.org/officeDocument/2006/relationships/hyperlink" Target="http://as.hl.gov.tw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3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4" Type="http://schemas.openxmlformats.org/officeDocument/2006/relationships/hyperlink" Target="file:///&#24120;&#29992;&#27861;&#35215;/17.&#32291;(&#24066;)&#21934;&#20301;&#38928;&#31639;&#22519;&#34892;&#35201;&#40670;(971219&#20462;&#35330;)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經費報支注意事項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報告人：花蓮縣政府主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計處帳務科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趙麗慶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8F00-D2F1-4B59-97A6-74BD45A31D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549360"/>
          <a:ext cx="8569080" cy="5229000"/>
        </p:xfrm>
        <a:graphic>
          <a:graphicData uri="http://schemas.openxmlformats.org/drawingml/2006/table">
            <a:tbl>
              <a:tblPr/>
              <a:tblGrid>
                <a:gridCol w="461880"/>
                <a:gridCol w="774720"/>
                <a:gridCol w="2282760"/>
                <a:gridCol w="1189080"/>
                <a:gridCol w="1082520"/>
                <a:gridCol w="1465560"/>
                <a:gridCol w="1312560"/>
              </a:tblGrid>
              <a:tr h="1146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區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授課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助理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交通費、住宿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依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外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外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,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2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視實際需要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核實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，高鐵、飛機、住宿費需檢據報支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計程車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除專案報准不得支給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內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專家學者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6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教育部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補助及委辦計畫其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人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2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內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縣屬機關學校及縣轄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鄉鎮公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3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授課時間每節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其連續上課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者為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90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分鐘，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未滿者減半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。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課程表所列非實際授課之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綜合座談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及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開訓典禮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不得支給鐘點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26920" y="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1"/>
              </a:rPr>
              <a:t>經費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報支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2"/>
              </a:rPr>
              <a:t>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講座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3"/>
              </a:rPr>
              <a:t>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B2A-B0C5-4C9A-9749-1B6A0BC668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經費報支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教學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476280"/>
          <a:ext cx="8820000" cy="6162480"/>
        </p:xfrm>
        <a:graphic>
          <a:graphicData uri="http://schemas.openxmlformats.org/drawingml/2006/table">
            <a:tbl>
              <a:tblPr/>
              <a:tblGrid>
                <a:gridCol w="934920"/>
                <a:gridCol w="863640"/>
                <a:gridCol w="612720"/>
                <a:gridCol w="576360"/>
                <a:gridCol w="830160"/>
                <a:gridCol w="576360"/>
                <a:gridCol w="1081080"/>
                <a:gridCol w="787320"/>
                <a:gridCol w="2557440"/>
              </a:tblGrid>
              <a:tr h="337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項目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中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小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行政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兼代課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一般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應授足本身每週最高基本節數，始得按實際超出節數發給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援工作人員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鄉土語言、英語、藝術與人文等具業證照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攜手計畫課後扶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得依意願選擇支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同上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或不支領鐘點費；不支領鐘點費每人每月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材編輯費及每人每期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,0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活動費辦理表揚、聯誼或文康活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育優先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習輔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不支領鐘點費；支領教材編輯費暑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,5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、寒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75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小課後照顧服務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自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／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教育部補助比例未達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70%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，調整為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委託機構代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6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0%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代辦機構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5E4-9246-4E57-9C3C-8E1E4067C8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申報人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真實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負責，會計人員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合法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審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黏貼憑證用紙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張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請加編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簿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統一發票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二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 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” 、三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扣抵聯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．機關統一編號”、二聯式收銀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統一編號”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商店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名、地址、營利事業統一編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如有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統一發票專用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」字樣只能開發票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個人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受領人簽章、戶籍地址、身份證字號，並依印花稅法黏貼印花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0F7-E1AB-496B-8FE6-508AE69F6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應由領款人或代領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親自簽名或蓋章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。領款人或代領人有數人時，均應分別簽名或蓋章。以劃撥入帳方式撥付者，得以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劃撥轉帳金融機構之簽收或證明文件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為之。 </a:t>
            </a:r>
            <a:endParaRPr b="0" lang="en-US" sz="20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每次扣繳金額超過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2,000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元以上者，應代扣所得稅。競技競賽機會中獎獎金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5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執行業務所得（稿費、演講鐘點費等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0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非固定薪資所得（如出席費、審查費、講授鐘點費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鐘點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課程表（日期、時間、講師、課程名稱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出席費、評審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開會通知單、出席簽到單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12C-4F60-437B-B4B9-3C29292523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國內出差旅費報告表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具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訓練、講習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性質之會議僅支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不得支領雜費（膳雜費其膳費及雜費各半） ，當天供應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餐以上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不得支領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搭乘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高鐵及飛機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需檢附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票根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且需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當天往返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單位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已提供用餐、接泊車及住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除因公務無法使用，否則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無論是否使用皆不得報支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(0940006759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號函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住宿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一律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檢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縣外出差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請檢附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奉核公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受訓課程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967-3FA7-408E-9EF6-F8787AB300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證明單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據應由其受領人或其代領人親自簽名之。其因特殊情形，不能取得者，經手人應開具支出證明單（附格式一），書明不能取得原因，據以請款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受款人：支付廠商或貸款代墊人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手人：經辦人員或承辦人或申請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如有遺失或供其他用途者，應檢附原立據人簽名負責證明與原本相符之影本，或其他可資證明之文件，並註明無法提出原本之原因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566-16E3-4BB7-93FC-367322564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結報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請參照「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編製花蓮縣地方教育發展基金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結報表統一作業流程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」填報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活動或事項辦理結束後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20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日內編製結報表，由學校業務承辦人填寫，會計人員協助查填傳票號碼及複核。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經費項目原則依核定經費概算表依序填寫，執行時如有細項，請於原核定項目下增列細項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依核定經費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概算表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填寫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核定數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實支數依實際執行情形填寫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傳票號碼 須填寫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年度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種類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號碼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例如（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97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年支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176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657-BC81-4FFE-A5FA-D97D7C1189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機關學校為其公教人員投保額外保險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公務人員因公傷殘死亡慰問金發給辦法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替代役男投保團體意外險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替代役實施條例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4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本職機關、委辦機關人員支領出席費、審查費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90.3.2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及處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字第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0940007761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號函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內部會議、訓練講習低於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人的室內公廳、說明會等購買紙杯、杯水或包裝飲用水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環保署推動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政府機關、學校紙杯減量方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」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387-28AD-42C0-A50F-9CA7B06E4E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茶水費、雜支購置點心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花蓮縣政府預算執行節約措施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採購時未填請購單、僅附估價單、送貨單等或請購單未完整填寫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發票或收據缺買受人或日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未輸入學校統一編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60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僅有貨品代號，由經手人加註品名時，未簽章證明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C9B-8F0A-4792-8BB9-8ADACCA9BB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三聯式發票，未同時檢附第二、三聯（扣抵聯及收據聯）報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8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廠商收據店章刻有「統一發票專用章」卻未使用統一發票。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買品項眾多時，以一式（批）書寫者，未檢附貨品明細清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1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財物時未做財產（物品）登記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2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D5B-37CA-4E12-87F6-819C6FA458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用法規、網站、表格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資門劃分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兼職費、講座鐘點費及教學鐘點費</a:t>
            </a:r>
            <a:r>
              <a:rPr b="0" lang="zh-TW" sz="3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原始憑證種類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教育基金經費結報表統一作業流程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見缺失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641-6C36-4721-B376-DE6BC81CC06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905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憑證黏貼用紙未完整核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以影印本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師鐘點費核銷時未檢附課程表、交通費未併入領款數額逕以票根核銷。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出差旅費報銷時未黏貼請示單、搭乘飛機未經批核、報支人未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標準及審核作業手冊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35A-098E-4675-BFAB-3D82BA7FA0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特別費報支禮金時未檢附謝卡或支出證明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1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文康活動費未檢附相關計畫書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郵局出具之「購買票品證明單」未填註買受人（學校）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1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運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加班費未檢附請示單及簽到簿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6D7-E018-41CC-8424-BCE718B254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班級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學分補助費未檢附收據及成績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年度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主計長信箱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62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印領清冊為支出憑證，未檢附存帳證明文件或由領款人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0F3-7A12-4D7C-8234-8E618CEF4D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761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中央訂定基準寛於本府訂定一致性基準或內規，從嚴依本府規定辦理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單位預算執行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核撥結報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計畫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費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預算執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節約措施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共同性費用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8.4.1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支出標準及審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手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年版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p184~6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22F-1D2C-4E03-B094-ECB6F34C04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支出憑證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10.5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8. 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員工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公（出）差管制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4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9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國內出差旅費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1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0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國內出差旅費報支補充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規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6.2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1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派員參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各項訓練或講習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費用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0.8.28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2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學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出席費及稿費支給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9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9E0-CC3C-4DA6-ADEE-1BFBBD0E5C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3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軍公教人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兼職費及講座鐘點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給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4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5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地方教育基金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經費結報表統一作業流程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97.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6.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內部審核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準則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第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條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92A-C550-4BEA-86D3-56A6CBE9A7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網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處法規查詢網站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aw.dgbas.gov.tw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bas-association.org.tw/mail/content2.htm</a:t>
            </a: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花蓮縣政府主計處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as.hl.gov.tw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664-4A89-4079-B019-7A5F9A9D80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表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國中小</a:t>
            </a: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各類橫式表格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本府主計處網站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表格下載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帳務科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臨時人員薪資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習鐘點費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學鐘點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訓練講師交通住宿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費結報表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741-12A2-445A-A799-0E879617E5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資門劃分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耐用年限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年以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且金額額超過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萬元之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儀器、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典藏用之圖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章雜誌等購置支出與其他機關購置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圖書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歲出經常門：凡不屬於資本支出之各類歲出均屬之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費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款其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經費，除經本部同意者外，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DA3-ADF0-47DB-A8A8-61EA2763F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兼職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職費支給以依組織法規或有關法令規定經權責主管機關核准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他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職務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（含由主管院、省（市）政府或縣（市）政府依權責核定之其他機關學校任務編組職務）之人員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為限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各機關所屬單位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未具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編制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預算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依法設置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對外行文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等四項要件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為執行本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業務或執行共同業務而設在上級或他機關（構）學校之任務編組職務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任其他職務、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辦其他業務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FEB-A9AC-458D-BFDB-FCBD9538B1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8:31:41Z</dcterms:modified>
  <cp:revision>147</cp:revision>
  <dc:subject/>
  <dc:title>歡迎！來自四面八方的伙伴！</dc:title>
</cp:coreProperties>
</file>