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2DB7-DC7F-41A5-992C-9ECDF20BED1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4,562,379-715,000-90,000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千元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)/5,959,601=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4,562,379+60,000)/(5,959,601+60,000)=7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C9B-1B9E-4CF9-8D9E-5FFDCD87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68D3-8B5B-47AC-B047-F3B1D584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0C87-1105-4688-AF38-7579B11D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3334-363F-4631-B836-26EAEF12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D329-01F4-4583-9BF8-2F6E4447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BD1E-CF58-48EF-A72A-C62091A1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ED97-8F32-425C-B44A-8ED52328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C249-BBA4-4DCD-AEE4-C9DFBC7D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7D9E-807A-4B41-91A1-144D2025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2731-2BA2-4E79-918A-06418747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9D7B-B27D-45A2-AB62-B94B4F2A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F5AE-F35F-487E-B5D6-A777C9C0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17DE-8956-4249-89A1-6C511ED1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F06E-0952-4BEC-8D32-17288027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A88E-D3EF-479D-9CB2-DBC5770F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87B7-7991-406D-B137-4959567F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D172-334C-41C3-8883-FFD86301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6F32-51E8-4E59-9187-9AB0A302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E881-D30E-4E16-8BA9-C94F2233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2C07-1387-413E-92DE-84AC1AE9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F76F-D572-4EA0-A88E-D7A6A40E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5919-E335-475A-9BF1-8215651C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1D47-8D6C-4699-AB1C-261CE595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3A51-D426-44B6-BAB9-0D30A022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9051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9694-43D6-4982-B4D6-68BD08D4D209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50560" y="1413000"/>
            <a:ext cx="7391160" cy="318960"/>
            <a:chOff x="250560" y="1413000"/>
            <a:chExt cx="7391160" cy="318960"/>
          </a:xfrm>
        </p:grpSpPr>
        <p:sp>
          <p:nvSpPr>
            <p:cNvPr id="10" name=""/>
            <p:cNvSpPr/>
            <p:nvPr/>
          </p:nvSpPr>
          <p:spPr>
            <a:xfrm>
              <a:off x="631440" y="1413000"/>
              <a:ext cx="701028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50200" y="1413000"/>
              <a:ext cx="3934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2"/>
          <a:srcRect l="-2076" t="-4378" r="72137" b="-553"/>
          <a:stretch/>
        </p:blipFill>
        <p:spPr>
          <a:xfrm>
            <a:off x="250920" y="189000"/>
            <a:ext cx="93348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635280" y="5516640"/>
            <a:ext cx="4876920" cy="318960"/>
            <a:chOff x="3635280" y="551664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5280" y="551664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1920" y="551664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2FD9-606A-435C-BA54-EFC2DBBA79E4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27-9&#27506;&#20986;&#35498;&#26126;&#25552;&#35201;.pdf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27-9&#27506;&#20986;&#35498;&#26126;&#25552;&#35201;.pdf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13712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3366"/>
                </a:solidFill>
                <a:latin typeface="Arial"/>
              </a:rPr>
              <a:t>教育人事費設算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716360" y="3284640"/>
            <a:ext cx="388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簡</a:t>
            </a:r>
            <a:r>
              <a:rPr b="0" lang="zh-TW" sz="1400" spc="-1" strike="noStrike">
                <a:solidFill>
                  <a:srgbClr val="006666"/>
                </a:solidFill>
                <a:latin typeface="Arial"/>
              </a:rPr>
              <a:t>　</a:t>
            </a: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報</a:t>
            </a:r>
            <a:r>
              <a:rPr b="0" lang="zh-TW" sz="1400" spc="-1" strike="noStrike">
                <a:solidFill>
                  <a:srgbClr val="006666"/>
                </a:solidFill>
                <a:latin typeface="Arial"/>
              </a:rPr>
              <a:t>　</a:t>
            </a: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人：趙麗慶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-2076" t="-4378" r="72137" b="-553"/>
          <a:stretch/>
        </p:blipFill>
        <p:spPr>
          <a:xfrm>
            <a:off x="1042920" y="4221000"/>
            <a:ext cx="1808280" cy="19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1DE4-0761-4F86-A4C5-7488F44D1CB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建議與指教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3366"/>
                </a:solidFill>
                <a:latin typeface="Arial"/>
              </a:rPr>
              <a:t>敬請指教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16000" y="481644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627280" y="483408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140360" y="485136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651640" y="486900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164360" y="4797360"/>
            <a:ext cx="1019160" cy="7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CB7E-E213-4938-A87E-CCF8D89CE2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報告大鋼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前言</a:t>
            </a:r>
            <a:r>
              <a:rPr b="0" lang="zh-TW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明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學校員額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概算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調查表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預算彈性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210D-F6D7-4249-BA93-29ACF40E1A00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前言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係概估下一年度所需經費，而教育經費最大支出為人事費，約佔教育經費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成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（不包含退休撫卹及各項補助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成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） ，因此在財源有限下如何合理編列所需人事費概算，顯然非常重要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63CD-C1FC-4C0A-93F5-A766580E59E0}" type="slidenum">
              <a:t>3</a:t>
            </a:fld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明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教職員全年度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標楷體"/>
                <a:hlinkClick r:id="rId2"/>
              </a:rPr>
              <a:t>薪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代課鐘點費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-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每班每年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30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節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*(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國中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360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國小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26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工友全年度薪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行政職工友國內休假補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值日夜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政府負擔退撫費、勞退準備金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政府負擔保險費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-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公保、健保、勞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9693-7E65-4690-BA30-FCC752C79D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校員額（一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-97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年度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預算員額≠編制員額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（部分學校因為班級數減少，造成職員及工友超編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高中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.5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教官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CFF2-C706-42D5-9A08-A9DDA05103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校員額（二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-97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年度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國中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滿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班再增置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特教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體育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國小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.5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未達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班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5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生以上再增置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特教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體育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77FA-AAB4-4755-A9F4-778526F736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概算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平均薪資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× 14.5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全年保險費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全年離職儲金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當年度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估成長薪資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全年保險費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依照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設算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決定保險級距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全年離職儲金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依照設算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平均本俸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提撥比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CFD2-0FE3-4079-83C0-4F1B04F0F8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調查表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教育人事費調查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提供中央及本府設算下年度教育經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事費支用明細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提供檢視是否須辦理人事費追加減預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39B4-F1AC-4FF0-9D13-6C54AE9121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6167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預算彈性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由於學校員額眾多且學年度與曆年度不一致，以至人事費無法設算剛好，因此需透過預算彈性來因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科目流用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各計畫科目內之人事費，不得自其他用途別科目流入，如有賸餘亦不得流出。在同一計畫之</a:t>
            </a:r>
            <a:r>
              <a:rPr b="0" lang="zh-TW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分支計畫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其人事費可互相流用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追加（減）預算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將部分編列過多人事費學校追減後追加人事費不足學校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調整待遇準備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由地方教育發展基金預算編列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2,500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萬元統籌人事費來因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D2AE-2BB6-4EA4-9B66-061031C96E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8:17:56Z</dcterms:created>
  <dc:creator>Alex Lee</dc:creator>
  <dc:description/>
  <dc:language>en-US</dc:language>
  <cp:lastModifiedBy>liching</cp:lastModifiedBy>
  <dcterms:modified xsi:type="dcterms:W3CDTF">2009-04-19T06:09:39Z</dcterms:modified>
  <cp:revision>54</cp:revision>
  <dc:subject/>
  <dc:title>歡迎！來自四面八方的伙伴！</dc:title>
</cp:coreProperties>
</file>