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7CF6-97F2-457B-BA7A-645D13130D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D601-BC7D-4457-BE69-80F9210AE5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CA53-B067-4451-8354-55E6279D05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信任是特質也是能力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是先天也是後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信任產生力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願意傾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呈現真實自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請求協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激發潛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信任是心理契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期望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角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14AB-089C-45F7-8465-0C7088BD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1A9E-F5DC-4C95-AE05-54F6EF24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062A-AB60-45FC-8E9E-F2F4AEA4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31E-0D54-4C57-B5B6-9B150239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F9F4-9357-401A-886A-7437F3F3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C7F7-C41B-40FA-BDAB-2DFDC772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6211-8235-47C9-B67A-78AEC371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A3F8-3F09-420C-8CBF-F11973BF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AC91-B62D-4467-A145-EB10B0FD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2704-8124-46B3-AAF6-4C93E62B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CF71-1300-4F06-B8A7-1DDF106A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B525-98EE-449D-B6DE-1E887FF1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3984-7EDB-45C2-9A25-C0B9D96E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B154-B16C-4D1C-93DF-57C8551F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850F-67BE-4C80-8EEE-3AB26D9B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749E-C15E-4DC4-BB0F-ACD4ABC0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5BE4-CE55-4CD5-820A-C9662EB9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12E-1B09-4349-8514-AFB689A3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056-CEE9-482E-82A3-886CE9F9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5F8B-E40F-4FBC-9085-88238C84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2FC-4C51-458C-8E46-766BC01F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C2DB-39E6-4630-9AC4-E005AE15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AD36-EFD2-4969-A0ED-1CF44405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E990-EE07-4AB0-80A7-79DAAA0F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12007024z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F5CD-152F-4C65-9704-6F1F979381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BF26-26A9-484B-8F0C-982FE48755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../Local%2520Settings/Temporary%2520Internet%2520Files/Content.IE5/4PIBGTUB/&#25945;&#23560;&#25945;&#23416;&#35264;&#23519;&#35611;&#24107;&#22521;&#35347;&#35430;&#35611;/&#35430;&#35611;&#31532;&#22235;&#32068;/&#28415;&#20998;&#20316;&#25991;&#12300;&#36984;&#25799;&#12301;.pps" TargetMode="External"/><Relationship Id="rId3" Type="http://schemas.openxmlformats.org/officeDocument/2006/relationships/hyperlink" Target="../Local%20Settings/Temporary%20Internet%20Files/Content.IE5/4PIBGTUB/&#21555;&#24800;&#35998;/&#26519;&#32681;&#20625;.wmv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1142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花蓮縣偏遠鄉鎮地區國小口腔潔牙觀摩說明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花蓮市忠孝國小校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吳惠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>
            <a:hlinkClick r:id="rId2"/>
          </p:cNvPr>
          <p:cNvSpPr/>
          <p:nvPr/>
        </p:nvSpPr>
        <p:spPr>
          <a:xfrm>
            <a:off x="8567640" y="5734080"/>
            <a:ext cx="576360" cy="6825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82560"/>
              <a:gd name="textAreaBottom" fmla="*/ 645480 h 682560"/>
            </a:gdLst>
            <a:ahLst/>
            <a:rect l="textAreaLeft" t="textAreaTop" r="textAreaRight" b="textAreaBottom"/>
            <a:pathLst>
              <a:path w="21600" h="25578">
                <a:moveTo>
                  <a:pt x="0" y="0"/>
                </a:moveTo>
                <a:lnTo>
                  <a:pt x="21600" y="0"/>
                </a:lnTo>
                <a:lnTo>
                  <a:pt x="21600" y="25578"/>
                </a:lnTo>
                <a:lnTo>
                  <a:pt x="0" y="25578"/>
                </a:lnTo>
                <a:close/>
              </a:path>
              <a:path fill="lightenLess" w="21600" h="255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78">
                <a:moveTo>
                  <a:pt x="21600" y="0"/>
                </a:moveTo>
                <a:lnTo>
                  <a:pt x="21600" y="25578"/>
                </a:lnTo>
                <a:lnTo>
                  <a:pt x="20200" y="24178"/>
                </a:lnTo>
                <a:lnTo>
                  <a:pt x="20200" y="1400"/>
                </a:lnTo>
                <a:close/>
              </a:path>
              <a:path fill="darkenLess" w="21600" h="25578">
                <a:moveTo>
                  <a:pt x="21600" y="25578"/>
                </a:moveTo>
                <a:lnTo>
                  <a:pt x="0" y="25578"/>
                </a:lnTo>
                <a:lnTo>
                  <a:pt x="1400" y="24178"/>
                </a:lnTo>
                <a:lnTo>
                  <a:pt x="20200" y="24178"/>
                </a:lnTo>
                <a:close/>
              </a:path>
              <a:path fill="lighten" w="21600" h="25578">
                <a:moveTo>
                  <a:pt x="0" y="255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78"/>
                </a:lnTo>
                <a:close/>
              </a:path>
              <a:path fill="darkenLess" w="21600" h="25578">
                <a:moveTo>
                  <a:pt x="5273" y="5974"/>
                </a:moveTo>
                <a:lnTo>
                  <a:pt x="12271" y="5974"/>
                </a:lnTo>
                <a:lnTo>
                  <a:pt x="16327" y="9473"/>
                </a:lnTo>
                <a:lnTo>
                  <a:pt x="16327" y="19604"/>
                </a:lnTo>
                <a:lnTo>
                  <a:pt x="5273" y="19604"/>
                </a:lnTo>
                <a:close/>
              </a:path>
              <a:path fill="darken" w="21600" h="25578">
                <a:moveTo>
                  <a:pt x="12271" y="5974"/>
                </a:moveTo>
                <a:lnTo>
                  <a:pt x="16327" y="9473"/>
                </a:lnTo>
                <a:lnTo>
                  <a:pt x="12271" y="947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19640" y="378936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pren101l"/>
          <p:cNvPicPr/>
          <p:nvPr/>
        </p:nvPicPr>
        <p:blipFill>
          <a:blip r:embed="rId2"/>
          <a:stretch/>
        </p:blipFill>
        <p:spPr>
          <a:xfrm>
            <a:off x="1547640" y="0"/>
            <a:ext cx="59216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</a:rPr>
              <a:t>心    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是一種支持學校現存優勢能力，並擴展以前未曾探究與開發的能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4"/>
          <p:cNvSpPr/>
          <p:nvPr/>
        </p:nvSpPr>
        <p:spPr>
          <a:xfrm>
            <a:off x="2556000" y="1700280"/>
            <a:ext cx="3816360" cy="2665440"/>
          </a:xfrm>
          <a:custGeom>
            <a:avLst/>
            <a:gdLst>
              <a:gd name="textAreaLeft" fmla="*/ 954000 w 3816360"/>
              <a:gd name="textAreaRight" fmla="*/ 2862360 w 3816360"/>
              <a:gd name="textAreaTop" fmla="*/ 666360 h 2665440"/>
              <a:gd name="textAreaBottom" fmla="*/ 1999080 h 26654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771640" y="333360"/>
            <a:ext cx="3745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覺行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覺察需求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知能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516720" y="234936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慢行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慢慢來，先求有再求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492360" y="465300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樂行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專業是核心的正向思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0" y="2205000"/>
            <a:ext cx="24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同行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同路偕行、專業提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 rot="20087400">
            <a:off x="6877080" y="765000"/>
            <a:ext cx="790560" cy="1656000"/>
          </a:xfrm>
          <a:custGeom>
            <a:avLst/>
            <a:gdLst>
              <a:gd name="textAreaLeft" fmla="*/ 105840 w 790560"/>
              <a:gd name="textAreaRight" fmla="*/ 684720 w 790560"/>
              <a:gd name="textAreaTop" fmla="*/ 289800 h 1656000"/>
              <a:gd name="textAreaBottom" fmla="*/ 120060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3"/>
          <p:cNvSpPr/>
          <p:nvPr/>
        </p:nvSpPr>
        <p:spPr>
          <a:xfrm rot="2464200">
            <a:off x="6732360" y="4220640"/>
            <a:ext cx="649080" cy="1584360"/>
          </a:xfrm>
          <a:custGeom>
            <a:avLst/>
            <a:gdLst>
              <a:gd name="textAreaLeft" fmla="*/ 86760 w 649080"/>
              <a:gd name="textAreaRight" fmla="*/ 562320 w 6490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 rot="8579400">
            <a:off x="1230120" y="4051440"/>
            <a:ext cx="677520" cy="1814400"/>
          </a:xfrm>
          <a:custGeom>
            <a:avLst/>
            <a:gdLst>
              <a:gd name="textAreaLeft" fmla="*/ 90720 w 677520"/>
              <a:gd name="textAreaRight" fmla="*/ 586800 w 677520"/>
              <a:gd name="textAreaTop" fmla="*/ 317520 h 1814400"/>
              <a:gd name="textAreaBottom" fmla="*/ 1315440 h 18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051830"/>
                <a:lnTo>
                  <a:pt x="16035" y="19105"/>
                </a:lnTo>
                <a:lnTo>
                  <a:pt x="0" y="17280"/>
                </a:lnTo>
                <a:lnTo>
                  <a:pt x="16035" y="10465"/>
                </a:lnTo>
                <a:lnTo>
                  <a:pt x="16035" y="12625"/>
                </a:lnTo>
                <a:arcTo wR="21600" hR="7560" stAng="1051830" swAng="-69439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5"/>
          <p:cNvSpPr/>
          <p:nvPr/>
        </p:nvSpPr>
        <p:spPr>
          <a:xfrm rot="17349600">
            <a:off x="759960" y="760320"/>
            <a:ext cx="1658880" cy="804960"/>
          </a:xfrm>
          <a:custGeom>
            <a:avLst/>
            <a:gdLst>
              <a:gd name="textAreaLeft" fmla="*/ 290160 w 1658880"/>
              <a:gd name="textAreaRight" fmla="*/ 1202760 w 1658880"/>
              <a:gd name="textAreaTop" fmla="*/ 107640 h 804960"/>
              <a:gd name="textAreaBottom" fmla="*/ 697320 h 804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9647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Times New Roman"/>
              </a:rPr>
              <a:t>不要怕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生命長短無法掌握， 可以掌握的是生命的姿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要寬、要闊、要深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要廣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付出，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讓生命更寬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付出無求，讓生命更深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402920" y="1981080"/>
            <a:ext cx="705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</a:rPr>
              <a:t>感謝聆聽、敬請指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MCj04344750000[1]"/>
          <p:cNvPicPr/>
          <p:nvPr/>
        </p:nvPicPr>
        <p:blipFill>
          <a:blip r:embed="rId2"/>
          <a:stretch/>
        </p:blipFill>
        <p:spPr>
          <a:xfrm>
            <a:off x="250920" y="3357720"/>
            <a:ext cx="9144000" cy="229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</a:rPr>
              <a:t>護士的基本專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47640" y="1413000"/>
            <a:ext cx="59040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護理工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健康促進學校相關事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000000"/>
                </a:solidFill>
                <a:latin typeface="Times New Roman"/>
              </a:rPr>
              <a:t>對   待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0" spc="-1" strike="noStrike">
                <a:solidFill>
                  <a:srgbClr val="000000"/>
                </a:solidFill>
                <a:latin typeface="Times New Roman"/>
              </a:rPr>
              <a:t>「心」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716280"/>
            <a:ext cx="89647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經驗固然重要，卻需要不斷的累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9" descr="dglxasset[1]"/>
          <p:cNvPicPr/>
          <p:nvPr/>
        </p:nvPicPr>
        <p:blipFill>
          <a:blip r:embed="rId2"/>
          <a:stretch/>
        </p:blipFill>
        <p:spPr>
          <a:xfrm>
            <a:off x="250920" y="0"/>
            <a:ext cx="3967200" cy="344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成長的關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82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要被框架綁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要忘記目的在成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成長的方式是多元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更重要的是不要只有交差 的心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顆善良的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3290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助人的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熱情的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好我亦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0" spc="-1" strike="noStrike">
                <a:solidFill>
                  <a:srgbClr val="000000"/>
                </a:solidFill>
                <a:latin typeface="標楷體"/>
              </a:rPr>
              <a:t>信 任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c0c0c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標楷體"/>
              </a:rPr>
              <a:t>信  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57240" y="1628280"/>
            <a:ext cx="7500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是良性互動的基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是特質也是能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產生力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是一種心理契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受外在因素的影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與欺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2:02:29Z</dcterms:created>
  <dc:creator>user</dc:creator>
  <dc:description/>
  <dc:language>en-US</dc:language>
  <cp:lastModifiedBy>User</cp:lastModifiedBy>
  <dcterms:modified xsi:type="dcterms:W3CDTF">2011-10-04T09:24:57Z</dcterms:modified>
  <cp:revision>45</cp:revision>
  <dc:subject/>
  <dc:title>投影片 1</dc:title>
</cp:coreProperties>
</file>