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861-1A80-4C6B-8BE3-CAE2329DE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9F32-99CC-4237-9EAC-13E594628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2DA-E17E-4CDE-8DD9-34EC4D7AC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先天也是後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願意傾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呈現真實自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請求協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激發潛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心理契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期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角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2A0-2C11-48B5-8518-01A20BE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7DC-59CB-417E-8C2E-D6F625E2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8C4-02E1-4DE5-9BC6-B29DA733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310-9791-4256-A0BE-DEF0A21C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506-2787-41B1-87D5-6A76038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937-C312-420D-9450-AC81F249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816-C026-49C8-A751-119038F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82F-CCEE-42A8-A379-BD33B1F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C868-89C3-4BC5-8917-E6B7DB6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304-2EF9-4372-B0B7-6A4CEE74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B359-923F-4CD5-81CF-EA54DD4D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2F3-11B0-4F85-B158-87A91FA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EB1D-E4A2-4581-9EA3-97EAEF3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CEEF-9071-40D7-887E-F578B0CE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801-C131-4B50-9E75-E45D59F2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9F39-AC4D-46BF-AA52-0A02C823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66F5-0A87-4C03-8402-32FC385D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5BE-7771-45C8-B8EE-D10903D4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B7C-6320-471F-AC2B-6361796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21C-0ADD-4A52-834F-40937EDD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8B9-1932-4BC7-91CA-BBD9B9B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A26-D82C-4F53-B07A-E3955278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993-2A83-4D92-A1EF-984A19B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E94-E5EB-42F4-9A62-BF565C2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12007024z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4D44-5F9C-4E6E-8A6D-43758389F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6B71-A76A-4D1B-8106-A5377547A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520Settings/Temporary%2520Internet%2520Files/Content.IE5/4PIBGTUB/&#25945;&#23560;&#25945;&#23416;&#35264;&#23519;&#35611;&#24107;&#22521;&#35347;&#35430;&#35611;/&#35430;&#35611;&#31532;&#22235;&#32068;/&#28415;&#20998;&#20316;&#25991;&#12300;&#36984;&#25799;&#12301;.pps" TargetMode="External"/><Relationship Id="rId3" Type="http://schemas.openxmlformats.org/officeDocument/2006/relationships/hyperlink" Target="../Local%20Settings/Temporary%20Internet%20Files/Content.IE5/4PIBGTUB/&#21555;&#24800;&#35998;/&#26519;&#32681;&#20625;.wmv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4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縣偏遠鄉鎮地區國小口腔潔牙觀摩說明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市忠孝國小校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吳惠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2"/>
          </p:cNvPr>
          <p:cNvSpPr/>
          <p:nvPr/>
        </p:nvSpPr>
        <p:spPr>
          <a:xfrm>
            <a:off x="8567640" y="5734080"/>
            <a:ext cx="576360" cy="682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82560"/>
              <a:gd name="textAreaBottom" fmla="*/ 645480 h 682560"/>
            </a:gdLst>
            <a:ahLst/>
            <a:rect l="textAreaLeft" t="textAreaTop" r="textAreaRight" b="textAreaBottom"/>
            <a:pathLst>
              <a:path w="21600" h="25578">
                <a:moveTo>
                  <a:pt x="0" y="0"/>
                </a:moveTo>
                <a:lnTo>
                  <a:pt x="21600" y="0"/>
                </a:lnTo>
                <a:lnTo>
                  <a:pt x="21600" y="25578"/>
                </a:lnTo>
                <a:lnTo>
                  <a:pt x="0" y="25578"/>
                </a:lnTo>
                <a:close/>
              </a:path>
              <a:path fill="lightenLess" w="21600" h="25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8">
                <a:moveTo>
                  <a:pt x="21600" y="0"/>
                </a:moveTo>
                <a:lnTo>
                  <a:pt x="21600" y="25578"/>
                </a:lnTo>
                <a:lnTo>
                  <a:pt x="20200" y="24178"/>
                </a:lnTo>
                <a:lnTo>
                  <a:pt x="20200" y="1400"/>
                </a:lnTo>
                <a:close/>
              </a:path>
              <a:path fill="darkenLess" w="21600" h="25578">
                <a:moveTo>
                  <a:pt x="21600" y="25578"/>
                </a:moveTo>
                <a:lnTo>
                  <a:pt x="0" y="25578"/>
                </a:lnTo>
                <a:lnTo>
                  <a:pt x="1400" y="24178"/>
                </a:lnTo>
                <a:lnTo>
                  <a:pt x="20200" y="24178"/>
                </a:lnTo>
                <a:close/>
              </a:path>
              <a:path fill="lighten" w="21600" h="25578">
                <a:moveTo>
                  <a:pt x="0" y="25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8"/>
                </a:lnTo>
                <a:close/>
              </a:path>
              <a:path fill="darkenLess" w="21600" h="25578">
                <a:moveTo>
                  <a:pt x="5273" y="5974"/>
                </a:moveTo>
                <a:lnTo>
                  <a:pt x="12271" y="5974"/>
                </a:lnTo>
                <a:lnTo>
                  <a:pt x="16327" y="9473"/>
                </a:lnTo>
                <a:lnTo>
                  <a:pt x="16327" y="19604"/>
                </a:lnTo>
                <a:lnTo>
                  <a:pt x="5273" y="19604"/>
                </a:lnTo>
                <a:close/>
              </a:path>
              <a:path fill="darken" w="21600" h="25578">
                <a:moveTo>
                  <a:pt x="12271" y="5974"/>
                </a:moveTo>
                <a:lnTo>
                  <a:pt x="16327" y="9473"/>
                </a:lnTo>
                <a:lnTo>
                  <a:pt x="12271" y="947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19640" y="3789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ren101l"/>
          <p:cNvPicPr/>
          <p:nvPr/>
        </p:nvPicPr>
        <p:blipFill>
          <a:blip r:embed="rId2"/>
          <a:stretch/>
        </p:blipFill>
        <p:spPr>
          <a:xfrm>
            <a:off x="1547640" y="0"/>
            <a:ext cx="5921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心    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是一種支持學校現存優勢能力，並擴展以前未曾探究與開發的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4"/>
          <p:cNvSpPr/>
          <p:nvPr/>
        </p:nvSpPr>
        <p:spPr>
          <a:xfrm>
            <a:off x="2556000" y="1700280"/>
            <a:ext cx="3816360" cy="266544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66360 h 2665440"/>
              <a:gd name="textAreaBottom" fmla="*/ 199908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71640" y="333360"/>
            <a:ext cx="37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覺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覺察需求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知能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16720" y="2349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慢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慢慢來，先求有再求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92360" y="465300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業是核心的正向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2205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同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路偕行、專業提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87400">
            <a:off x="6877080" y="765000"/>
            <a:ext cx="790560" cy="1656000"/>
          </a:xfrm>
          <a:custGeom>
            <a:avLst/>
            <a:gdLst>
              <a:gd name="textAreaLeft" fmla="*/ 105840 w 790560"/>
              <a:gd name="textAreaRight" fmla="*/ 684720 w 79056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rot="2464200">
            <a:off x="6732360" y="4220640"/>
            <a:ext cx="649080" cy="1584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8579400">
            <a:off x="1230120" y="4051440"/>
            <a:ext cx="677520" cy="1814400"/>
          </a:xfrm>
          <a:custGeom>
            <a:avLst/>
            <a:gdLst>
              <a:gd name="textAreaLeft" fmla="*/ 90720 w 677520"/>
              <a:gd name="textAreaRight" fmla="*/ 586800 w 677520"/>
              <a:gd name="textAreaTop" fmla="*/ 317520 h 1814400"/>
              <a:gd name="textAreaBottom" fmla="*/ 13154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rot="17349600">
            <a:off x="759960" y="760320"/>
            <a:ext cx="1658880" cy="804960"/>
          </a:xfrm>
          <a:custGeom>
            <a:avLst/>
            <a:gdLst>
              <a:gd name="textAreaLeft" fmla="*/ 290160 w 1658880"/>
              <a:gd name="textAreaRight" fmla="*/ 1202760 w 1658880"/>
              <a:gd name="textAreaTop" fmla="*/ 107640 h 804960"/>
              <a:gd name="textAreaBottom" fmla="*/ 6973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不要怕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生命長短無法掌握， 可以掌握的是生命的姿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寬、要闊、要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付出，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讓生命更寬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付出無求，讓生命更深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感謝聆聽、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Cj04344750000[1]"/>
          <p:cNvPicPr/>
          <p:nvPr/>
        </p:nvPicPr>
        <p:blipFill>
          <a:blip r:embed="rId2"/>
          <a:stretch/>
        </p:blipFill>
        <p:spPr>
          <a:xfrm>
            <a:off x="250920" y="335772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護士的基本專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590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護理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健康促進學校相關事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Times New Roman"/>
              </a:rPr>
              <a:t>對   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Times New Roman"/>
              </a:rPr>
              <a:t>「心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經驗固然重要，卻需要不斷的累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dglxasset[1]"/>
          <p:cNvPicPr/>
          <p:nvPr/>
        </p:nvPicPr>
        <p:blipFill>
          <a:blip r:embed="rId2"/>
          <a:stretch/>
        </p:blipFill>
        <p:spPr>
          <a:xfrm>
            <a:off x="250920" y="0"/>
            <a:ext cx="3967200" cy="344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關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被框架綁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忘記目的在成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方式是多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更重要的是不要只有交差 的心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顆善良的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32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助人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熱情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好我亦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標楷體"/>
              </a:rPr>
              <a:t>信 任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</a:rPr>
              <a:t>信  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7240" y="1628280"/>
            <a:ext cx="750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良性互動的基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一種心理契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受外在因素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與欺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2:02:29Z</dcterms:created>
  <dc:creator>user</dc:creator>
  <dc:description/>
  <dc:language>en-US</dc:language>
  <cp:lastModifiedBy>User</cp:lastModifiedBy>
  <dcterms:modified xsi:type="dcterms:W3CDTF">2011-10-04T09:24:57Z</dcterms:modified>
  <cp:revision>45</cp:revision>
  <dc:subject/>
  <dc:title>投影片 1</dc:title>
</cp:coreProperties>
</file>