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52.jpeg" ContentType="image/jpeg"/>
  <Override PartName="/ppt/media/image51.jpeg" ContentType="image/jpeg"/>
  <Override PartName="/ppt/media/image27.jpeg" ContentType="image/jpeg"/>
  <Override PartName="/ppt/media/image50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1.png" ContentType="image/png"/>
  <Override PartName="/ppt/media/image66.jpeg" ContentType="image/jpeg"/>
  <Override PartName="/ppt/media/image19.jpeg" ContentType="image/jpeg"/>
  <Override PartName="/ppt/media/image15.jpeg" ContentType="image/jpeg"/>
  <Override PartName="/ppt/media/image29.gif" ContentType="image/gif"/>
  <Override PartName="/ppt/media/image5.jpeg" ContentType="image/jpeg"/>
  <Override PartName="/ppt/media/image61.png" ContentType="image/png"/>
  <Override PartName="/ppt/media/image20.jpeg" ContentType="image/jpeg"/>
  <Override PartName="/ppt/media/image68.jpeg" ContentType="image/jpeg"/>
  <Override PartName="/ppt/media/image69.png" ContentType="image/png"/>
  <Override PartName="/ppt/media/image67.jpeg" ContentType="image/jpeg"/>
  <Override PartName="/ppt/media/image18.jpeg" ContentType="image/jpeg"/>
  <Override PartName="/ppt/media/image17.jpeg" ContentType="image/jpeg"/>
  <Override PartName="/ppt/media/image65.jpeg" ContentType="image/jpeg"/>
  <Override PartName="/ppt/media/image2.gif" ContentType="image/gif"/>
  <Override PartName="/ppt/media/image39.jpeg" ContentType="image/jpeg"/>
  <Override PartName="/ppt/media/image45.gif" ContentType="image/gif"/>
  <Override PartName="/ppt/media/image12.png" ContentType="image/png"/>
  <Override PartName="/ppt/media/image8.png" ContentType="image/png"/>
  <Override PartName="/ppt/media/image23.jpeg" ContentType="image/jpeg"/>
  <Override PartName="/ppt/media/image49.jpeg" ContentType="image/jpeg"/>
  <Override PartName="/ppt/media/image1.gif" ContentType="image/gif"/>
  <Override PartName="/ppt/media/image16.png" ContentType="image/png"/>
  <Override PartName="/ppt/media/image64.jpeg" ContentType="image/jpeg"/>
  <Override PartName="/ppt/media/image38.jpeg" ContentType="image/jpeg"/>
  <Override PartName="/ppt/media/image21.jpeg" ContentType="image/jpeg"/>
  <Override PartName="/ppt/media/image62.gif" ContentType="image/gif"/>
  <Override PartName="/ppt/media/image35.jpeg" ContentType="image/jpeg"/>
  <Override PartName="/ppt/media/image6.jpeg" ContentType="image/jpeg"/>
  <Override PartName="/ppt/media/image28.gif" ContentType="image/gif"/>
  <Override PartName="/ppt/media/image42.jpeg" ContentType="image/jpeg"/>
  <Override PartName="/ppt/media/image5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10.png" ContentType="image/png"/>
  <Override PartName="/ppt/media/image36.jpeg" ContentType="image/jpeg"/>
  <Override PartName="/ppt/media/image43.jpeg" ContentType="image/jpeg"/>
  <Override PartName="/ppt/media/image44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AFFB-56C6-48CA-B4B5-A484C8E7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8DE5-2E06-4109-BB34-CD5D849C8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27D83-1998-4626-BD43-E6616216E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381F2-4205-4C77-BAAE-5A243E2E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EB03-E572-4B58-ACF7-901596513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336DC-3CD7-4EA8-9492-C0E6BB43D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1A1B-7E59-4E0D-832B-C4C4A1BC6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66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EF64-C305-4661-80D6-FB103B78E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B9D9-FAEB-420A-95DD-A8DC248D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6BA4-F9B4-461B-8CEF-C6A57309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E9C4-AAFC-4213-B5FE-2F0989E6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C467B-3D9D-4576-A8C5-FB012E6D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3D71A-848F-4E90-BC28-86E1BA7C6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B184-EBCE-46E8-A5EC-28DEEC5EF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B65C-CEA2-4CA8-831F-986DE902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B2E3B-617D-439B-9495-F9AB5E15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398A2-1C5F-46D1-A70F-0D0BE1A6B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4F96F-C2B4-46A5-B856-C3F53938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8104-2F11-4612-859C-F88C3C43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0B1A-9441-4E0F-A2CB-B0DC95DF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A64E-0F03-423A-AEBE-C569A64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A3C28-75C7-4364-8211-341B13C9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D10-A1E0-4D8C-B698-14CF9BD8B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04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0120" y="190512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8804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0120" y="405468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6ED6B-C440-428E-ACFF-8374ED54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074A-DFFA-4783-9222-BD14157CE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6FCD-9B63-4AE6-8100-3B1D6ED37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0FDB-EC73-4D16-92FB-04A4D8720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6091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692E-C5D5-4114-91D9-B089AFD2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7B61-8EF9-4369-9B2B-038C838B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6880" y="405468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BE62-C0B5-4EFD-AF52-169AC396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6880" y="190512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05468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8B6B-6D1B-471F-8E7F-E5386802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8A22-F89C-4C27-BD06-87484F3D7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B86C-1C04-4861-8EBB-CE6FA9950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8" Type="http://schemas.openxmlformats.org/officeDocument/2006/relationships/hyperlink" Target="http://tw.wrs.yahoo.com/;_ylt=AstCWaqXxdVGxy1Es4XKkmx21gt.;_ylu=X3oDMTA4NDgyNWN0BHNlYwNwcm9m/SIG=13c041tns/EXP=1128577307/**http%3A%2F%2Fivy.ingpim.com.tw%2Fohayo%2Fmedical%2Ftcms%2Fimages%2F&#32005;&#26839;1.jpg" TargetMode="External"/><Relationship Id="rId9" Type="http://schemas.openxmlformats.org/officeDocument/2006/relationships/image" Target="../media/image26.jpeg"/><Relationship Id="rId10" Type="http://schemas.openxmlformats.org/officeDocument/2006/relationships/hyperlink" Target="http://news.xinhuanet.com/food/2005-06/30/xinsrc_51206023013118333076129.jpg" TargetMode="External"/><Relationship Id="rId11" Type="http://schemas.openxmlformats.org/officeDocument/2006/relationships/image" Target="../media/image27.jpeg"/><Relationship Id="rId12" Type="http://schemas.openxmlformats.org/officeDocument/2006/relationships/image" Target="../media/image28.gi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28.gif"/><Relationship Id="rId1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image" Target="../media/image51.jpeg"/><Relationship Id="rId7" Type="http://schemas.openxmlformats.org/officeDocument/2006/relationships/hyperlink" Target="http://www.bj.chinanews.com.cn/news/2004/2005-03-04/1/_1109927762_3.jpg" TargetMode="External"/><Relationship Id="rId8" Type="http://schemas.openxmlformats.org/officeDocument/2006/relationships/image" Target="../media/image52.jpeg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tw.wrs.yahoo.com/;_ylt=ApLH51IwJNIgKkAaSaDD6t521gt.;_ylu=X3oDMTA4NDgyNWN0BHNlYwNwcm9m/SIG=13q3noj33/EXP=1131592020/**http%3A%2F%2Fwww.genting.com.my%2Fch%2Fleisure%2Fart_ent%2F2003%2Fmoremusic%2F5566%2Fimages%2F5566_2.jpg" TargetMode="External"/><Relationship Id="rId2" Type="http://schemas.openxmlformats.org/officeDocument/2006/relationships/image" Target="../media/image54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image" Target="../media/image59.jpeg"/><Relationship Id="rId6" Type="http://schemas.openxmlformats.org/officeDocument/2006/relationships/image" Target="../media/image60.jpeg"/><Relationship Id="rId7" Type="http://schemas.openxmlformats.org/officeDocument/2006/relationships/image" Target="../media/image61.png"/><Relationship Id="rId8" Type="http://schemas.openxmlformats.org/officeDocument/2006/relationships/image" Target="../media/image62.gif"/><Relationship Id="rId9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EFCF-355D-452B-816A-72BD40A35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WordArt 6"/>
          <p:cNvSpPr txBox="1"/>
          <p:nvPr/>
        </p:nvSpPr>
        <p:spPr>
          <a:xfrm>
            <a:off x="304920" y="2286000"/>
            <a:ext cx="8229600" cy="8380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文鼎海報體"/>
              </a:rPr>
              <a:t>慢性病防治與營養</a:t>
            </a:r>
            <a:endParaRPr b="0" i="1" lang="en-US" sz="1600" spc="1" strike="noStrike">
              <a:ln w="12600">
                <a:solidFill>
                  <a:srgbClr val="ffff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文鼎海報體"/>
              <a:ea typeface="文鼎海報體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2286000" y="4572000"/>
            <a:ext cx="480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廖建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前花蓮縣衛生局技正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90099"/>
                </a:solidFill>
                <a:latin typeface="Times New Roman"/>
                <a:ea typeface="華康布丁體 Std W7"/>
              </a:rPr>
              <a:t>洄瀾電視台健康百分百主持人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2D4A-7F88-4C70-96A7-8147A0BE9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743200" y="1905120"/>
            <a:ext cx="24382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醣類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蛋白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脂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維生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礦物質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838080" y="60948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7200" spc="-1" strike="noStrike">
                <a:solidFill>
                  <a:srgbClr val="000000"/>
                </a:solidFill>
                <a:latin typeface="Times New Roman"/>
                <a:ea typeface="標楷體"/>
              </a:rPr>
              <a:t>營養素</a:t>
            </a:r>
            <a:endParaRPr b="0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4F4D3-6B88-485E-ACEB-E49B60DCD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26560" y="475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Times New Roman"/>
              </a:rPr>
              <a:t>預防慢性病營養原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692000" y="1773000"/>
            <a:ext cx="661356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油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fa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膽固醇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cholesterol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低鹽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low salt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高纖維飲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(high fiber di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BD96-ADE9-401F-A445-AA37EC7FED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3817080" y="5184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怎麼吃最少油 ？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B2A1-D897-47A3-B6D4-080B866AE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1823760" y="18828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 </a:t>
            </a:r>
            <a:r>
              <a:rPr b="1" lang="zh-TW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降低脂肪的法寶 </a:t>
            </a:r>
            <a:r>
              <a:rPr b="1" lang="en-US" sz="3600" spc="-1" strike="noStrike">
                <a:solidFill>
                  <a:srgbClr val="000000"/>
                </a:solidFill>
                <a:latin typeface="標楷體"/>
                <a:ea typeface="標楷體"/>
              </a:rPr>
              <a:t>※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1"/>
          <a:stretch/>
        </p:blipFill>
        <p:spPr>
          <a:xfrm>
            <a:off x="838080" y="990720"/>
            <a:ext cx="7696440" cy="2361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2"/>
          <a:stretch/>
        </p:blipFill>
        <p:spPr>
          <a:xfrm>
            <a:off x="914400" y="3886200"/>
            <a:ext cx="7696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CBE7-C237-4B89-B7FE-AE7A7C33B9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3503520" y="475200"/>
            <a:ext cx="245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  <a:ea typeface="標楷體"/>
              </a:rPr>
              <a:t>選擇適合的烹調方式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1371600" y="1341360"/>
            <a:ext cx="6477120" cy="181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2"/>
          <a:stretch/>
        </p:blipFill>
        <p:spPr>
          <a:xfrm>
            <a:off x="1447920" y="3573360"/>
            <a:ext cx="647676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A17A-12FC-47A7-9AF1-E90DF6B98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WordArt 2"/>
          <p:cNvSpPr txBox="1"/>
          <p:nvPr/>
        </p:nvSpPr>
        <p:spPr>
          <a:xfrm>
            <a:off x="838080" y="914400"/>
            <a:ext cx="601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標楷體"/>
              </a:rPr>
              <a:t>膽固醇 血油異常</a:t>
            </a:r>
            <a:endParaRPr b="0" i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標楷體"/>
              <a:ea typeface="標楷體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2895480" y="2743200"/>
            <a:ext cx="5381640" cy="15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動脈粥狀硬化主要原因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cc0000"/>
                </a:solidFill>
                <a:latin typeface="Arial"/>
                <a:ea typeface="標楷體"/>
              </a:rPr>
              <a:t>易罹患冠狀動脈心臟病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06D-F0F7-4873-A3C3-C9C67AB47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過量反式脂肪酸"/>
          <p:cNvPicPr/>
          <p:nvPr/>
        </p:nvPicPr>
        <p:blipFill>
          <a:blip r:embed="rId1"/>
          <a:stretch/>
        </p:blipFill>
        <p:spPr>
          <a:xfrm>
            <a:off x="0" y="0"/>
            <a:ext cx="57546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305040" y="620640"/>
            <a:ext cx="1918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減少反式脂肪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207480" y="1484280"/>
            <a:ext cx="239976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食品業者以植物油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為原料透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『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氫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』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理產生之油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耐高溫、不易變質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存放更久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--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常吃此類食物易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升高壞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   </a:t>
            </a:r>
            <a:r>
              <a:rPr b="0" lang="zh-TW" sz="2800" spc="-1" strike="noStrike">
                <a:solidFill>
                  <a:srgbClr val="cc0000"/>
                </a:solidFill>
                <a:latin typeface="Times New Roman"/>
                <a:ea typeface="標楷體"/>
              </a:rPr>
              <a:t>降低好的膽固醇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6C41-FBFB-487F-AD57-3B0630D2D3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3049560" y="549360"/>
            <a:ext cx="30639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7545240" cy="4041720"/>
        </p:xfrm>
        <a:graphic>
          <a:graphicData uri="http://schemas.openxmlformats.org/drawingml/2006/table">
            <a:tbl>
              <a:tblPr/>
              <a:tblGrid>
                <a:gridCol w="3773520"/>
                <a:gridCol w="3771720"/>
              </a:tblGrid>
              <a:tr h="70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炒飯、炒麵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飯、糙米飯、壽司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煎豬排、炸豬排、梅干扣肉、炸獅子頭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豬排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粉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蒜泥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里肌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蔥爆牛肉、蠔油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烤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燉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牛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荷包蛋、炒蛋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蛋、蛋花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湯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03D8-1726-494B-9DD2-1389F8D471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1908000" y="549360"/>
            <a:ext cx="5886720" cy="8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838080" y="2565360"/>
          <a:ext cx="8001000" cy="2952720"/>
        </p:xfrm>
        <a:graphic>
          <a:graphicData uri="http://schemas.openxmlformats.org/drawingml/2006/table">
            <a:tbl>
              <a:tblPr/>
              <a:tblGrid>
                <a:gridCol w="4002120"/>
                <a:gridCol w="3998880"/>
              </a:tblGrid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食品名稱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3600" spc="-1" strike="noStrike">
                          <a:solidFill>
                            <a:srgbClr val="0e5815"/>
                          </a:solidFill>
                          <a:latin typeface="Times New Roman"/>
                          <a:ea typeface="標楷體"/>
                        </a:rPr>
                        <a:t>減脂範例</a:t>
                      </a:r>
                      <a:endParaRPr b="0" i="1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魚片、炸魚排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清蒸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紅燒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魚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臭豆腐、麻婆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湯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涼拌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豆腐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炸蔬菜、乾煸四季豆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泡菜、蔬菜捲、</a:t>
                      </a:r>
                      <a:r>
                        <a:rPr b="0" lang="zh-TW" sz="2800" spc="-1" strike="noStrike">
                          <a:solidFill>
                            <a:srgbClr val="cc0000"/>
                          </a:solidFill>
                          <a:latin typeface="Times New Roman"/>
                          <a:ea typeface="標楷體"/>
                        </a:rPr>
                        <a:t>滷</a:t>
                      </a: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白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0"/>
          <p:cNvSpPr/>
          <p:nvPr/>
        </p:nvSpPr>
        <p:spPr>
          <a:xfrm>
            <a:off x="2124000" y="549360"/>
            <a:ext cx="552600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減少膽固醇、三酸甘油酯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改變烹調方法試試看</a:t>
            </a:r>
            <a:r>
              <a:rPr b="1" lang="en-US" sz="3800" spc="-1" strike="noStrike">
                <a:solidFill>
                  <a:srgbClr val="990000"/>
                </a:solidFill>
                <a:latin typeface="Times New Roman"/>
                <a:ea typeface="標楷體"/>
              </a:rPr>
              <a:t>!</a:t>
            </a:r>
            <a:endParaRPr b="0" i="1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C01C-BBAE-4071-A46D-9205801D7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2"/>
          <p:cNvSpPr/>
          <p:nvPr/>
        </p:nvSpPr>
        <p:spPr>
          <a:xfrm>
            <a:off x="971640" y="2728800"/>
            <a:ext cx="76960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是什麼</a:t>
            </a:r>
            <a:r>
              <a:rPr b="1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？</a:t>
            </a:r>
            <a:br>
              <a:rPr sz="2800"/>
            </a:b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  </a:t>
            </a:r>
            <a:r>
              <a:rPr b="0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礦物質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一種，是人體調節生理機能不可或缺的元素。</a:t>
            </a:r>
            <a:r>
              <a:rPr b="1" i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攝取過多時，易罹患高血壓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攝取太少或缺乏時，會有疲勞、虛弱、倦怠的現象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   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鈉可以從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自然食物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加工食品</a:t>
            </a:r>
            <a:r>
              <a:rPr b="0" lang="zh-TW" sz="2400" spc="-1" strike="noStrike">
                <a:solidFill>
                  <a:srgbClr val="6600cc"/>
                </a:solidFill>
                <a:latin typeface="標楷體"/>
                <a:ea typeface="標楷體"/>
              </a:rPr>
              <a:t>、</a:t>
            </a:r>
            <a:r>
              <a:rPr b="1" lang="zh-TW" sz="2400" spc="-1" strike="noStrike" u="sng">
                <a:solidFill>
                  <a:srgbClr val="6600cc"/>
                </a:solidFill>
                <a:uFillTx/>
                <a:latin typeface="標楷體"/>
                <a:ea typeface="標楷體"/>
              </a:rPr>
              <a:t>調味品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或某些藥物中獲得，而其最主要來源是</a:t>
            </a:r>
            <a:r>
              <a:rPr b="1" lang="zh-TW" sz="24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食鹽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，食鹽中約含有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標楷體"/>
              </a:rPr>
              <a:t>40%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的鈉，即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一公克食鹽中含有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Comic Sans MS"/>
                <a:ea typeface="標楷體"/>
              </a:rPr>
              <a:t>400</a:t>
            </a:r>
            <a:r>
              <a:rPr b="1" lang="zh-TW" sz="2400" spc="-1" strike="noStrike" u="sng">
                <a:solidFill>
                  <a:srgbClr val="0000cc"/>
                </a:solidFill>
                <a:uFillTx/>
                <a:latin typeface="標楷體"/>
                <a:ea typeface="標楷體"/>
              </a:rPr>
              <a:t>毫克的鈉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66ff"/>
                </a:solidFill>
                <a:latin typeface="標楷體"/>
                <a:ea typeface="標楷體"/>
              </a:rPr>
              <a:t>   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3348000" y="11970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6600cc"/>
                </a:solidFill>
                <a:latin typeface="Times New Roman"/>
                <a:ea typeface="標楷體"/>
              </a:rPr>
              <a:t>低鹽飲食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121C-BC2A-48A4-82F9-CDFD1CFBD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941400" y="15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990099"/>
                </a:solidFill>
                <a:latin typeface="Times New Roman"/>
              </a:rPr>
              <a:t>健康的挑戰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752480" y="1295280"/>
            <a:ext cx="457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333cc"/>
                </a:solidFill>
                <a:latin typeface="Times New Roman"/>
              </a:rPr>
              <a:t>近年追求健康的成果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心臟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糖尿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肥胖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腎結石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自體免疫病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3300"/>
                </a:solidFill>
                <a:latin typeface="Times New Roman"/>
                <a:ea typeface="新細明體"/>
              </a:rPr>
              <a:t>文明病暴增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8"/>
          <p:cNvSpPr/>
          <p:nvPr/>
        </p:nvSpPr>
        <p:spPr>
          <a:xfrm>
            <a:off x="4724280" y="1981080"/>
            <a:ext cx="231840" cy="3700440"/>
          </a:xfrm>
          <a:custGeom>
            <a:avLst/>
            <a:gdLst>
              <a:gd name="textAreaLeft" fmla="*/ 0 w 231840"/>
              <a:gd name="textAreaRight" fmla="*/ 83520 w 231840"/>
              <a:gd name="textAreaTop" fmla="*/ 96480 h 3700440"/>
              <a:gd name="textAreaBottom" fmla="*/ 3603960 h 370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9"/>
          <p:cNvSpPr/>
          <p:nvPr/>
        </p:nvSpPr>
        <p:spPr>
          <a:xfrm rot="16200000">
            <a:off x="5076720" y="3533760"/>
            <a:ext cx="550800" cy="493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6019920" y="2209680"/>
            <a:ext cx="609480" cy="33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00cc"/>
                </a:solidFill>
                <a:latin typeface="Times New Roman"/>
                <a:ea typeface="華康布丁體 Std W7"/>
              </a:rPr>
              <a:t>健康成為口號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8326-8C49-4545-BA77-F508F0A038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鈉過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63272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流行病學研究支持鈉與高血壓發生之相關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其他研究顯示，鹽分攝取會影響高血壓性腎臟疾病和腦血管疾病，尤其是對鹽敏感的人。因為目前無法立即確定對鹽的敏感性，且美國人之鹽分攝取，已大大的超過身體所需，建議其鹽分攝取應降低至每天不超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標楷體"/>
              </a:rPr>
              <a:t>克以預防高血壓。故應儘可能減少烹調用鹽及用餐時額外加鹽，並避免高鹽分、加工產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0A82-D903-4C92-96BB-88F1161067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2467080" y="33336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 u="sng">
                <a:solidFill>
                  <a:srgbClr val="990033"/>
                </a:solidFill>
                <a:uFillTx/>
                <a:latin typeface="Arial"/>
                <a:ea typeface="標楷體"/>
              </a:rPr>
              <a:t>空腹血糖高常見的生活飲食習慣</a:t>
            </a:r>
            <a:endParaRPr b="0" i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3237480" y="1268280"/>
            <a:ext cx="210996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1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飯</a:t>
            </a:r>
            <a:r>
              <a:rPr b="0" lang="zh-TW" sz="18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麵吃過量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2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喜歡喝飲料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3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水果吃到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4.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  <a:ea typeface="標楷體"/>
              </a:rPr>
              <a:t>完全不運動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55640" y="4292640"/>
          <a:ext cx="7921800" cy="1650960"/>
        </p:xfrm>
        <a:graphic>
          <a:graphicData uri="http://schemas.openxmlformats.org/drawingml/2006/table">
            <a:tbl>
              <a:tblPr/>
              <a:tblGrid>
                <a:gridCol w="3960720"/>
                <a:gridCol w="3961080"/>
              </a:tblGrid>
              <a:tr h="61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990033"/>
                          </a:solidFill>
                          <a:latin typeface="標楷體"/>
                          <a:ea typeface="標楷體"/>
                        </a:rPr>
                        <a:t>甜度高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6600"/>
                          </a:solidFill>
                          <a:latin typeface="標楷體"/>
                          <a:ea typeface="標楷體"/>
                        </a:rPr>
                        <a:t>甜度低的水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榴槤 釋迦 龍眼 荔枝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甘蔗 芒果 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蘋果 蕃茄 水梨 奇異果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8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芭樂 西瓜 香蕉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0" name="Picture 15" descr="汽水"/>
          <p:cNvPicPr/>
          <p:nvPr/>
        </p:nvPicPr>
        <p:blipFill>
          <a:blip r:embed="rId1"/>
          <a:stretch/>
        </p:blipFill>
        <p:spPr>
          <a:xfrm>
            <a:off x="1116000" y="270828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C030"/>
          <p:cNvPicPr/>
          <p:nvPr/>
        </p:nvPicPr>
        <p:blipFill>
          <a:blip r:embed="rId2"/>
          <a:stretch/>
        </p:blipFill>
        <p:spPr>
          <a:xfrm>
            <a:off x="6012000" y="1557360"/>
            <a:ext cx="1296720" cy="1044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F016"/>
          <p:cNvPicPr/>
          <p:nvPr/>
        </p:nvPicPr>
        <p:blipFill>
          <a:blip r:embed="rId3"/>
          <a:stretch/>
        </p:blipFill>
        <p:spPr>
          <a:xfrm>
            <a:off x="6588000" y="2708280"/>
            <a:ext cx="1656000" cy="121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DF18-4A47-4C7A-B602-328F17DE5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份量要如何換算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04760"/>
            <a:ext cx="5504040" cy="37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生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公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大約是生的菜一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煮熟的菜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水果類一份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約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~4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600" spc="-1" strike="noStrike">
                <a:solidFill>
                  <a:srgbClr val="000099"/>
                </a:solidFill>
                <a:latin typeface="Times New Roman"/>
              </a:rPr>
              <a:t>切好後大約是半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80988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5" descr="167462369"/>
          <p:cNvPicPr/>
          <p:nvPr/>
        </p:nvPicPr>
        <p:blipFill>
          <a:blip r:embed="rId1"/>
          <a:srcRect l="7938" t="5619" r="8041" b="0"/>
          <a:stretch/>
        </p:blipFill>
        <p:spPr>
          <a:xfrm>
            <a:off x="5943600" y="2209680"/>
            <a:ext cx="2247840" cy="16542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467512765"/>
          <p:cNvPicPr/>
          <p:nvPr/>
        </p:nvPicPr>
        <p:blipFill>
          <a:blip r:embed="rId2"/>
          <a:stretch/>
        </p:blipFill>
        <p:spPr>
          <a:xfrm>
            <a:off x="5867280" y="4419720"/>
            <a:ext cx="24386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9268-5272-46E6-9BE4-076A323E4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753732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女生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每人每天要攝取</a:t>
            </a:r>
            <a:r>
              <a:rPr b="1" lang="en-US" sz="3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TW" sz="3400" spc="-1" strike="noStrike">
                <a:solidFill>
                  <a:srgbClr val="ff0000"/>
                </a:solidFill>
                <a:latin typeface="Times New Roman"/>
              </a:rPr>
              <a:t>份</a:t>
            </a:r>
            <a:r>
              <a:rPr b="1" lang="zh-TW" sz="3400" spc="-1" strike="noStrike">
                <a:solidFill>
                  <a:srgbClr val="000000"/>
                </a:solidFill>
                <a:latin typeface="Times New Roman"/>
              </a:rPr>
              <a:t>蔬菜和水果  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份蔬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  <a:ea typeface="Arial"/>
              </a:rPr>
              <a:t>份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份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4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個半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蔬菜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3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(1.5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  <a:ea typeface="Arial"/>
              </a:rPr>
              <a:t>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1.5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碗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167462369"/>
          <p:cNvPicPr/>
          <p:nvPr/>
        </p:nvPicPr>
        <p:blipFill>
          <a:blip r:embed="rId1"/>
          <a:stretch/>
        </p:blipFill>
        <p:spPr>
          <a:xfrm>
            <a:off x="1042920" y="5300640"/>
            <a:ext cx="1268640" cy="10209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167462369"/>
          <p:cNvPicPr/>
          <p:nvPr/>
        </p:nvPicPr>
        <p:blipFill>
          <a:blip r:embed="rId2"/>
          <a:stretch/>
        </p:blipFill>
        <p:spPr>
          <a:xfrm>
            <a:off x="2627280" y="5300640"/>
            <a:ext cx="1163520" cy="1062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467512765"/>
          <p:cNvPicPr/>
          <p:nvPr/>
        </p:nvPicPr>
        <p:blipFill>
          <a:blip r:embed="rId3"/>
          <a:stretch/>
        </p:blipFill>
        <p:spPr>
          <a:xfrm>
            <a:off x="5003640" y="5300640"/>
            <a:ext cx="1440000" cy="108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467512765"/>
          <p:cNvPicPr/>
          <p:nvPr/>
        </p:nvPicPr>
        <p:blipFill>
          <a:blip r:embed="rId4"/>
          <a:stretch/>
        </p:blipFill>
        <p:spPr>
          <a:xfrm>
            <a:off x="6732720" y="5300640"/>
            <a:ext cx="1245960" cy="110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4B4A-8F8C-4F6D-BBA0-8F222BBE0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9 </a:t>
            </a: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要怎麼吃</a:t>
            </a:r>
            <a:r>
              <a:rPr b="0" lang="en-US" sz="4800" spc="-1" strike="noStrike">
                <a:solidFill>
                  <a:srgbClr val="008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9640" y="1413000"/>
            <a:ext cx="8136000" cy="39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男生每人每天要攝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TW" sz="3600" spc="-1" strike="noStrike">
                <a:solidFill>
                  <a:srgbClr val="ff0000"/>
                </a:solidFill>
                <a:latin typeface="Arial"/>
              </a:rPr>
              <a:t>份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和水果</a:t>
            </a:r>
            <a:r>
              <a:rPr b="1" lang="zh-TW" sz="3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i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份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  <a:ea typeface="Arial"/>
              </a:rPr>
              <a:t>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份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5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個半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</a:rPr>
              <a:t>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(2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TW" sz="3600" spc="-1" strike="noStrike">
                <a:solidFill>
                  <a:srgbClr val="000000"/>
                </a:solidFill>
                <a:latin typeface="Arial"/>
                <a:ea typeface="Arial"/>
              </a:rPr>
              <a:t>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.5</a:t>
            </a:r>
            <a:r>
              <a:rPr b="1" lang="zh-TW" sz="3600" spc="-1" strike="noStrike">
                <a:solidFill>
                  <a:srgbClr val="000099"/>
                </a:solidFill>
                <a:latin typeface="Arial"/>
              </a:rPr>
              <a:t>碗蔬菜</a:t>
            </a:r>
            <a:r>
              <a:rPr b="1" lang="zh-TW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008000"/>
                </a:solidFill>
                <a:latin typeface="Arial"/>
              </a:rPr>
              <a:t>2</a:t>
            </a:r>
            <a:r>
              <a:rPr b="1" lang="zh-TW" sz="3600" spc="-1" strike="noStrike">
                <a:solidFill>
                  <a:srgbClr val="008000"/>
                </a:solidFill>
                <a:latin typeface="Arial"/>
              </a:rPr>
              <a:t>碗切好水果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4" descr="167462369"/>
          <p:cNvPicPr/>
          <p:nvPr/>
        </p:nvPicPr>
        <p:blipFill>
          <a:blip r:embed="rId1"/>
          <a:stretch/>
        </p:blipFill>
        <p:spPr>
          <a:xfrm>
            <a:off x="2286000" y="533412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67462369"/>
          <p:cNvPicPr/>
          <p:nvPr/>
        </p:nvPicPr>
        <p:blipFill>
          <a:blip r:embed="rId2"/>
          <a:stretch/>
        </p:blipFill>
        <p:spPr>
          <a:xfrm>
            <a:off x="4267080" y="5334120"/>
            <a:ext cx="144792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C104-E061-4F2C-9DC0-2716F5108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351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611280" y="1628640"/>
            <a:ext cx="7696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除了力行蔬果天天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5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7 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1" lang="zh-TW" sz="2800" spc="-1" strike="noStrike">
                <a:solidFill>
                  <a:srgbClr val="cc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9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外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更需注意多攝取</a:t>
            </a:r>
            <a:r>
              <a:rPr b="1" lang="zh-TW" sz="3200" spc="-1" strike="noStrike">
                <a:solidFill>
                  <a:srgbClr val="ff0000"/>
                </a:solidFill>
                <a:latin typeface="Arial Narrow"/>
              </a:rPr>
              <a:t>各種顏色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的蔬菜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因為各種顏色的蔬果中富含了各種可以預防疾病的維他命及礦物質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蔬果的顏色大致可分為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紅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橙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黃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綠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藍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紫</a:t>
            </a:r>
            <a:r>
              <a:rPr b="1" lang="zh-TW" sz="2800" spc="-1" strike="noStrike">
                <a:solidFill>
                  <a:srgbClr val="000099"/>
                </a:solidFill>
                <a:latin typeface="Arial Narrow"/>
              </a:rPr>
              <a:t>、</a:t>
            </a:r>
            <a:r>
              <a:rPr b="1" lang="zh-TW" sz="3200" spc="-1" strike="noStrike">
                <a:solidFill>
                  <a:srgbClr val="000099"/>
                </a:solidFill>
                <a:latin typeface="Arial Narrow"/>
              </a:rPr>
              <a:t>白等七種顏色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好像雨後的彩虹一樣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如果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我們每天能夠均衡攝取到這七種顏色的蔬菜和水果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就可以維持身體健康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，</a:t>
            </a:r>
            <a:r>
              <a:rPr b="1" lang="zh-TW" sz="3200" spc="-1" strike="noStrike">
                <a:solidFill>
                  <a:srgbClr val="000000"/>
                </a:solidFill>
                <a:latin typeface="Arial Narrow"/>
              </a:rPr>
              <a:t>這個攝食原理叫做</a:t>
            </a:r>
            <a:r>
              <a:rPr b="1" lang="zh-TW" sz="3200" spc="-1" strike="noStrike">
                <a:solidFill>
                  <a:srgbClr val="ff3300"/>
                </a:solidFill>
                <a:latin typeface="Arial Narrow"/>
              </a:rPr>
              <a:t>蔬果的彩虹攝食原則</a:t>
            </a:r>
            <a:r>
              <a:rPr b="1" lang="zh-TW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5" descr="845610366"/>
          <p:cNvPicPr/>
          <p:nvPr/>
        </p:nvPicPr>
        <p:blipFill>
          <a:blip r:embed="rId1"/>
          <a:stretch/>
        </p:blipFill>
        <p:spPr>
          <a:xfrm>
            <a:off x="6781680" y="228600"/>
            <a:ext cx="2183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E651-3923-459C-BDD7-3F2609063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1920" y="1066680"/>
            <a:ext cx="85345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蘋果、樱桃、西瓜、蕃茄、草莓、紅棗、枸杞</a:t>
            </a:r>
            <a:r>
              <a:rPr b="0" lang="zh-TW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875030428"/>
          <p:cNvPicPr/>
          <p:nvPr/>
        </p:nvPicPr>
        <p:blipFill>
          <a:blip r:embed="rId1"/>
          <a:stretch/>
        </p:blipFill>
        <p:spPr>
          <a:xfrm>
            <a:off x="1065240" y="2489040"/>
            <a:ext cx="1636560" cy="1600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1143895282"/>
          <p:cNvPicPr/>
          <p:nvPr/>
        </p:nvPicPr>
        <p:blipFill>
          <a:blip r:embed="rId2"/>
          <a:stretch/>
        </p:blipFill>
        <p:spPr>
          <a:xfrm>
            <a:off x="2924280" y="2558880"/>
            <a:ext cx="1616040" cy="16783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西瓜"/>
          <p:cNvPicPr/>
          <p:nvPr/>
        </p:nvPicPr>
        <p:blipFill>
          <a:blip r:embed="rId3"/>
          <a:stretch/>
        </p:blipFill>
        <p:spPr>
          <a:xfrm>
            <a:off x="611280" y="5013360"/>
            <a:ext cx="1981080" cy="1440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1293596610"/>
          <p:cNvPicPr/>
          <p:nvPr/>
        </p:nvPicPr>
        <p:blipFill>
          <a:blip r:embed="rId4"/>
          <a:stretch/>
        </p:blipFill>
        <p:spPr>
          <a:xfrm>
            <a:off x="4859280" y="2637000"/>
            <a:ext cx="2089080" cy="1600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8" descr="草莓2"/>
          <p:cNvPicPr/>
          <p:nvPr/>
        </p:nvPicPr>
        <p:blipFill>
          <a:blip r:embed="rId5"/>
          <a:stretch/>
        </p:blipFill>
        <p:spPr>
          <a:xfrm>
            <a:off x="2987640" y="5084640"/>
            <a:ext cx="1652760" cy="12528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093"/>
          <p:cNvPicPr/>
          <p:nvPr/>
        </p:nvPicPr>
        <p:blipFill>
          <a:blip r:embed="rId6"/>
          <a:stretch/>
        </p:blipFill>
        <p:spPr>
          <a:xfrm>
            <a:off x="7164360" y="2708280"/>
            <a:ext cx="1752480" cy="144792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11">
            <a:hlinkClick r:id="rId7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0" y="263376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13">
            <a:hlinkClick r:id="rId8"/>
          </p:cNvPr>
          <p:cNvSpPr/>
          <p:nvPr/>
        </p:nvSpPr>
        <p:spPr>
          <a:xfrm>
            <a:off x="3610080" y="2435400"/>
            <a:ext cx="194292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4" descr="2004611102133123"/>
          <p:cNvPicPr/>
          <p:nvPr/>
        </p:nvPicPr>
        <p:blipFill>
          <a:blip r:embed="rId9"/>
          <a:stretch/>
        </p:blipFill>
        <p:spPr>
          <a:xfrm>
            <a:off x="5076720" y="4869000"/>
            <a:ext cx="2057400" cy="14475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5" descr="xinsrc_51206023013118333076129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7236000" y="4869000"/>
            <a:ext cx="1676160" cy="1447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6" descr="03"/>
          <p:cNvPicPr/>
          <p:nvPr/>
        </p:nvPicPr>
        <p:blipFill>
          <a:blip r:embed="rId12"/>
          <a:stretch/>
        </p:blipFill>
        <p:spPr>
          <a:xfrm>
            <a:off x="7924680" y="304920"/>
            <a:ext cx="6480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37AB-9791-4B92-85CE-6520D2BED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1557000"/>
            <a:ext cx="8497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TW" sz="4000" spc="-1" strike="noStrike">
                <a:solidFill>
                  <a:srgbClr val="ff0000"/>
                </a:solidFill>
                <a:latin typeface="Times New Roman"/>
              </a:rPr>
              <a:t>紅色蔬果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紅色食物大多富含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、花青素和茄紅素等營養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護血管彈性，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使血液循環良好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，臉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自然紅潤，腦部血液暢通，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記憶力也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變好</a:t>
            </a:r>
            <a:r>
              <a:rPr b="0" lang="zh-TW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5" descr="08"/>
          <p:cNvPicPr/>
          <p:nvPr/>
        </p:nvPicPr>
        <p:blipFill>
          <a:blip r:embed="rId1"/>
          <a:stretch/>
        </p:blipFill>
        <p:spPr>
          <a:xfrm>
            <a:off x="3203640" y="5373720"/>
            <a:ext cx="107928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56F6-D886-43D4-A3B1-CA48F9EE5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456840"/>
            <a:ext cx="59990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 </a:t>
            </a:r>
            <a:r>
              <a:rPr b="1" lang="en-US" sz="4000" spc="-1" strike="noStrike">
                <a:solidFill>
                  <a:srgbClr val="ff99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ff9900"/>
                </a:solidFill>
                <a:latin typeface="Times New Roman"/>
              </a:rPr>
              <a:t>紅蘿蔔、地瓜、胚芽米、玉米、柳丁、橘子、芒果、鳳梨、水梨、木瓜、檸檬、哈蜜瓜</a:t>
            </a:r>
            <a:r>
              <a:rPr b="0" lang="zh-TW" sz="2800" spc="-1" strike="noStrike">
                <a:solidFill>
                  <a:srgbClr val="ff99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008"/>
          <p:cNvPicPr/>
          <p:nvPr/>
        </p:nvPicPr>
        <p:blipFill>
          <a:blip r:embed="rId1"/>
          <a:stretch/>
        </p:blipFill>
        <p:spPr>
          <a:xfrm>
            <a:off x="1065240" y="385776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033"/>
          <p:cNvPicPr/>
          <p:nvPr/>
        </p:nvPicPr>
        <p:blipFill>
          <a:blip r:embed="rId2"/>
          <a:stretch/>
        </p:blipFill>
        <p:spPr>
          <a:xfrm>
            <a:off x="2195640" y="4869000"/>
            <a:ext cx="2041560" cy="19890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019"/>
          <p:cNvPicPr/>
          <p:nvPr/>
        </p:nvPicPr>
        <p:blipFill>
          <a:blip r:embed="rId3"/>
          <a:stretch/>
        </p:blipFill>
        <p:spPr>
          <a:xfrm>
            <a:off x="4788000" y="4869000"/>
            <a:ext cx="1727280" cy="1574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178197447"/>
          <p:cNvPicPr/>
          <p:nvPr/>
        </p:nvPicPr>
        <p:blipFill>
          <a:blip r:embed="rId4"/>
          <a:stretch/>
        </p:blipFill>
        <p:spPr>
          <a:xfrm>
            <a:off x="7315200" y="3429000"/>
            <a:ext cx="1523880" cy="838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465861598"/>
          <p:cNvPicPr/>
          <p:nvPr/>
        </p:nvPicPr>
        <p:blipFill>
          <a:blip r:embed="rId5"/>
          <a:stretch/>
        </p:blipFill>
        <p:spPr>
          <a:xfrm>
            <a:off x="7315200" y="4495680"/>
            <a:ext cx="1523880" cy="11527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9" descr="1145547638"/>
          <p:cNvPicPr/>
          <p:nvPr/>
        </p:nvPicPr>
        <p:blipFill>
          <a:blip r:embed="rId6"/>
          <a:stretch/>
        </p:blipFill>
        <p:spPr>
          <a:xfrm>
            <a:off x="5715000" y="3505320"/>
            <a:ext cx="1378080" cy="1292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0" descr="1469865740"/>
          <p:cNvPicPr/>
          <p:nvPr/>
        </p:nvPicPr>
        <p:blipFill>
          <a:blip r:embed="rId7"/>
          <a:stretch/>
        </p:blipFill>
        <p:spPr>
          <a:xfrm>
            <a:off x="6477120" y="5562720"/>
            <a:ext cx="1904760" cy="1295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1" descr="地瓜1"/>
          <p:cNvPicPr/>
          <p:nvPr/>
        </p:nvPicPr>
        <p:blipFill>
          <a:blip r:embed="rId8"/>
          <a:stretch/>
        </p:blipFill>
        <p:spPr>
          <a:xfrm>
            <a:off x="2987640" y="3500280"/>
            <a:ext cx="2238480" cy="1667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339627805"/>
          <p:cNvPicPr/>
          <p:nvPr/>
        </p:nvPicPr>
        <p:blipFill>
          <a:blip r:embed="rId9"/>
          <a:stretch/>
        </p:blipFill>
        <p:spPr>
          <a:xfrm>
            <a:off x="6934320" y="685800"/>
            <a:ext cx="190476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3" descr="03"/>
          <p:cNvPicPr/>
          <p:nvPr/>
        </p:nvPicPr>
        <p:blipFill>
          <a:blip r:embed="rId10"/>
          <a:stretch/>
        </p:blipFill>
        <p:spPr>
          <a:xfrm>
            <a:off x="900000" y="5489640"/>
            <a:ext cx="86364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8DCB-5D02-43F0-95EB-C76A54A80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55280" y="162828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ff9900"/>
                </a:solidFill>
                <a:latin typeface="Times New Roman"/>
              </a:rPr>
              <a:t>黃色或橙色蔬果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黃色食物，多為五穀根莖澱粉類，比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地瓜、薏仁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主要含澱粉和糖，是能量的主要來源，人體若多攝取五穀類食物，獲得足夠的能量，以利內臟器官運作。</a:t>
            </a:r>
            <a:r>
              <a:rPr b="0" lang="zh-TW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含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抗氧化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物質，如維生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及胡蘿蔔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00D6-AE6E-4934-BD68-C7988CAE2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惡性腫瘤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1,046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心臟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,67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腦血管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134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肺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90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糖尿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211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事故傷害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,669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下呼吸道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,197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慢性肝病及肝硬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912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高血壓性疾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74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腎炎、腎徵症候群及腎性病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,105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701-64A0-4446-A04A-85E919D6D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77724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341360"/>
            <a:ext cx="861048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 </a:t>
            </a: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蔥、菠菜、油菜、芥藍菜、青江菜、大黃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青椒、高麗菜、空心菜、花椰菜、芹菜、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008000"/>
                </a:solidFill>
                <a:latin typeface="Times New Roman"/>
              </a:rPr>
              <a:t>蘆筍、奇異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5" descr="1246813698"/>
          <p:cNvPicPr/>
          <p:nvPr/>
        </p:nvPicPr>
        <p:blipFill>
          <a:blip r:embed="rId1"/>
          <a:stretch/>
        </p:blipFill>
        <p:spPr>
          <a:xfrm>
            <a:off x="3056040" y="3714840"/>
            <a:ext cx="1401840" cy="12938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414516808"/>
          <p:cNvPicPr/>
          <p:nvPr/>
        </p:nvPicPr>
        <p:blipFill>
          <a:blip r:embed="rId2"/>
          <a:stretch/>
        </p:blipFill>
        <p:spPr>
          <a:xfrm>
            <a:off x="5076720" y="5229360"/>
            <a:ext cx="1524240" cy="1447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青花菜1"/>
          <p:cNvPicPr/>
          <p:nvPr/>
        </p:nvPicPr>
        <p:blipFill>
          <a:blip r:embed="rId3"/>
          <a:stretch/>
        </p:blipFill>
        <p:spPr>
          <a:xfrm>
            <a:off x="5003640" y="3573360"/>
            <a:ext cx="2016360" cy="1440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868343663"/>
          <p:cNvPicPr/>
          <p:nvPr/>
        </p:nvPicPr>
        <p:blipFill>
          <a:blip r:embed="rId4"/>
          <a:stretch/>
        </p:blipFill>
        <p:spPr>
          <a:xfrm>
            <a:off x="7093080" y="5157720"/>
            <a:ext cx="1600200" cy="13716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016"/>
          <p:cNvPicPr/>
          <p:nvPr/>
        </p:nvPicPr>
        <p:blipFill>
          <a:blip r:embed="rId5"/>
          <a:srcRect l="0" t="12062" r="0" b="10477"/>
          <a:stretch/>
        </p:blipFill>
        <p:spPr>
          <a:xfrm rot="565200">
            <a:off x="7497720" y="3735360"/>
            <a:ext cx="1381320" cy="1319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0" descr="002"/>
          <p:cNvPicPr/>
          <p:nvPr/>
        </p:nvPicPr>
        <p:blipFill>
          <a:blip r:embed="rId6"/>
          <a:stretch/>
        </p:blipFill>
        <p:spPr>
          <a:xfrm>
            <a:off x="2700360" y="5157720"/>
            <a:ext cx="182880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226F9-FFC1-4663-A163-A560C21BFC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685800"/>
            <a:ext cx="663588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700280"/>
            <a:ext cx="81342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33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綠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綠色食物，尤其是深綠色食物，含有粗纖維、維生素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群、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是一種重要的抗氧化劑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幫助減低某些癌症和慢性病的發生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A</a:t>
            </a:r>
            <a:r>
              <a:rPr b="1" lang="zh-TW" sz="2800" spc="-1" strike="noStrike">
                <a:solidFill>
                  <a:srgbClr val="003399"/>
                </a:solidFill>
                <a:latin typeface="Times New Roman"/>
              </a:rPr>
              <a:t>可強化眼睛功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維生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群參與了能量代謝作用，與肝臟細胞營業素新陳代謝有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TW" sz="2800" spc="-1" strike="noStrike">
                <a:solidFill>
                  <a:srgbClr val="008000"/>
                </a:solidFill>
                <a:latin typeface="Times New Roman"/>
              </a:rPr>
              <a:t>多吃綠色蔬果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可滋養肝臟、膽、眼睛、筋骨肌肉等，可說有百益而無一害。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054"/>
          <p:cNvPicPr/>
          <p:nvPr/>
        </p:nvPicPr>
        <p:blipFill>
          <a:blip r:embed="rId1"/>
          <a:stretch/>
        </p:blipFill>
        <p:spPr>
          <a:xfrm>
            <a:off x="7740720" y="836640"/>
            <a:ext cx="111600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1000-406B-4276-A324-2ABAD5172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90720" y="259920"/>
            <a:ext cx="77724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cc00cc"/>
                </a:solidFill>
                <a:latin typeface="Times New Roman"/>
              </a:rPr>
              <a:t>紫色或藍黑色蔬果 </a:t>
            </a:r>
            <a:r>
              <a:rPr b="1" lang="en-US" sz="4000" spc="-1" strike="noStrike">
                <a:solidFill>
                  <a:srgbClr val="cc00cc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200" spc="-1" strike="noStrike">
                <a:solidFill>
                  <a:srgbClr val="cc00cc"/>
                </a:solidFill>
                <a:latin typeface="Times New Roman"/>
              </a:rPr>
              <a:t>葡萄、葡萄乾、藍莓、茄子、加州李、桑椹、香菇、海帶、髮菜、黑木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006"/>
          <p:cNvPicPr/>
          <p:nvPr/>
        </p:nvPicPr>
        <p:blipFill>
          <a:blip r:embed="rId1"/>
          <a:stretch/>
        </p:blipFill>
        <p:spPr>
          <a:xfrm>
            <a:off x="1330200" y="3137040"/>
            <a:ext cx="1646280" cy="2003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17600390"/>
          <p:cNvPicPr/>
          <p:nvPr/>
        </p:nvPicPr>
        <p:blipFill>
          <a:blip r:embed="rId2"/>
          <a:stretch/>
        </p:blipFill>
        <p:spPr>
          <a:xfrm>
            <a:off x="2895480" y="518148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466116904"/>
          <p:cNvPicPr/>
          <p:nvPr/>
        </p:nvPicPr>
        <p:blipFill>
          <a:blip r:embed="rId3"/>
          <a:stretch/>
        </p:blipFill>
        <p:spPr>
          <a:xfrm>
            <a:off x="7086600" y="3276720"/>
            <a:ext cx="1752480" cy="16002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1248001977"/>
          <p:cNvPicPr/>
          <p:nvPr/>
        </p:nvPicPr>
        <p:blipFill>
          <a:blip r:embed="rId4"/>
          <a:stretch/>
        </p:blipFill>
        <p:spPr>
          <a:xfrm>
            <a:off x="4952880" y="5029200"/>
            <a:ext cx="1839960" cy="1523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8" descr="1318870984"/>
          <p:cNvPicPr/>
          <p:nvPr/>
        </p:nvPicPr>
        <p:blipFill>
          <a:blip r:embed="rId5"/>
          <a:stretch/>
        </p:blipFill>
        <p:spPr>
          <a:xfrm>
            <a:off x="2895480" y="3352680"/>
            <a:ext cx="1828800" cy="167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9" descr="771944215"/>
          <p:cNvPicPr/>
          <p:nvPr/>
        </p:nvPicPr>
        <p:blipFill>
          <a:blip r:embed="rId6"/>
          <a:stretch/>
        </p:blipFill>
        <p:spPr>
          <a:xfrm>
            <a:off x="5029200" y="3429000"/>
            <a:ext cx="182880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0" descr="_1109927762_3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010280" y="502920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1" descr="08"/>
          <p:cNvPicPr/>
          <p:nvPr/>
        </p:nvPicPr>
        <p:blipFill>
          <a:blip r:embed="rId9"/>
          <a:stretch/>
        </p:blipFill>
        <p:spPr>
          <a:xfrm>
            <a:off x="971640" y="5300640"/>
            <a:ext cx="194292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投影片編號版面配置區 6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974C-D932-400F-9168-F43DE3210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98720" y="720720"/>
            <a:ext cx="663552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201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cc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cc00cc"/>
                </a:solidFill>
                <a:latin typeface="Times New Roman"/>
              </a:rPr>
              <a:t>紫色或藍黑色蔬果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健康價值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此類食物大多富含礦物質與微量元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香菇富含多醣體，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有抑制腫瘤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作用，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可增加細胞免疫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上述舉例食物都含有不少的</a:t>
            </a:r>
            <a:r>
              <a:rPr b="1" lang="zh-TW" sz="2800" spc="-1" strike="noStrike">
                <a:solidFill>
                  <a:srgbClr val="ff0000"/>
                </a:solidFill>
                <a:latin typeface="Times New Roman"/>
              </a:rPr>
              <a:t>鈣、鐵、硒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的元素，對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骨骼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成長非常有幫助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適量攝取能提昇免疫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有助加強記憶力、抗老化、</a:t>
            </a:r>
            <a:r>
              <a:rPr b="0" lang="zh-TW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zh-TW" sz="2800" spc="-1" strike="noStrike">
                <a:solidFill>
                  <a:srgbClr val="000099"/>
                </a:solidFill>
                <a:latin typeface="Times New Roman"/>
              </a:rPr>
              <a:t>降低癌症發生率功能</a:t>
            </a:r>
            <a:r>
              <a:rPr b="1" lang="zh-TW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0" y="321624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5" descr="圖片預覽"/>
          <p:cNvPicPr/>
          <p:nvPr/>
        </p:nvPicPr>
        <p:blipFill>
          <a:blip r:embed="rId2"/>
          <a:stretch/>
        </p:blipFill>
        <p:spPr>
          <a:xfrm>
            <a:off x="6172200" y="4648320"/>
            <a:ext cx="2971800" cy="22096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03"/>
          <p:cNvPicPr/>
          <p:nvPr/>
        </p:nvPicPr>
        <p:blipFill>
          <a:blip r:embed="rId3"/>
          <a:stretch/>
        </p:blipFill>
        <p:spPr>
          <a:xfrm>
            <a:off x="7956720" y="1773360"/>
            <a:ext cx="8632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投影片編號版面配置區 7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9495-AEDD-4FCB-B40E-C63D48B52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600cc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040" y="121896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白蘿蔔、冬瓜、竹筍、洋菇、金針菇、香蕉、芭樂 、西洋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33cc"/>
                </a:solidFill>
                <a:latin typeface="Times New Roman"/>
              </a:rPr>
              <a:t>  </a:t>
            </a:r>
            <a:r>
              <a:rPr b="1" lang="zh-TW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4" descr="225709509"/>
          <p:cNvPicPr/>
          <p:nvPr/>
        </p:nvPicPr>
        <p:blipFill>
          <a:blip r:embed="rId1"/>
          <a:stretch/>
        </p:blipFill>
        <p:spPr>
          <a:xfrm>
            <a:off x="7238880" y="2819520"/>
            <a:ext cx="1657440" cy="19047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5" descr="015"/>
          <p:cNvPicPr/>
          <p:nvPr/>
        </p:nvPicPr>
        <p:blipFill>
          <a:blip r:embed="rId2"/>
          <a:stretch/>
        </p:blipFill>
        <p:spPr>
          <a:xfrm>
            <a:off x="1131840" y="3137040"/>
            <a:ext cx="1684440" cy="16556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116342815"/>
          <p:cNvPicPr/>
          <p:nvPr/>
        </p:nvPicPr>
        <p:blipFill>
          <a:blip r:embed="rId3"/>
          <a:stretch/>
        </p:blipFill>
        <p:spPr>
          <a:xfrm>
            <a:off x="2743200" y="3352680"/>
            <a:ext cx="1905120" cy="1373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320352185"/>
          <p:cNvPicPr/>
          <p:nvPr/>
        </p:nvPicPr>
        <p:blipFill>
          <a:blip r:embed="rId4"/>
          <a:stretch/>
        </p:blipFill>
        <p:spPr>
          <a:xfrm>
            <a:off x="2743200" y="4952880"/>
            <a:ext cx="1905120" cy="16002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1152694256"/>
          <p:cNvPicPr/>
          <p:nvPr/>
        </p:nvPicPr>
        <p:blipFill>
          <a:blip r:embed="rId5"/>
          <a:stretch/>
        </p:blipFill>
        <p:spPr>
          <a:xfrm>
            <a:off x="4932360" y="3284640"/>
            <a:ext cx="2077920" cy="15159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9" descr="1093358138"/>
          <p:cNvPicPr/>
          <p:nvPr/>
        </p:nvPicPr>
        <p:blipFill>
          <a:blip r:embed="rId6"/>
          <a:stretch/>
        </p:blipFill>
        <p:spPr>
          <a:xfrm>
            <a:off x="7238880" y="5029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0" descr="15652"/>
          <p:cNvPicPr/>
          <p:nvPr/>
        </p:nvPicPr>
        <p:blipFill>
          <a:blip r:embed="rId7"/>
          <a:stretch/>
        </p:blipFill>
        <p:spPr>
          <a:xfrm>
            <a:off x="4952880" y="4952880"/>
            <a:ext cx="1981440" cy="16495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010"/>
          <p:cNvPicPr/>
          <p:nvPr/>
        </p:nvPicPr>
        <p:blipFill>
          <a:blip r:embed="rId8"/>
          <a:stretch/>
        </p:blipFill>
        <p:spPr>
          <a:xfrm>
            <a:off x="1116000" y="5157720"/>
            <a:ext cx="115236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71B-023E-4911-B9B1-07B3C2C38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8000"/>
                </a:solidFill>
                <a:latin typeface="Times New Roman"/>
              </a:rPr>
              <a:t>蔬果的彩虹攝食原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0769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c0c0"/>
                </a:solidFill>
                <a:latin typeface="Times New Roman"/>
              </a:rPr>
              <a:t>  </a:t>
            </a:r>
            <a:r>
              <a:rPr b="1" lang="zh-TW" sz="4000" spc="-1" strike="noStrike">
                <a:solidFill>
                  <a:srgbClr val="000000"/>
                </a:solidFill>
                <a:latin typeface="Times New Roman"/>
              </a:rPr>
              <a:t>白色蔬果健康價值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冬瓜含水份及水溶性纖維，可滋潤皮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竹筍含粗纖維，能加速大腸蠕動，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幫助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ff0000"/>
                </a:solidFill>
                <a:latin typeface="Times New Roman"/>
              </a:rPr>
              <a:t>排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降低癌症發生率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促進心臟健康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維持膽固醇指數正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5486400" y="3581280"/>
            <a:ext cx="233352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3182-9394-474F-B46B-C57C0255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10480" cy="14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蔬果天天 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5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7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、</a:t>
            </a: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9</a:t>
            </a:r>
            <a:br>
              <a:rPr sz="4800"/>
            </a:b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健康改造生活口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早餐蔬果汁爽口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再吃地瓜和水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下課果乾當零嘴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午餐青菜一定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cc3300"/>
                </a:solidFill>
                <a:latin typeface="Times New Roman"/>
              </a:rPr>
              <a:t>午茶來根紅蘿蔔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餐前蔬果不會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9900"/>
                </a:solidFill>
                <a:latin typeface="Times New Roman"/>
              </a:rPr>
              <a:t>生菜沙拉不怕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份量不忘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7. 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拒絕檳榔和菸酒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生活改造健康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4" descr="m-1"/>
          <p:cNvPicPr/>
          <p:nvPr/>
        </p:nvPicPr>
        <p:blipFill>
          <a:blip r:embed="rId1"/>
          <a:stretch/>
        </p:blipFill>
        <p:spPr>
          <a:xfrm>
            <a:off x="3581280" y="525780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6" descr="圖片預覽"/>
          <p:cNvPicPr/>
          <p:nvPr/>
        </p:nvPicPr>
        <p:blipFill>
          <a:blip r:embed="rId2"/>
          <a:stretch/>
        </p:blipFill>
        <p:spPr>
          <a:xfrm>
            <a:off x="0" y="5257800"/>
            <a:ext cx="2664000" cy="160020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7"/>
          <p:cNvSpPr/>
          <p:nvPr/>
        </p:nvSpPr>
        <p:spPr>
          <a:xfrm>
            <a:off x="0" y="2627280"/>
            <a:ext cx="914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72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i="1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8" descr="圖片預覽"/>
          <p:cNvPicPr/>
          <p:nvPr/>
        </p:nvPicPr>
        <p:blipFill>
          <a:blip r:embed="rId3"/>
          <a:stretch/>
        </p:blipFill>
        <p:spPr>
          <a:xfrm>
            <a:off x="6705720" y="5334120"/>
            <a:ext cx="22096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192F-7EE6-43A7-8456-2F78ED6A7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Times New Roman"/>
              </a:rPr>
              <a:t>21</a:t>
            </a:r>
            <a:r>
              <a:rPr b="0" lang="zh-TW" sz="4800" spc="-1" strike="noStrike">
                <a:solidFill>
                  <a:srgbClr val="000099"/>
                </a:solidFill>
                <a:latin typeface="Times New Roman"/>
              </a:rPr>
              <a:t>世紀健康用餐十守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TW" sz="3600" spc="-1" strike="noStrike">
                <a:solidFill>
                  <a:srgbClr val="ff0000"/>
                </a:solidFill>
                <a:latin typeface="Times New Roman"/>
              </a:rPr>
              <a:t>先吃蔬菜再吃肉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肉類蛋白豆類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蔬菜雜糧纖維多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菇類蔥蒜樣樣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可見脂肪要</a:t>
            </a:r>
            <a:r>
              <a:rPr b="1" lang="en-US" sz="3600" spc="-1" strike="noStrike">
                <a:solidFill>
                  <a:srgbClr val="000000"/>
                </a:solidFill>
                <a:latin typeface="新細明體"/>
              </a:rPr>
              <a:t>say no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外皮肥肉要挑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7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吃醃燻和燒烤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蒸煮清燉最爽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</a:t>
            </a:r>
            <a:r>
              <a:rPr b="1" lang="zh-TW" sz="3600" spc="-1" strike="noStrike">
                <a:solidFill>
                  <a:srgbClr val="000000"/>
                </a:solidFill>
                <a:latin typeface="Times New Roman"/>
              </a:rPr>
              <a:t>少碰甜點不會錯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1" lang="zh-TW" sz="3600" spc="-1" strike="noStrike">
                <a:solidFill>
                  <a:srgbClr val="008000"/>
                </a:solidFill>
                <a:latin typeface="Times New Roman"/>
              </a:rPr>
              <a:t>天天蔬果健康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Picture 4" descr="200572016263"/>
          <p:cNvPicPr/>
          <p:nvPr/>
        </p:nvPicPr>
        <p:blipFill>
          <a:blip r:embed="rId1"/>
          <a:stretch/>
        </p:blipFill>
        <p:spPr>
          <a:xfrm>
            <a:off x="0" y="5181480"/>
            <a:ext cx="2743200" cy="1676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chef002"/>
          <p:cNvPicPr/>
          <p:nvPr/>
        </p:nvPicPr>
        <p:blipFill>
          <a:blip r:embed="rId2"/>
          <a:stretch/>
        </p:blipFill>
        <p:spPr>
          <a:xfrm>
            <a:off x="5562720" y="5181480"/>
            <a:ext cx="2286000" cy="167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346F-D726-4BDF-AEA4-CA9B77D83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Picture 2" descr="background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3"/>
          <p:cNvSpPr/>
          <p:nvPr/>
        </p:nvSpPr>
        <p:spPr>
          <a:xfrm>
            <a:off x="0" y="762120"/>
            <a:ext cx="655308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TW" sz="4400" spc="-1" strike="noStrike">
                <a:solidFill>
                  <a:srgbClr val="6600cc"/>
                </a:solidFill>
                <a:latin typeface="華康布丁體 Std W7"/>
                <a:ea typeface="華康布丁體 Std W7"/>
              </a:rPr>
              <a:t>健康百分百  人生才精采</a:t>
            </a:r>
            <a:endParaRPr b="0" i="1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華康布丁體 Std W7"/>
                <a:ea typeface="華康布丁體 Std W7"/>
              </a:rPr>
              <a:t>謝謝聆聽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</a:t>
            </a:r>
            <a:r>
              <a:rPr b="1" lang="zh-TW" sz="3600" spc="-1" strike="noStrike">
                <a:solidFill>
                  <a:srgbClr val="ff9900"/>
                </a:solidFill>
                <a:latin typeface="華康布丁體 Std W7"/>
                <a:ea typeface="華康布丁體 Std W7"/>
              </a:rPr>
              <a:t>祝 活得健康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</a:t>
            </a:r>
            <a:r>
              <a:rPr b="1" lang="zh-TW" sz="3600" spc="-1" strike="noStrike">
                <a:solidFill>
                  <a:srgbClr val="0033cc"/>
                </a:solidFill>
                <a:latin typeface="華康布丁體 Std W7"/>
                <a:ea typeface="華康布丁體 Std W7"/>
              </a:rPr>
              <a:t>活得快樂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0000"/>
                </a:solidFill>
                <a:latin typeface="華康布丁體 Std W7"/>
                <a:ea typeface="華康布丁體 Std W7"/>
              </a:rPr>
              <a:t>          </a:t>
            </a:r>
            <a:r>
              <a:rPr b="1" lang="zh-TW" sz="3600" spc="-1" strike="noStrike">
                <a:solidFill>
                  <a:srgbClr val="990099"/>
                </a:solidFill>
                <a:latin typeface="華康布丁體 Std W7"/>
                <a:ea typeface="華康布丁體 Std W7"/>
              </a:rPr>
              <a:t>活得自在</a:t>
            </a:r>
            <a:endParaRPr b="0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C88F-8CA5-41C0-98C1-4AC8A2F19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台灣地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癌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71600" y="18288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氣管、支氣管和肺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.0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肝和肝內膽管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.9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結腸、直腸和肛門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1.4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女性乳房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2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口腔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胃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7) 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前列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攝護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5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食道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8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9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胰臟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6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0)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子宮頸及部位未明示子宮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7%</a:t>
            </a:r>
            <a:r>
              <a:rPr b="0" lang="zh-TW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投影片編號版面配置區 5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D809-2BAD-4C81-822F-B24987BCA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花蓮縣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9 </a:t>
            </a:r>
            <a:r>
              <a:rPr b="0" lang="zh-TW" sz="4400" spc="-1" strike="noStrike">
                <a:solidFill>
                  <a:srgbClr val="000000"/>
                </a:solidFill>
                <a:latin typeface="Times New Roman"/>
              </a:rPr>
              <a:t>年十大主要死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52480" y="1447920"/>
            <a:ext cx="56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惡性腫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心臟疾病（高血壓性疾病除外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腦血管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事故傷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肺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糖尿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肝病及肝硬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高血壓性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慢性下呼吸道疾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標楷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標楷體"/>
              </a:rPr>
              <a:t>敗血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E16F-AA38-4018-80BF-8BB2DC6594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380880" y="30492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飽和脂肪酸與癌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D:\Documents and Settings\pctest\桌面\File0127.jpg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4FF5-3BC7-4C5B-B07D-A160470F4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38088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膽固醇過高與動脈硬化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4" descr="D:\Documents and Settings\pctest\桌面\File0126.jpg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4A021-3DBF-4ECE-9FEE-B525AD9D9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0880" y="304920"/>
            <a:ext cx="754380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蔗糖吃過多與蛀牙、龋齒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素食者與營養不均衡、骨質疏鬆症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D:\Documents and Settings\pctest\桌面\File0128.jpg"/>
          <p:cNvPicPr/>
          <p:nvPr/>
        </p:nvPicPr>
        <p:blipFill>
          <a:blip r:embed="rId1"/>
          <a:stretch/>
        </p:blipFill>
        <p:spPr>
          <a:xfrm>
            <a:off x="0" y="2666880"/>
            <a:ext cx="9144000" cy="41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投影片編號版面配置區 3"/>
          <p:cNvSpPr/>
          <p:nvPr/>
        </p:nvSpPr>
        <p:spPr>
          <a:xfrm>
            <a:off x="63244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25E6-1446-4B3C-8790-769D24A44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457200" y="0"/>
            <a:ext cx="754380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飲食不均衡與慢性病</a:t>
            </a:r>
            <a:br>
              <a:rPr sz="3200"/>
            </a:br>
            <a:r>
              <a:rPr b="0" lang="zh-TW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zh-TW" sz="3200" spc="-1" strike="noStrike">
                <a:solidFill>
                  <a:srgbClr val="000000"/>
                </a:solidFill>
                <a:latin typeface="標楷體"/>
                <a:ea typeface="標楷體"/>
              </a:rPr>
              <a:t>食物精緻與大腸病變</a:t>
            </a:r>
            <a:endParaRPr b="0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D:\Documents and Settings\pctest\桌面\File0129.jpg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廖容瑜</cp:lastModifiedBy>
  <dcterms:modified xsi:type="dcterms:W3CDTF">2011-11-20T03:40:14Z</dcterms:modified>
  <cp:revision>9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