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F13-2550-48DA-9505-83543824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8A4-D498-4037-BDA5-B7DE6097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9CD-008E-4086-99D3-63AB3656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008-92EF-4E2D-9D37-E6517F0D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CB4-293B-47F1-895F-1F390B7F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5DF-B6AD-41C6-A779-6EF1E62D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96C-0FA0-4C89-8803-DFE2730A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34F-6AB2-4CA7-9E68-0D7E6D5A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C2B-F3A7-4B94-9A97-6F89A888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61D-ABB1-483F-A7A2-E2608834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F7C-B345-42AB-8131-9ACFBFAB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4DD-0930-4575-AA64-BD8E8E6C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0048-B64C-4BC4-B5CA-D4D08CE4AEB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09480" y="423720"/>
            <a:ext cx="792504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6:30Z</dcterms:created>
  <dc:creator>Valued Acer Customer</dc:creator>
  <dc:description/>
  <dc:language>en-US</dc:language>
  <cp:lastModifiedBy>22</cp:lastModifiedBy>
  <dcterms:modified xsi:type="dcterms:W3CDTF">2013-11-27T01:06:54Z</dcterms:modified>
  <cp:revision>1</cp:revision>
  <dc:subject/>
  <dc:title>投影片 1</dc:title>
</cp:coreProperties>
</file>