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38AF-D5D4-4BE9-BB4E-B71CC6326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2766-EFB7-47FC-9E56-8FF76C7D3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1C5F-18B7-4E7E-AF34-52EFE5CD7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7332-26B4-4D70-9494-12E51A9F9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A3D4-C3C9-4D16-B22F-FD4284024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3101-5677-4032-A13A-AED14B238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B452-60D0-451A-A97E-A4AFBAE32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0341-BD33-4A99-BFB3-983787E8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A3B9-3D65-4A2F-9E86-86A9B80DF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49B2-F102-4707-B490-EF54C240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37D4-BAD8-4017-9F66-2EFED505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F9D2-FAA9-4FB5-9DEC-C59527864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B010A-DAE1-4A61-A076-F886FA9CD359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490680" y="189000"/>
            <a:ext cx="8162640" cy="62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03:34:38Z</dcterms:created>
  <dc:creator>Valued Acer Customer</dc:creator>
  <dc:description/>
  <dc:language>en-US</dc:language>
  <cp:lastModifiedBy>22</cp:lastModifiedBy>
  <dcterms:modified xsi:type="dcterms:W3CDTF">2013-11-27T01:06:18Z</dcterms:modified>
  <cp:revision>1</cp:revision>
  <dc:subject/>
  <dc:title>投影片 1</dc:title>
</cp:coreProperties>
</file>