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7D62-4D98-468E-87E9-DEA830F2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95E-F3AA-438E-9282-067BC63A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E4C6-1165-4447-87A3-AB7C9F9E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82B-A51A-4DEC-86C0-84D5DA6B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689-AD8E-42F0-9832-0B2116B3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D25-D610-4528-B1FE-BE95E81A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13A0-322D-4F82-A334-AA6C0F06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4A62-903E-420D-B0EE-10B1C4CA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03B3-59E3-47B3-9F0E-864E52C0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681-4F5C-479F-A3D5-2FA9F058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D9F7-572C-49A5-BF77-CD07BA3C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F35B-3B72-423B-8194-3964EB06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57F3-8D30-4F58-8746-244217CB7948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8200" y="399960"/>
            <a:ext cx="80676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5:54Z</dcterms:created>
  <dc:creator>Valued Acer Customer</dc:creator>
  <dc:description/>
  <dc:language>en-US</dc:language>
  <cp:lastModifiedBy>22</cp:lastModifiedBy>
  <dcterms:modified xsi:type="dcterms:W3CDTF">2013-11-27T01:06:44Z</dcterms:modified>
  <cp:revision>1</cp:revision>
  <dc:subject/>
  <dc:title>投影片 1</dc:title>
</cp:coreProperties>
</file>