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C49-1D77-42A7-AA43-300FC6DE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918-F928-43A4-8E3A-33D5402C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0A2-F342-4DCB-9097-898EC753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C79-A420-4AF3-80EC-0554A0A4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D94-F509-4030-80E3-C169306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B24-60D1-49A6-A208-4EC76E9B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BFF-0839-425F-96A9-6BA9736C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421-037B-4FB5-81F7-001E626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862-E0EA-4FAE-B94C-4DC31C41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3D7-AC99-4DF5-A2A1-98D1BA98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878-DC84-4C12-9CC8-B8BEC34E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AEB-E458-4055-9173-270EB4B1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36D5-7F74-4F3F-A1DB-03101B05F6F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8200" y="399960"/>
            <a:ext cx="80676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54Z</dcterms:created>
  <dc:creator>Valued Acer Customer</dc:creator>
  <dc:description/>
  <dc:language>en-US</dc:language>
  <cp:lastModifiedBy>22</cp:lastModifiedBy>
  <dcterms:modified xsi:type="dcterms:W3CDTF">2013-11-27T01:06:44Z</dcterms:modified>
  <cp:revision>1</cp:revision>
  <dc:subject/>
  <dc:title>投影片 1</dc:title>
</cp:coreProperties>
</file>