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E56-F0BA-4A20-AA4C-1EB0FE33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2FF-A698-484F-8A77-BC1514CF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B35-04E1-4E8B-BBEF-D64E904D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9A9-3F1D-4D2B-9F00-6A14A0DE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CD3-65C5-4D07-A4BC-F61657DE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7B6-67EE-440D-B56B-64A6AC3C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7E8-8C2C-454E-B4E4-99784416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FDB-CEE7-43D3-9E95-27630873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38F-529A-41F2-ACC5-2E32D7FF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7FC-C4B3-4C38-8446-9F0042EF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ABB-B4CD-4CD6-8685-761BE0C8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C76-55F3-4146-9261-0821A93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C234-168E-4D89-B101-327831650E4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花博總價決標</a:t>
            </a:r>
            <a:r>
              <a:rPr b="0" lang="en-US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/</a:t>
            </a: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藍委做球 審計部不願背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民黨立委賴士葆日前出任體檢花博顧問團成員，引發爭議，甚至被譏為背書團。他昨天要求林慶隆說明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什麼是「總價決標」，相關規定允不允許個別採購項目可以報價較高？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審計長林慶隆回應表示，在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中並無「總價決標」名詞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52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規定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，訂有底價的採購，應在底價內以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最低標報價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為原則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賴追問，若議會已通過的預算，事後又被質疑太高怎麼辦？林則說，要從底價及預算編列來看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46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規定，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必須逐項考量成本、市場行情、以往決標資料，包括工程會決標資料庫，逐項照市價編列，最後成為施工預算，再由機關首長核定底價，依採購法精神，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每項單價都應符合市場行情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林慶隆說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政府機關訂底價時要照市場行情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……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偏差不能太大；但廠商每項報價高低，與市府每項底價高低不一定一樣，最後決標時，廠商合計總報價，</a:t>
            </a:r>
            <a:r>
              <a:rPr b="0" lang="zh-TW" sz="23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雖然法律上沒有「總價決標」，仍可累積一個總報價在底標內來決標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但簽約時</a:t>
            </a:r>
            <a:r>
              <a:rPr b="0" lang="zh-TW" sz="23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仍應看廠商報價合不合理</a:t>
            </a:r>
            <a:r>
              <a:rPr b="0" lang="zh-TW" sz="18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010/10/14/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由時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6:20:01Z</dcterms:created>
  <dc:creator>Valued Acer Customer</dc:creator>
  <dc:description/>
  <dc:language>en-US</dc:language>
  <cp:lastModifiedBy>22</cp:lastModifiedBy>
  <dcterms:modified xsi:type="dcterms:W3CDTF">2013-11-27T01:07:08Z</dcterms:modified>
  <cp:revision>1</cp:revision>
  <dc:subject/>
  <dc:title>花博總價決標/藍委做球 審計部不願背書</dc:title>
</cp:coreProperties>
</file>