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FF7-FB9F-4969-A0DF-9649ED80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5E8-229B-43B4-B80D-6B54F615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F70-E6E2-4E80-A826-44A2C093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47C-986B-4983-8243-0802D165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C06-F609-4C3E-8137-7FA6ACA7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EFF-822B-4165-A754-04085A97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CBE-DCF4-4565-88A1-E485C306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34D-8FAA-46C5-93F7-7F77566D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FB4-E665-4863-9843-09ED2579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144-3BC9-4965-9DE7-35473BB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ABA-3E5C-4C3B-80F0-F2B004A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ED0-F38C-416D-9ED0-7249A0AE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E51-EB37-48A9-859F-F5668BC9612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189000"/>
            <a:ext cx="81626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4:38Z</dcterms:created>
  <dc:creator>Valued Acer Customer</dc:creator>
  <dc:description/>
  <dc:language>en-US</dc:language>
  <cp:lastModifiedBy>22</cp:lastModifiedBy>
  <dcterms:modified xsi:type="dcterms:W3CDTF">2013-11-27T01:06:18Z</dcterms:modified>
  <cp:revision>1</cp:revision>
  <dc:subject/>
  <dc:title>投影片 1</dc:title>
</cp:coreProperties>
</file>