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468-B3D1-4718-ADCC-1D51B8E8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B9C-1E7D-4B5A-A497-FC963145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CE2-8FC6-4D69-9393-411BCA74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CE8-C355-40E7-855E-91083622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3DB-4FC6-4807-A091-8015986F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F4C-91BD-453E-86CA-6994F745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1D8-A8E7-4F88-8DA1-425081E9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983-65BB-4959-A664-8F25D3D9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AA8-DEF7-4F94-A28D-B422692C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2E3-E77F-4587-91B5-B2BD78BF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414-66D0-4132-B63F-23499644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DAF-579D-48D3-A35A-E216A1F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A6D1-BA7A-4D72-AEE9-9ED3B7C65CB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260280"/>
            <a:ext cx="816264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5:16Z</dcterms:created>
  <dc:creator>Valued Acer Customer</dc:creator>
  <dc:description/>
  <dc:language>en-US</dc:language>
  <cp:lastModifiedBy>22</cp:lastModifiedBy>
  <dcterms:modified xsi:type="dcterms:W3CDTF">2013-11-27T01:06:29Z</dcterms:modified>
  <cp:revision>1</cp:revision>
  <dc:subject/>
  <dc:title>投影片 1</dc:title>
</cp:coreProperties>
</file>