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5D9-729A-49EB-B4B4-D0EB3507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3E2-503F-4B0E-A424-4575A8D4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46D-364D-4CE5-9F63-F604DF0C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E09-1666-4E70-9554-BC7CEC66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6BD-1B4F-413A-A0B6-15AA68EA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1AE-B023-4662-B1B4-421F4649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0FA-8AAD-4A8D-9C8B-E2A33EC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4F2-8D5F-4212-B4E0-953EB04A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6D8-46F4-4074-ADDA-D0D9B2DA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E36-689E-4E41-BB89-07E4CE83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B2F-42A7-4A90-86AD-C812CC9C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5CA-260D-4558-8EA3-CAE71221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F229-EC41-46EE-A435-B67E6F669D4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3:29Z</dcterms:created>
  <dc:creator>Valued Acer Customer</dc:creator>
  <dc:description/>
  <dc:language>en-US</dc:language>
  <cp:lastModifiedBy>22</cp:lastModifiedBy>
  <dcterms:modified xsi:type="dcterms:W3CDTF">2013-11-27T01:06:03Z</dcterms:modified>
  <cp:revision>1</cp:revision>
  <dc:subject/>
  <dc:title>投影片 1</dc:title>
</cp:coreProperties>
</file>