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080-3F11-4503-BE06-6C9B35D1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137-79D9-4FCC-BF0C-BBCDB7FA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E1D-9C8E-4658-B415-C89DA688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58A-29AE-468D-869F-2960ACB2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22C-9C10-46C4-BD40-608711B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B11-FD45-4E06-933F-7D12745B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A1C-FD71-4E17-9688-86A4D2F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1E8-061B-417E-B0A9-DDE317B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9AC-1020-4499-9840-5AC0CAB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AE3-0DCD-4D0F-8510-503129C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764-5741-4838-AC49-015AF55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17A-7578-4DF1-B033-F8086B8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000-29C1-4F54-B17C-9DA9DD7829E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3:33:29Z</dcterms:created>
  <dc:creator>Valued Acer Customer</dc:creator>
  <dc:description/>
  <dc:language>en-US</dc:language>
  <cp:lastModifiedBy>22</cp:lastModifiedBy>
  <dcterms:modified xsi:type="dcterms:W3CDTF">2013-11-27T01:06:03Z</dcterms:modified>
  <cp:revision>1</cp:revision>
  <dc:subject/>
  <dc:title>投影片 1</dc:title>
</cp:coreProperties>
</file>