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37C6-D6B2-4CD5-A67E-FF19C4E514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C382D-30B9-4305-B0E6-9B38372D6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FB36-D741-4E0D-9F79-EBEDA5FB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F111-F896-4B7C-A4AB-EF155413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3DFE-B7CB-4612-A225-9D3B25C6C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6688-8F4C-4243-B375-29CD5703D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00EE-7C48-4860-AFFA-58D07C4A3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CE8F-23DA-4210-AA78-658733EB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8A54-770A-4033-BDCA-55744D17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83A82-4691-4AC1-9F65-6A914E22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3EE4-6A41-4617-B009-2BAD5652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32A0-91D5-4B82-9342-0E7A90B2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D6E6-F0A5-4FA5-9993-C784F5B7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DB85-828C-4B57-A2AC-3A3B948D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A223-F7CE-4F2F-A5BE-491D4F420C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179280" y="1332000"/>
            <a:ext cx="2073240" cy="5526000"/>
          </a:xfrm>
          <a:prstGeom prst="rect">
            <a:avLst/>
          </a:prstGeom>
          <a:solidFill>
            <a:srgbClr val="80808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324000" y="1844640"/>
            <a:ext cx="1784160" cy="934920"/>
          </a:xfrm>
          <a:prstGeom prst="roundRect">
            <a:avLst>
              <a:gd name="adj" fmla="val 16667"/>
            </a:avLst>
          </a:prstGeom>
          <a:solidFill>
            <a:srgbClr val="6399a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動員全校師生清理校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317520" y="3562200"/>
            <a:ext cx="1784160" cy="935280"/>
          </a:xfrm>
          <a:prstGeom prst="roundRect">
            <a:avLst>
              <a:gd name="adj" fmla="val 16667"/>
            </a:avLst>
          </a:prstGeom>
          <a:solidFill>
            <a:srgbClr val="6399a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申請國軍支援清理校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324000" y="5157720"/>
            <a:ext cx="1784160" cy="935280"/>
          </a:xfrm>
          <a:prstGeom prst="roundRect">
            <a:avLst>
              <a:gd name="adj" fmla="val 16667"/>
            </a:avLst>
          </a:prstGeom>
          <a:solidFill>
            <a:srgbClr val="6399ab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啟動開口契約清理校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268360" y="1628640"/>
            <a:ext cx="540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0ad12"/>
                </a:solidFill>
                <a:latin typeface="典匠中特圓"/>
                <a:ea typeface="典匠中特圓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2268360" y="3429000"/>
            <a:ext cx="590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0ad12"/>
                </a:solidFill>
                <a:latin typeface="典匠中特圓"/>
                <a:ea typeface="典匠中特圓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268360" y="5013360"/>
            <a:ext cx="735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e0ad12"/>
                </a:solidFill>
                <a:latin typeface="典匠中特圓"/>
                <a:ea typeface="典匠中特圓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10"/>
          <p:cNvSpPr/>
          <p:nvPr/>
        </p:nvSpPr>
        <p:spPr>
          <a:xfrm>
            <a:off x="2916360" y="1125360"/>
            <a:ext cx="5832360" cy="16560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颱風過後第一天上午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第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1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至</a:t>
            </a:r>
            <a:r>
              <a:rPr b="1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2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節課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，動員全校師生共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清理校園環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需要外援協助清運的垃圾，擇定校內適當的地點做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垃圾暫時集中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C.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花蓮市及吉安鄉解除警報三天內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,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清運樹木及環境垃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至清潔回收場不收運棄費，需學校人員押車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1"/>
          <p:cNvSpPr/>
          <p:nvPr/>
        </p:nvSpPr>
        <p:spPr>
          <a:xfrm>
            <a:off x="2987640" y="2924280"/>
            <a:ext cx="5904000" cy="1728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請於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颱風過後上班日（含周休二日）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中午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12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時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前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填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「申請國軍支援救災需求表」，傳真至縣府民政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兵役行政科彙整後，轉報花蓮縣後備司令部派遣國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支援救災。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民政處兵役行政科 傳真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30576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電話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21894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32047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227171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轉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4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5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12"/>
          <p:cNvSpPr/>
          <p:nvPr/>
        </p:nvSpPr>
        <p:spPr>
          <a:xfrm>
            <a:off x="2987640" y="4797360"/>
            <a:ext cx="5832360" cy="1944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若有大型樹木需扶正或清運時，請於颱風過後</a:t>
            </a: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上班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1</a:t>
            </a:r>
            <a:r>
              <a:rPr b="1" lang="zh-TW" sz="1800" spc="-1" strike="noStrike" u="sng">
                <a:solidFill>
                  <a:srgbClr val="000000"/>
                </a:solidFill>
                <a:uFillTx/>
                <a:latin typeface="標楷體"/>
                <a:ea typeface="標楷體"/>
              </a:rPr>
              <a:t>天內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填寫學校搶修（險）通知單並傳真至教育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設施科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傳真：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8462782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；電話：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8462781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標楷體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教育處彙整後通知開口合約廠商準備機具人員，儘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至各校辦理災害搶險搶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C.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針對災害後重大樹木倒塌折斷需清運及砍除，小型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標楷體"/>
                <a:ea typeface="標楷體"/>
              </a:rPr>
              <a:t>枝，請國軍、清潔隊及學校師生義工處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>
            <a:off x="324000" y="260280"/>
            <a:ext cx="1784160" cy="93528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4280" bIns="4428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颱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豪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5"/>
          <p:cNvSpPr/>
          <p:nvPr/>
        </p:nvSpPr>
        <p:spPr>
          <a:xfrm>
            <a:off x="2843280" y="189000"/>
            <a:ext cx="5905440" cy="863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因應「颱風」及「豪雨」等天然災害肆虐校園環境後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標楷體"/>
              </a:rPr>
              <a:t>復原作業流程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。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5.09.</a:t>
            </a:r>
            <a:r>
              <a:rPr b="1" lang="zh-TW" sz="1400" spc="-1" strike="noStrike">
                <a:solidFill>
                  <a:srgbClr val="000000"/>
                </a:solidFill>
                <a:latin typeface="Arial"/>
              </a:rPr>
              <a:t>修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2124000" y="765000"/>
            <a:ext cx="719280" cy="0"/>
          </a:xfrm>
          <a:prstGeom prst="line">
            <a:avLst/>
          </a:prstGeom>
          <a:ln cap="rnd" w="3816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7"/>
          <p:cNvSpPr/>
          <p:nvPr/>
        </p:nvSpPr>
        <p:spPr>
          <a:xfrm>
            <a:off x="1116000" y="1197000"/>
            <a:ext cx="216000" cy="576360"/>
          </a:xfrm>
          <a:prstGeom prst="downArrow">
            <a:avLst>
              <a:gd name="adj1" fmla="val 50000"/>
              <a:gd name="adj2" fmla="val 667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8"/>
          <p:cNvSpPr/>
          <p:nvPr/>
        </p:nvSpPr>
        <p:spPr>
          <a:xfrm>
            <a:off x="1116000" y="2924280"/>
            <a:ext cx="216000" cy="576000"/>
          </a:xfrm>
          <a:prstGeom prst="downArrow">
            <a:avLst>
              <a:gd name="adj1" fmla="val 50000"/>
              <a:gd name="adj2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9"/>
          <p:cNvSpPr/>
          <p:nvPr/>
        </p:nvSpPr>
        <p:spPr>
          <a:xfrm>
            <a:off x="1116000" y="4508640"/>
            <a:ext cx="216000" cy="576000"/>
          </a:xfrm>
          <a:prstGeom prst="downArrow">
            <a:avLst>
              <a:gd name="adj1" fmla="val 50000"/>
              <a:gd name="adj2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3T07:12:03Z</dcterms:created>
  <dc:creator>hlc</dc:creator>
  <dc:description/>
  <dc:language>en-US</dc:language>
  <cp:lastModifiedBy>user</cp:lastModifiedBy>
  <dcterms:modified xsi:type="dcterms:W3CDTF">2016-09-26T02:48:02Z</dcterms:modified>
  <cp:revision>30</cp:revision>
  <dc:subject/>
  <dc:title>投影片 1</dc:title>
</cp:coreProperties>
</file>