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BDF1-63A3-48F4-90BB-AB8EB9FC2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6B98-44C4-401D-B9C9-DA73F4BF3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1CC2-621F-4B21-8972-9F6D48F7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66C-035A-43B1-813E-C8D3B569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F75-88B0-4909-BC9A-56428180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B735-F2B7-4176-A704-5EC3DA7F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97F-BC45-4734-87C4-17A2E1AF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A59-EDBB-444E-8530-C1D22A70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7D14-386C-4858-B540-9558F623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C1EF-237E-440A-B27C-DE3AFE8D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A78D-E663-422E-B357-507621EC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3AB2-F33A-4886-9C81-35668593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699-E31F-481F-9625-EA66DFBB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8820-9F26-40ED-9BB5-738C033A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07EF-930F-4A94-B023-6997E1436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79280" y="1332000"/>
            <a:ext cx="2073240" cy="5526000"/>
          </a:xfrm>
          <a:prstGeom prst="rect">
            <a:avLst/>
          </a:prstGeom>
          <a:solidFill>
            <a:srgbClr val="80808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24000" y="1844640"/>
            <a:ext cx="1784160" cy="934920"/>
          </a:xfrm>
          <a:prstGeom prst="roundRect">
            <a:avLst>
              <a:gd name="adj" fmla="val 16667"/>
            </a:avLst>
          </a:prstGeom>
          <a:solidFill>
            <a:srgbClr val="6399a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動員全校師生清理校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317520" y="3562200"/>
            <a:ext cx="1784160" cy="935280"/>
          </a:xfrm>
          <a:prstGeom prst="roundRect">
            <a:avLst>
              <a:gd name="adj" fmla="val 16667"/>
            </a:avLst>
          </a:prstGeom>
          <a:solidFill>
            <a:srgbClr val="6399a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申請國軍支援清理校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324000" y="5157720"/>
            <a:ext cx="1784160" cy="935280"/>
          </a:xfrm>
          <a:prstGeom prst="roundRect">
            <a:avLst>
              <a:gd name="adj" fmla="val 16667"/>
            </a:avLst>
          </a:prstGeom>
          <a:solidFill>
            <a:srgbClr val="6399a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啟動開口契約清理校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68360" y="1628640"/>
            <a:ext cx="5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0ad12"/>
                </a:solidFill>
                <a:latin typeface="典匠中特圓"/>
                <a:ea typeface="典匠中特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2268360" y="3429000"/>
            <a:ext cx="59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0ad12"/>
                </a:solidFill>
                <a:latin typeface="典匠中特圓"/>
                <a:ea typeface="典匠中特圓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68360" y="5013360"/>
            <a:ext cx="73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0ad12"/>
                </a:solidFill>
                <a:latin typeface="典匠中特圓"/>
                <a:ea typeface="典匠中特圓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2916360" y="1125360"/>
            <a:ext cx="5832360" cy="165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颱風過後第一天上午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至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節課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動員全校師生共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清理校園環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需要外援協助清運的垃圾，擇定校內適當的地點做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垃圾暫時集中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C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花蓮市及吉安鄉解除警報三天內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清運樹木及環境垃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至清潔回收場不收運棄費，需學校人員押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2987640" y="2924280"/>
            <a:ext cx="5904000" cy="1728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請於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颱風過後上班日（含周休二日）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中午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12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時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前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填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「申請國軍支援救災需求表」，傳真至縣府民政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兵役行政科彙整後，轉報花蓮縣後備司令部派遣國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支援救災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民政處兵役行政科 傳真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30576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電話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21894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32047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27171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4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5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2987640" y="4797360"/>
            <a:ext cx="5832360" cy="194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若有大型樹木需扶正或清運時，請於颱風過後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上班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1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天內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填寫學校搶修（險）通知單並傳真至教育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設施科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傳真：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8462782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；電話：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8462781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教育處彙整後通知開口合約廠商準備機具人員，儘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至各校辦理災害搶險搶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C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針對災害後重大樹木倒塌折斷需清運及砍除，小型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枝，請國軍、清潔隊及學校師生義工處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324000" y="260280"/>
            <a:ext cx="1784160" cy="935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颱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豪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5"/>
          <p:cNvSpPr/>
          <p:nvPr/>
        </p:nvSpPr>
        <p:spPr>
          <a:xfrm>
            <a:off x="2843280" y="189000"/>
            <a:ext cx="590544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因應「颱風」及「豪雨」等天然災害肆虐校園環境後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復原作業流程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。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.09.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修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2124000" y="765000"/>
            <a:ext cx="719280" cy="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7"/>
          <p:cNvSpPr/>
          <p:nvPr/>
        </p:nvSpPr>
        <p:spPr>
          <a:xfrm>
            <a:off x="1116000" y="119700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8"/>
          <p:cNvSpPr/>
          <p:nvPr/>
        </p:nvSpPr>
        <p:spPr>
          <a:xfrm>
            <a:off x="1116000" y="2924280"/>
            <a:ext cx="216000" cy="576000"/>
          </a:xfrm>
          <a:prstGeom prst="downArrow">
            <a:avLst>
              <a:gd name="adj1" fmla="val 50000"/>
              <a:gd name="adj2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9"/>
          <p:cNvSpPr/>
          <p:nvPr/>
        </p:nvSpPr>
        <p:spPr>
          <a:xfrm>
            <a:off x="1116000" y="4508640"/>
            <a:ext cx="216000" cy="576000"/>
          </a:xfrm>
          <a:prstGeom prst="downArrow">
            <a:avLst>
              <a:gd name="adj1" fmla="val 50000"/>
              <a:gd name="adj2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7:12:03Z</dcterms:created>
  <dc:creator>hlc</dc:creator>
  <dc:description/>
  <dc:language>en-US</dc:language>
  <cp:lastModifiedBy>user</cp:lastModifiedBy>
  <dcterms:modified xsi:type="dcterms:W3CDTF">2016-09-26T02:48:02Z</dcterms:modified>
  <cp:revision>30</cp:revision>
  <dc:subject/>
  <dc:title>投影片 1</dc:title>
</cp:coreProperties>
</file>