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6953-CC9C-4D79-8249-F213193BEA1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-715,000-90,000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千元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)/5,959,601=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+60,000)/(5,959,601+60,000)=7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37E-7F7F-4C7A-89E0-190F78AA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744-8DD8-4019-8953-B0BE0E75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5ED-35C2-4B3C-8601-7998C8AA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859-CA96-4BC2-B03A-5D4FF55C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1C6A-93BE-44EC-8FF5-0AE2455F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3957-DB34-4841-A73B-CB6693DA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3C37-7A58-4F31-8674-31B3C0BD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401C-546A-45CF-8B8B-D47C3096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DA94-5B04-4028-8A4B-08AD05DC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D6FC-CB50-4A8D-B405-B83F739D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19B1-294A-4309-AB24-49CFF836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613-5021-4FE0-9BCB-6E94903E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120E-B36A-42D1-BFA0-C7EDC81A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EC7C-D77E-45AF-B694-8993B30B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19C2-CD29-46A8-8DC3-AE4412EA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2C61-EB4B-4F20-A80A-DDC9C744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A945-1687-4FAA-A3B8-E257F893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3A3-FCED-47DC-B25E-18BAF663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8B5-46EA-432B-B7F5-0CDAD74C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600-97CD-44B2-A387-6A205B18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21C-32D5-46B4-87B3-4968649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7E1-7653-4A0D-A3C9-01B865E4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C28-03F0-456F-A07A-4FF5B7D2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401-88DC-4E8D-96B9-A0BF3282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B3FC-1E2F-4A78-9685-BBA7945FDFBB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06D1-2C41-43AD-A4F1-65563DE43421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66"/>
                </a:solidFill>
                <a:latin typeface="Arial"/>
              </a:rPr>
              <a:t>教育人事費設算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簡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報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人：趙麗慶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AA49-AA55-4FFB-A008-E0B0E1A170F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建議與指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3366"/>
                </a:solidFill>
                <a:latin typeface="Arial"/>
              </a:rPr>
              <a:t>敬請指教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481644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27280" y="483408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140360" y="485136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651640" y="486900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164360" y="4797360"/>
            <a:ext cx="101916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E608-E645-415E-86BD-75A4CB69F9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前言</a:t>
            </a:r>
            <a:r>
              <a:rPr b="0" lang="zh-TW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明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學校員額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概算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調查表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預算彈性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447-5344-4FFA-9FFE-F07BBE4B6BCB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前言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係概估下一年度所需經費，而教育經費最大支出為人事費，約佔教育經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不包含退休撫卹及各項補助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） ，因此在財源有限下如何合理編列所需人事費概算，顯然非常重要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4F4-3D09-45B1-9D17-03F4ABD5C1B3}" type="slidenum">
              <a:t>3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明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教職員全年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標楷體"/>
                <a:hlinkClick r:id="rId2"/>
              </a:rPr>
              <a:t>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代課鐘點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每班每年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0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節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*(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中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6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小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26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工友全年度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行政職工友國內休假補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值日夜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退撫費、勞退準備金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保險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公保、健保、勞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E80-7296-4BC8-A037-A0846C9E30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一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預算員額≠編制員額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部分學校因為班級數減少，造成職員及工友超編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高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官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F43-7974-4B9B-9599-4CBDDC9213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二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滿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小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未達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5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生以上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1AE-DEF4-4FBF-995A-C6E8044E58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概算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 14.5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當年度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估成長薪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設算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決定保險級距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設算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本俸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提撥比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656-3692-42B0-AB9F-0B334507A9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調查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育人事費調查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中央及本府設算下年度教育經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事費支用明細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檢視是否須辦理人事費追加減預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8E9-0F08-4122-BBD9-D8309234ED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616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預算彈性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由於學校員額眾多且學年度與曆年度不一致，以至人事費無法設算剛好，因此需透過預算彈性來因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科目流用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各計畫科目內之人事費，不得自其他用途別科目流入，如有賸餘亦不得流出。在同一計畫之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分支計畫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人事費可互相流用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追加（減）預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將部分編列過多人事費學校追減後追加人事費不足學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調整待遇準備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由地方教育發展基金預算編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2,500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萬元統籌人事費來因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657-B25F-47B4-B991-DBE763ABDD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6:09:39Z</dcterms:modified>
  <cp:revision>54</cp:revision>
  <dc:subject/>
  <dc:title>歡迎！來自四面八方的伙伴！</dc:title>
</cp:coreProperties>
</file>