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CB6BC-AF74-4986-95E6-D3A16CE10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60014-3CB8-4B23-9496-06C6503D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676BE-FBE2-4EA4-B655-259FF1C8B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6990C-CFC6-4D1A-A456-FCA6CD0DB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DA6E9-F2F3-4948-9DD1-949C2DC7B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FD676-564E-48F7-8A54-3F8C32636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609A8-E56B-4F8C-A5CB-B2F0C3EA5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9B692-64B9-408C-B120-4AC6D601C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E6D9D-E1C2-4272-A325-323ACFC5D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E9FEE-3E40-4F7E-A598-2F478E51F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69CF0-C48C-462E-B2AE-6F4779B2B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C5BC5-0A08-42FD-98B8-28C56459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C0118-0D33-4069-8932-ED97D0E51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5BBA-73B9-45C8-95AA-D403F7939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6D44F-6DB3-4DF2-8116-E7DE41BEC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F0273-6E9A-48C8-BE69-065074343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8C262-790D-410C-A8FF-A86BED4CB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DE97A-1D22-4D67-ACCC-7B4FE615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257FE-1594-4D8A-9D62-5EAE6690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46931-A706-481A-A585-048CF886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9AC78-A0C0-4FEE-B7AC-6D224C47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78D3-53B0-445C-8361-952E7959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32F5-12EE-4E36-B043-A2F395130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5D4F-C72F-44A5-A0FF-7D87C9A74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7D50-97C5-4D81-9FC1-6460A3D26CF4}"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5ADB-AB21-4400-92EA-24BE207610DA}"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圖利與便民案例淺釋</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報告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花蓮地檢主任檢察官</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許建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四）犯罪主體：</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受公務機關委託承辦公務之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與上述二種人員共犯圖利罪之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五）犯罪故意</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直接故意－有意使其發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間接故意－預見發生其發生不違背其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本意</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有認識之過失－預見其發生確信其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發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無認識之過失－應注意、能注意、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不注意。</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六）圖私人之不法利益：</a:t>
            </a:r>
            <a:r>
              <a:rPr b="0" lang="zh-TW"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１、私人之疇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２、不法利益之內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３、既遂與未遂</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政府機關依政府採購法進行採購之行為，究為政府機關執行公權力之行為或係立於私法法律地位所為私經濟行為，未可一概而論。依該法第</a:t>
            </a:r>
            <a:r>
              <a:rPr b="0" lang="zh-TW" sz="2800" spc="-1" strike="noStrike">
                <a:solidFill>
                  <a:srgbClr val="000000"/>
                </a:solidFill>
                <a:latin typeface="Times New Roman"/>
                <a:ea typeface="標楷體"/>
              </a:rPr>
              <a:t>74</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75</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款、第</a:t>
            </a:r>
            <a:r>
              <a:rPr b="0" lang="zh-TW" sz="2800" spc="-1" strike="noStrike">
                <a:solidFill>
                  <a:srgbClr val="000000"/>
                </a:solidFill>
                <a:latin typeface="Times New Roman"/>
                <a:ea typeface="標楷體"/>
              </a:rPr>
              <a:t>76</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至之</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第</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之項規定，可見立法政策係採政府機關之招標、審標、決標等訂約前之作為為執行公權力之行為，以異議、申訴程序救濟，申訴審議判斷視同訴願決定。訂約後之履約、驗收等爭議，調解或仲裁程序解決。</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二）</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關於招標、審標、決標爭議之審議判斷既視同訴願決定，自應認政府機關之招標、審標、決標行為均係執行公權力之行為，亦即為就公法具體事件所為之決定或其他公權力措施而對外直接發生法律效果之單方行政行為，係行政處分。而許其依行政訴訟法規定救濟，此觀民國</a:t>
            </a:r>
            <a:r>
              <a:rPr b="0" lang="zh-TW" sz="2800" spc="-1" strike="noStrike">
                <a:solidFill>
                  <a:srgbClr val="000000"/>
                </a:solidFill>
                <a:latin typeface="Times New Roman"/>
                <a:ea typeface="標楷體"/>
              </a:rPr>
              <a:t>91</a:t>
            </a:r>
            <a:r>
              <a:rPr b="0" lang="zh-TW" sz="2800" spc="-1" strike="noStrike">
                <a:solidFill>
                  <a:srgbClr val="000000"/>
                </a:solidFill>
                <a:latin typeface="Times New Roman"/>
                <a:ea typeface="標楷體"/>
              </a:rPr>
              <a:t>年</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月</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日修正前政府採購法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規定應附記爭訟期限自明，否則如不視為行政處分，許其依行政訴訟法提起行政訴訟，該視同訴願決定之規定即無必要</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一</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財政部某區國稅局稽核科審核員積壓違章漏稅核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課補稅卷宗，致案件逾核課期間，圖利廠商</a:t>
            </a:r>
            <a:r>
              <a:rPr b="0" lang="zh-TW" sz="2400" spc="-1" strike="noStrike">
                <a:solidFill>
                  <a:srgbClr val="000000"/>
                </a:solidFill>
                <a:latin typeface="Times New Roman"/>
                <a:ea typeface="標楷體"/>
              </a:rPr>
              <a:t>512</a:t>
            </a:r>
            <a:r>
              <a:rPr b="0" lang="zh-TW" sz="2400" spc="-1" strike="noStrike">
                <a:solidFill>
                  <a:srgbClr val="000000"/>
                </a:solidFill>
                <a:latin typeface="Times New Roman"/>
                <a:ea typeface="標楷體"/>
              </a:rPr>
              <a:t>萬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餘元，涉嫌違反貪污治罪條例第</a:t>
            </a:r>
            <a:r>
              <a:rPr b="0" lang="zh-TW" sz="2400" spc="-1" strike="noStrike">
                <a:solidFill>
                  <a:srgbClr val="000000"/>
                </a:solidFill>
                <a:latin typeface="Times New Roman"/>
                <a:ea typeface="標楷體"/>
              </a:rPr>
              <a:t>6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4</a:t>
            </a:r>
            <a:r>
              <a:rPr b="0" lang="zh-TW" sz="2400" spc="-1" strike="noStrike">
                <a:solidFill>
                  <a:srgbClr val="000000"/>
                </a:solidFill>
                <a:latin typeface="Times New Roman"/>
                <a:ea typeface="標楷體"/>
              </a:rPr>
              <a:t>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案</a:t>
            </a:r>
            <a:r>
              <a:rPr b="0" lang="zh-TW" sz="2400" spc="-1" strike="noStrike">
                <a:solidFill>
                  <a:srgbClr val="000000"/>
                </a:solidFill>
                <a:latin typeface="Times New Roman"/>
              </a:rPr>
              <a:t>。</a:t>
            </a:r>
            <a:r>
              <a:rPr b="0" lang="zh-TW" sz="2400" spc="-1" strike="noStrike">
                <a:solidFill>
                  <a:srgbClr val="000000"/>
                </a:solidFill>
                <a:latin typeface="Times New Roman"/>
                <a:ea typeface="標楷體"/>
              </a:rPr>
              <a:t>（臺中地院</a:t>
            </a:r>
            <a:r>
              <a:rPr b="0" lang="zh-TW" sz="2400" spc="-1" strike="noStrike">
                <a:solidFill>
                  <a:srgbClr val="000000"/>
                </a:solidFill>
                <a:latin typeface="Times New Roman"/>
                <a:ea typeface="標楷體"/>
              </a:rPr>
              <a:t>92</a:t>
            </a:r>
            <a:r>
              <a:rPr b="0" lang="zh-TW" sz="2400" spc="-1" strike="noStrike">
                <a:solidFill>
                  <a:srgbClr val="000000"/>
                </a:solidFill>
                <a:latin typeface="Times New Roman"/>
                <a:ea typeface="標楷體"/>
              </a:rPr>
              <a:t>訴第</a:t>
            </a:r>
            <a:r>
              <a:rPr b="0" lang="zh-TW" sz="2400" spc="-1" strike="noStrike">
                <a:solidFill>
                  <a:srgbClr val="000000"/>
                </a:solidFill>
                <a:latin typeface="Times New Roman"/>
                <a:ea typeface="標楷體"/>
              </a:rPr>
              <a:t>2821</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某鄉公所秘書指定廠商承包水電工程收取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扣</a:t>
            </a:r>
            <a:r>
              <a:rPr b="0" lang="zh-TW" sz="2400" spc="-1" strike="noStrike">
                <a:solidFill>
                  <a:srgbClr val="000000"/>
                </a:solidFill>
                <a:latin typeface="Times New Roman"/>
                <a:ea typeface="標楷體"/>
              </a:rPr>
              <a:t>30</a:t>
            </a:r>
            <a:r>
              <a:rPr b="0" lang="zh-TW" sz="2400" spc="-1" strike="noStrike">
                <a:solidFill>
                  <a:srgbClr val="000000"/>
                </a:solidFill>
                <a:latin typeface="Times New Roman"/>
                <a:ea typeface="標楷體"/>
              </a:rPr>
              <a:t>萬元及</a:t>
            </a:r>
            <a:r>
              <a:rPr b="0" lang="zh-TW" sz="2400" spc="-1" strike="noStrike">
                <a:solidFill>
                  <a:srgbClr val="000000"/>
                </a:solidFill>
                <a:latin typeface="Times New Roman"/>
                <a:ea typeface="標楷體"/>
              </a:rPr>
              <a:t>7</a:t>
            </a:r>
            <a:r>
              <a:rPr b="0" lang="zh-TW" sz="2400" spc="-1" strike="noStrike">
                <a:solidFill>
                  <a:srgbClr val="000000"/>
                </a:solidFill>
                <a:latin typeface="Times New Roman"/>
                <a:ea typeface="標楷體"/>
              </a:rPr>
              <a:t>萬元涉嫌違反貪污治罪條例第</a:t>
            </a:r>
            <a:r>
              <a:rPr b="0" lang="zh-TW" sz="2400" spc="-1" strike="noStrike">
                <a:solidFill>
                  <a:srgbClr val="000000"/>
                </a:solidFill>
                <a:latin typeface="Times New Roman"/>
                <a:ea typeface="標楷體"/>
              </a:rPr>
              <a:t>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款案</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臺灣臺中地方法院</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度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字第</a:t>
            </a:r>
            <a:r>
              <a:rPr b="0" lang="zh-TW" sz="2400" spc="-1" strike="noStrike">
                <a:solidFill>
                  <a:srgbClr val="000000"/>
                </a:solidFill>
                <a:latin typeface="Times New Roman"/>
                <a:ea typeface="標楷體"/>
              </a:rPr>
              <a:t>2357</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二</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經濟部水利署某河川局局長收受賄賂</a:t>
            </a:r>
            <a:r>
              <a:rPr b="0" lang="zh-TW" sz="2000" spc="-1" strike="noStrike">
                <a:solidFill>
                  <a:srgbClr val="000000"/>
                </a:solidFill>
                <a:latin typeface="Times New Roman"/>
                <a:ea typeface="標楷體"/>
              </a:rPr>
              <a:t>500</a:t>
            </a:r>
            <a:r>
              <a:rPr b="0" lang="zh-TW" sz="2000" spc="-1" strike="noStrike">
                <a:solidFill>
                  <a:srgbClr val="000000"/>
                </a:solidFill>
                <a:latin typeface="Times New Roman"/>
                <a:ea typeface="標楷體"/>
              </a:rPr>
              <a:t>萬元以疏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為名核准某砂石公司開採河砂，涉嫌違反貪污治罪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款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臺灣高等法院</a:t>
            </a:r>
            <a:r>
              <a:rPr b="0" lang="zh-TW" sz="2000" spc="-1" strike="noStrike">
                <a:solidFill>
                  <a:srgbClr val="000000"/>
                </a:solidFill>
                <a:latin typeface="Times New Roman"/>
                <a:ea typeface="標楷體"/>
              </a:rPr>
              <a:t>93</a:t>
            </a:r>
            <a:r>
              <a:rPr b="0" lang="zh-TW" sz="2000" spc="-1" strike="noStrike">
                <a:solidFill>
                  <a:srgbClr val="000000"/>
                </a:solidFill>
                <a:latin typeface="Times New Roman"/>
                <a:ea typeface="標楷體"/>
              </a:rPr>
              <a:t>年上訴字第</a:t>
            </a:r>
            <a:r>
              <a:rPr b="0" lang="zh-TW" sz="2000" spc="-1" strike="noStrike">
                <a:solidFill>
                  <a:srgbClr val="000000"/>
                </a:solidFill>
                <a:latin typeface="Times New Roman"/>
                <a:ea typeface="標楷體"/>
              </a:rPr>
              <a:t>214</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四、某鄉鎮公所技士利用建築物查估作業，虛列金額超額</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登載拆除補償面積，浮報補償金額</a:t>
            </a:r>
            <a:r>
              <a:rPr b="0" lang="zh-TW" sz="2000" spc="-1" strike="noStrike">
                <a:solidFill>
                  <a:srgbClr val="000000"/>
                </a:solidFill>
                <a:latin typeface="Times New Roman"/>
                <a:ea typeface="標楷體"/>
              </a:rPr>
              <a:t>504</a:t>
            </a:r>
            <a:r>
              <a:rPr b="0" lang="zh-TW" sz="2000" spc="-1" strike="noStrike">
                <a:solidFill>
                  <a:srgbClr val="000000"/>
                </a:solidFill>
                <a:latin typeface="Times New Roman"/>
                <a:ea typeface="標楷體"/>
              </a:rPr>
              <a:t>萬</a:t>
            </a:r>
            <a:r>
              <a:rPr b="0" lang="zh-TW" sz="2000" spc="-1" strike="noStrike">
                <a:solidFill>
                  <a:srgbClr val="000000"/>
                </a:solidFill>
                <a:latin typeface="Times New Roman"/>
                <a:ea typeface="標楷體"/>
              </a:rPr>
              <a:t>5348</a:t>
            </a:r>
            <a:r>
              <a:rPr b="0" lang="zh-TW" sz="2000" spc="-1" strike="noStrike">
                <a:solidFill>
                  <a:srgbClr val="000000"/>
                </a:solidFill>
                <a:latin typeface="Times New Roman"/>
                <a:ea typeface="標楷體"/>
              </a:rPr>
              <a:t>元，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嫌違反貪污治罪條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 </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款、刑法第</a:t>
            </a:r>
            <a:r>
              <a:rPr b="0" lang="zh-TW" sz="2000" spc="-1" strike="noStrike">
                <a:solidFill>
                  <a:srgbClr val="000000"/>
                </a:solidFill>
                <a:latin typeface="Times New Roman"/>
                <a:ea typeface="標楷體"/>
              </a:rPr>
              <a:t>216</a:t>
            </a:r>
            <a:r>
              <a:rPr b="0" lang="zh-TW" sz="2000" spc="-1" strike="noStrike">
                <a:solidFill>
                  <a:srgbClr val="000000"/>
                </a:solidFill>
                <a:latin typeface="Times New Roman"/>
                <a:ea typeface="標楷體"/>
              </a:rPr>
              <a:t>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第</a:t>
            </a:r>
            <a:r>
              <a:rPr b="0" lang="zh-TW" sz="2000" spc="-1" strike="noStrike">
                <a:solidFill>
                  <a:srgbClr val="000000"/>
                </a:solidFill>
                <a:latin typeface="Times New Roman"/>
                <a:ea typeface="標楷體"/>
              </a:rPr>
              <a:t>213</a:t>
            </a:r>
            <a:r>
              <a:rPr b="0" lang="zh-TW" sz="2000" spc="-1" strike="noStrike">
                <a:solidFill>
                  <a:srgbClr val="000000"/>
                </a:solidFill>
                <a:latin typeface="Times New Roman"/>
                <a:ea typeface="標楷體"/>
              </a:rPr>
              <a:t>條等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最高法院</a:t>
            </a:r>
            <a:r>
              <a:rPr b="0" lang="zh-TW" sz="2000" spc="-1" strike="noStrike">
                <a:solidFill>
                  <a:srgbClr val="000000"/>
                </a:solidFill>
                <a:latin typeface="Times New Roman"/>
                <a:ea typeface="標楷體"/>
              </a:rPr>
              <a:t>91</a:t>
            </a:r>
            <a:r>
              <a:rPr b="0" lang="zh-TW" sz="2000" spc="-1" strike="noStrike">
                <a:solidFill>
                  <a:srgbClr val="000000"/>
                </a:solidFill>
                <a:latin typeface="Times New Roman"/>
                <a:ea typeface="標楷體"/>
              </a:rPr>
              <a:t>年台上字第</a:t>
            </a:r>
            <a:r>
              <a:rPr b="0" lang="zh-TW" sz="2000" spc="-1" strike="noStrike">
                <a:solidFill>
                  <a:srgbClr val="000000"/>
                </a:solidFill>
                <a:latin typeface="Times New Roman"/>
                <a:ea typeface="標楷體"/>
              </a:rPr>
              <a:t>3810</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三</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某水利會職員，向承商借牌投標自</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己發包之工程圖利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最高法院</a:t>
            </a:r>
            <a:r>
              <a:rPr b="0" lang="zh-TW" sz="3200" spc="-1" strike="noStrike">
                <a:solidFill>
                  <a:srgbClr val="000000"/>
                </a:solidFill>
                <a:latin typeface="Times New Roman"/>
                <a:ea typeface="標楷體"/>
              </a:rPr>
              <a:t>95</a:t>
            </a:r>
            <a:r>
              <a:rPr b="0" lang="zh-TW" sz="3200" spc="-1" strike="noStrike">
                <a:solidFill>
                  <a:srgbClr val="000000"/>
                </a:solidFill>
                <a:latin typeface="Times New Roman"/>
                <a:ea typeface="標楷體"/>
              </a:rPr>
              <a:t>年台上字第</a:t>
            </a:r>
            <a:r>
              <a:rPr b="0" lang="zh-TW" sz="3200" spc="-1" strike="noStrike">
                <a:solidFill>
                  <a:srgbClr val="000000"/>
                </a:solidFill>
                <a:latin typeface="Times New Roman"/>
                <a:ea typeface="標楷體"/>
              </a:rPr>
              <a:t>4633</a:t>
            </a:r>
            <a:r>
              <a:rPr b="0" lang="zh-TW" sz="3200" spc="-1" strike="noStrike">
                <a:solidFill>
                  <a:srgbClr val="000000"/>
                </a:solidFill>
                <a:latin typeface="Times New Roman"/>
                <a:ea typeface="標楷體"/>
              </a:rPr>
              <a:t>號判）。　</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一）</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意圖得利、抑留不發職務上應發之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募集款項或徵用土地、財物、從中舞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竊取或侵占職務上持有之非公用私有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材、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對主管或監督之事務，明知違背法令，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用職權機會或身分圖自己或其他私人不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利益，因而獲得利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二）</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對主管或監督之事務，明知違背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令，利用職權機會或身分圖自己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其他私人不法利益，因而獲得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六、第一款至第三款未遂犯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000000"/>
                </a:solidFill>
                <a:latin typeface="Times New Roman"/>
                <a:ea typeface="標楷體"/>
              </a:rPr>
              <a:t>許建榮簡歷</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學歷：</a:t>
            </a:r>
            <a:r>
              <a:rPr b="0" lang="zh-TW" sz="3200" spc="-1" strike="noStrike">
                <a:solidFill>
                  <a:srgbClr val="000000"/>
                </a:solidFill>
                <a:latin typeface="Times New Roman"/>
                <a:ea typeface="標楷體"/>
              </a:rPr>
              <a:t>國立東華大學公行所碩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經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遠洋漁船報務員</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里幹事、戶籍員、人事助理員、學習法院書記官、人事副主任、政風室主任、檢察官</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主任檢察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一）</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面對刑事案件應有的認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不慌亂、謹慎面對，不恣意聽信謠言。</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積極瞭解犯罪構成要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熟悉檢察官、法官對刑事案件處理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誠實應訊，積極舉證，爭取檢察官、法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對自己答辯之認同，不誇大答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仔細聽清楚檢察官、法官問話再答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６、如有違失，勇於認錯，爭取從輕量刑。</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二）</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車禍案件應注意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肇事責任之認定：現場圖、碎片、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土、散落物、煞車線、刮地痕、鑑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報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和解、調解書應注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警詢與檢察官偵訊筆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認罪協商與檢察官緩起訴處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酒駕與聲明異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捌、結語</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圖利便民一線間，我心如秤無貪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圖利罪責不上身，民眾得利皆稱便</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有燒香有保庇，有讀書有福氣。法律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是不保護在權利上睡覺的人</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主動積極認識法律，法律才能發揮保</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護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許建榮簡歷</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99920"/>
            <a:ext cx="7989840" cy="431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考試：</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６３年遠洋漁船報務員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６４年基層特考丙等里幹事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６６年基層特考丙等戶政人員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７０年乙等調查人員特考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７３年普考法院書記官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８０年土地登記專業代理人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８２年高等檢定考試法務類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８３年乙等特考司法官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九、９２年高等考試律師考試及格</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題綱：</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前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圖利罪構成要件修法沿革</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圖利罪之犯罪構成要件</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政府採購法上有關公營事業單位員工</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之特別規定</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貪污案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貪污治罪條例圖利罪行為態樣</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生活法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結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壹、前言</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真正的官司是從第二審開打？</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法院是講道理的地方？有條有理與條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條有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貪多則貧，貪字貧字殼，不貪自不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圖利」是否可解釋為﹁意圖使人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得利益之行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圖利與便民在一線之間，很難辨明？</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貳、圖利罪構成要件修法沿革</a:t>
            </a:r>
            <a:r>
              <a:rPr b="1" lang="zh-TW"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前原條文：「公務員對於主管或監督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修正條文：「公務員對於主管或監督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私人不法利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修正現行條文： 「公務員對於主管或監</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督之事務，明知違背法令，直接或間接圖自</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己或他人之不法利益，因而獲得利益」</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一）</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犯罪主體：公務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犯罪故意：主觀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明知違背法令：直接故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圖自己或他人之不法利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須圖利既遂。</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二）犯罪主體：</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身分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法令服務於國家、地方自治團體所屬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關具有法定職務之權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授權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其法令從事於公共事務具有法定權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三）犯罪主體：</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委託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受國家或地方自治團體所屬機關依法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從事與委託機關權限有關之公共事務。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公務員其他學者之分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組織上之公務員與功能上之公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政府採購法上有關公營事業單位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工之身分認定。</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05:21Z</dcterms:created>
  <dc:creator>jan5418</dc:creator>
  <dc:description/>
  <dc:language>en-US</dc:language>
  <cp:lastModifiedBy>MOJ</cp:lastModifiedBy>
  <dcterms:modified xsi:type="dcterms:W3CDTF">2009-10-06T06:34:36Z</dcterms:modified>
  <cp:revision>9</cp:revision>
  <dc:subject/>
  <dc:title>如何釐清「便民」與「圖利」簡介</dc:title>
</cp:coreProperties>
</file>