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58.jpeg" ContentType="image/jpeg"/>
  <Override PartName="/ppt/media/image57.jpeg" ContentType="image/jpeg"/>
  <Override PartName="/ppt/media/image63.png" ContentType="image/png"/>
  <Override PartName="/ppt/media/image56.jpeg" ContentType="image/jpeg"/>
  <Override PartName="/ppt/media/image55.jpeg" ContentType="image/jpeg"/>
  <Override PartName="/ppt/media/image54.jpeg" ContentType="image/jpeg"/>
  <Override PartName="/ppt/media/image53.gif" ContentType="image/gif"/>
  <Override PartName="/ppt/media/image40.jpeg" ContentType="image/jpeg"/>
  <Override PartName="/ppt/media/image52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11.png" ContentType="image/png"/>
  <Override PartName="/ppt/media/image66.jpeg" ContentType="image/jpeg"/>
  <Override PartName="/ppt/media/image19.jpeg" ContentType="image/jpeg"/>
  <Override PartName="/ppt/media/image15.jpeg" ContentType="image/jpeg"/>
  <Override PartName="/ppt/media/image29.gif" ContentType="image/gif"/>
  <Override PartName="/ppt/media/image5.jpeg" ContentType="image/jpeg"/>
  <Override PartName="/ppt/media/image61.png" ContentType="image/png"/>
  <Override PartName="/ppt/media/image20.jpeg" ContentType="image/jpeg"/>
  <Override PartName="/ppt/media/image68.jpeg" ContentType="image/jpeg"/>
  <Override PartName="/ppt/media/image69.png" ContentType="image/png"/>
  <Override PartName="/ppt/media/image67.jpeg" ContentType="image/jpeg"/>
  <Override PartName="/ppt/media/image18.jpeg" ContentType="image/jpeg"/>
  <Override PartName="/ppt/media/image17.jpeg" ContentType="image/jpeg"/>
  <Override PartName="/ppt/media/image65.jpeg" ContentType="image/jpeg"/>
  <Override PartName="/ppt/media/image2.gif" ContentType="image/gif"/>
  <Override PartName="/ppt/media/image39.jpeg" ContentType="image/jpeg"/>
  <Override PartName="/ppt/media/image45.gif" ContentType="image/gif"/>
  <Override PartName="/ppt/media/image12.png" ContentType="image/png"/>
  <Override PartName="/ppt/media/image8.png" ContentType="image/png"/>
  <Override PartName="/ppt/media/image23.jpeg" ContentType="image/jpeg"/>
  <Override PartName="/ppt/media/image49.jpeg" ContentType="image/jpeg"/>
  <Override PartName="/ppt/media/image1.gif" ContentType="image/gif"/>
  <Override PartName="/ppt/media/image16.png" ContentType="image/png"/>
  <Override PartName="/ppt/media/image64.jpeg" ContentType="image/jpeg"/>
  <Override PartName="/ppt/media/image38.jpeg" ContentType="image/jpeg"/>
  <Override PartName="/ppt/media/image21.jpeg" ContentType="image/jpeg"/>
  <Override PartName="/ppt/media/image62.gif" ContentType="image/gif"/>
  <Override PartName="/ppt/media/image35.jpeg" ContentType="image/jpeg"/>
  <Override PartName="/ppt/media/image6.jpeg" ContentType="image/jpeg"/>
  <Override PartName="/ppt/media/image28.gif" ContentType="image/gif"/>
  <Override PartName="/ppt/media/image42.jpeg" ContentType="image/jpeg"/>
  <Override PartName="/ppt/media/image59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10.png" ContentType="image/png"/>
  <Override PartName="/ppt/media/image36.jpeg" ContentType="image/jpeg"/>
  <Override PartName="/ppt/media/image43.jpeg" ContentType="image/jpeg"/>
  <Override PartName="/ppt/media/image44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FC49-45D7-4E93-8BFD-1C382AB51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82B9-F99A-4D6F-8183-7FF10FC11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56F2-29BE-456D-9C75-124C7D849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26C9-7CB1-4B58-BED2-E6DE5AD3E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8486-5A7C-4C4F-89CA-5B063BF4E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7776-19ED-4D87-9A0D-721293C8C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B9F8-7F55-4D5B-8E18-6C7375666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C934-6B63-44F7-92AE-543B30EA6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40546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5BD0-CEB7-4E31-AF76-708DEC3C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3688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860F-9123-42A7-8499-9F412A7E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804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012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8804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012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4974-8BFF-496B-B26A-A9E67F69B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4118-C604-41E7-81F3-C49BBBCEB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9EB1-86FB-4A60-804F-B076B23D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6258-8462-414C-8F26-2EE94F1B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31F1-4929-400C-9F6C-8F182521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917C-607A-44C4-B1DB-5379354B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32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8E7A-C74B-4CE7-8D3B-22635FD6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58F3-15AE-4B44-AC5B-823F712D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14B1-A240-45AB-B547-6A6BB965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3688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0FC7-E6D3-49F5-8539-9D3BC710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40546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F8A8-A2BD-4C06-B6F7-2F3154A9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40546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0880-14DC-4AAC-8898-921EA653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3688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02B5-9FFE-4D8E-8023-E42B46A2D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8804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012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8804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012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2211-DC83-48D3-B3DD-FF08758BC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3E66-B79E-4E1B-98E3-411FEDAF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C63C-902C-4152-94CE-AEC5B813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FAAA-D8E3-4C93-A6F5-95AE4A15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AEFB-7CEE-4859-A9AE-0EE4EDA8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A5E5-A7FF-40DC-92AD-315CACFF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3688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9B2B-B99D-42A6-A425-79C37524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40546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FA59-D175-4977-A4B3-8442BDBB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96EE-E2F2-4D3A-95B2-F4A88C568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E725-4166-4DD9-AD1C-BEE6E5858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hyperlink" Target="http://tw.wrs.yahoo.com/;_ylt=AstCWaqXxdVGxy1Es4XKkmx21gt.;_ylu=X3oDMTA4NDgyNWN0BHNlYwNwcm9m/SIG=13c041tns/EXP=1128577307/**http%3A%2F%2Fivy.ingpim.com.tw%2Fohayo%2Fmedical%2Ftcms%2Fimages%2F&#32005;&#26839;1.jpg" TargetMode="External"/><Relationship Id="rId8" Type="http://schemas.openxmlformats.org/officeDocument/2006/relationships/hyperlink" Target="http://tw.wrs.yahoo.com/;_ylt=AstCWaqXxdVGxy1Es4XKkmx21gt.;_ylu=X3oDMTA4NDgyNWN0BHNlYwNwcm9m/SIG=13c041tns/EXP=1128577307/**http%3A%2F%2Fivy.ingpim.com.tw%2Fohayo%2Fmedical%2Ftcms%2Fimages%2F&#32005;&#26839;1.jpg" TargetMode="External"/><Relationship Id="rId9" Type="http://schemas.openxmlformats.org/officeDocument/2006/relationships/image" Target="../media/image26.jpeg"/><Relationship Id="rId10" Type="http://schemas.openxmlformats.org/officeDocument/2006/relationships/hyperlink" Target="http://news.xinhuanet.com/food/2005-06/30/xinsrc_51206023013118333076129.jpg" TargetMode="External"/><Relationship Id="rId11" Type="http://schemas.openxmlformats.org/officeDocument/2006/relationships/image" Target="../media/image27.jpeg"/><Relationship Id="rId12" Type="http://schemas.openxmlformats.org/officeDocument/2006/relationships/image" Target="../media/image28.gif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28.gif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hyperlink" Target="http://www.bj.chinanews.com.cn/news/2004/2005-03-04/1/_1109927762_3.jpg" TargetMode="External"/><Relationship Id="rId8" Type="http://schemas.openxmlformats.org/officeDocument/2006/relationships/image" Target="../media/image52.jpeg"/><Relationship Id="rId9" Type="http://schemas.openxmlformats.org/officeDocument/2006/relationships/image" Target="../media/image53.gif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tw.wrs.yahoo.com/;_ylt=ApLH51IwJNIgKkAaSaDD6t521gt.;_ylu=X3oDMTA4NDgyNWN0BHNlYwNwcm9m/SIG=13q3noj33/EXP=1131592020/**http%3A%2F%2Fwww.genting.com.my%2Fch%2Fleisure%2Fart_ent%2F2003%2Fmoremusic%2F5566%2Fimages%2F5566_2.jpg" TargetMode="External"/><Relationship Id="rId2" Type="http://schemas.openxmlformats.org/officeDocument/2006/relationships/image" Target="../media/image54.jpeg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image" Target="../media/image61.png"/><Relationship Id="rId8" Type="http://schemas.openxmlformats.org/officeDocument/2006/relationships/image" Target="../media/image62.gif"/><Relationship Id="rId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D0FD-4558-439C-AC54-2C2F06AC62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WordArt 6"/>
          <p:cNvSpPr txBox="1"/>
          <p:nvPr/>
        </p:nvSpPr>
        <p:spPr>
          <a:xfrm>
            <a:off x="304920" y="2286000"/>
            <a:ext cx="8229600" cy="838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文鼎海報體"/>
              </a:rPr>
              <a:t>慢性病防治與營養</a:t>
            </a:r>
            <a:endParaRPr b="0" i="1" lang="en-US" sz="1600" spc="1" strike="noStrike">
              <a:ln w="12600">
                <a:solidFill>
                  <a:srgbClr val="ffff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文鼎海報體"/>
              <a:ea typeface="文鼎海報體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0" y="4572000"/>
            <a:ext cx="48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99"/>
                </a:solidFill>
                <a:latin typeface="Times New Roman"/>
                <a:ea typeface="華康布丁體 Std W7"/>
              </a:rPr>
              <a:t>廖建智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99"/>
                </a:solidFill>
                <a:latin typeface="Times New Roman"/>
                <a:ea typeface="華康布丁體 Std W7"/>
              </a:rPr>
              <a:t>前花蓮縣衛生局技正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99"/>
                </a:solidFill>
                <a:latin typeface="Times New Roman"/>
                <a:ea typeface="華康布丁體 Std W7"/>
              </a:rPr>
              <a:t>洄瀾電視台健康百分百主持人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132D-E38B-460A-8EC7-9886A104C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2743200" y="1905120"/>
            <a:ext cx="243828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醣類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蛋白質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脂肪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維生素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礦物質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水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838080" y="609480"/>
            <a:ext cx="5486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7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營養素</a:t>
            </a:r>
            <a:endParaRPr b="0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0171-556E-490D-94D8-3C737D6C3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預防慢性病營養原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92000" y="1773000"/>
            <a:ext cx="661356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低油飲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low fat di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低膽固醇飲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low cholesterol di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低鹽飲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low salt di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高纖維飲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high fiber di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2C18-2BD3-4924-BC15-C65B11BD5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3817080" y="5184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怎麼吃最少油 ？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9907-A536-4A05-8231-9809A23AF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1823760" y="188280"/>
            <a:ext cx="38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※ 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降低脂肪的法寶 </a:t>
            </a: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※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696440" cy="2361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914400" y="3886200"/>
            <a:ext cx="7696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5C49-61B0-4375-B18B-1FB8BA75A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503520" y="475200"/>
            <a:ext cx="24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選擇適合的烹調方式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371600" y="1341360"/>
            <a:ext cx="6477120" cy="1812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1447920" y="3573360"/>
            <a:ext cx="647676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AF0C-4CDF-47B8-9809-AA940AE48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WordArt 2"/>
          <p:cNvSpPr txBox="1"/>
          <p:nvPr/>
        </p:nvSpPr>
        <p:spPr>
          <a:xfrm>
            <a:off x="838080" y="914400"/>
            <a:ext cx="6013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標楷體"/>
              </a:rPr>
              <a:t>膽固醇 血油異常</a:t>
            </a:r>
            <a:endParaRPr b="0" i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2895480" y="2743200"/>
            <a:ext cx="538164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cc0000"/>
                </a:solidFill>
                <a:latin typeface="Arial"/>
                <a:ea typeface="標楷體"/>
              </a:rPr>
              <a:t>動脈粥狀硬化主要原因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cc0000"/>
                </a:solidFill>
                <a:latin typeface="Arial"/>
                <a:ea typeface="標楷體"/>
              </a:rPr>
              <a:t>易罹患冠狀動脈心臟病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1320-9D09-4F09-85E5-F179F7F9E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過量反式脂肪酸"/>
          <p:cNvPicPr/>
          <p:nvPr/>
        </p:nvPicPr>
        <p:blipFill>
          <a:blip r:embed="rId1"/>
          <a:stretch/>
        </p:blipFill>
        <p:spPr>
          <a:xfrm>
            <a:off x="0" y="0"/>
            <a:ext cx="57546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6305040" y="620640"/>
            <a:ext cx="1918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減少反式脂肪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207480" y="1484280"/>
            <a:ext cx="239976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--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食品業者以植物油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為原料透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『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氫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』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處理產生之油脂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--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耐高溫、不易變質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存放更久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--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常吃此類食物易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cc0000"/>
                </a:solidFill>
                <a:latin typeface="Times New Roman"/>
                <a:ea typeface="標楷體"/>
              </a:rPr>
              <a:t>升高壞膽固醇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00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cc0000"/>
                </a:solidFill>
                <a:latin typeface="Times New Roman"/>
                <a:ea typeface="標楷體"/>
              </a:rPr>
              <a:t>降低好的膽固醇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A506-4EEE-4E46-98BD-CC4AAE93B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3049560" y="549360"/>
            <a:ext cx="3063960" cy="15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990000"/>
                </a:solidFill>
                <a:latin typeface="Times New Roman"/>
                <a:ea typeface="標楷體"/>
              </a:rPr>
              <a:t>減少膽固醇、三酸甘油酯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990000"/>
                </a:solidFill>
                <a:latin typeface="Times New Roman"/>
                <a:ea typeface="標楷體"/>
              </a:rPr>
              <a:t>改變烹調方法試試看</a:t>
            </a:r>
            <a:r>
              <a:rPr b="1" lang="en-US" sz="3800" spc="-1" strike="noStrike">
                <a:solidFill>
                  <a:srgbClr val="990000"/>
                </a:solidFill>
                <a:latin typeface="Times New Roman"/>
                <a:ea typeface="標楷體"/>
              </a:rPr>
              <a:t>!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14400" y="2286000"/>
          <a:ext cx="7545240" cy="4041720"/>
        </p:xfrm>
        <a:graphic>
          <a:graphicData uri="http://schemas.openxmlformats.org/drawingml/2006/table">
            <a:tbl>
              <a:tblPr/>
              <a:tblGrid>
                <a:gridCol w="3773520"/>
                <a:gridCol w="37717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e5815"/>
                          </a:solidFill>
                          <a:latin typeface="Times New Roman"/>
                          <a:ea typeface="標楷體"/>
                        </a:rPr>
                        <a:t>食品名稱</a:t>
                      </a:r>
                      <a:endParaRPr b="0" i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e5815"/>
                          </a:solidFill>
                          <a:latin typeface="Times New Roman"/>
                          <a:ea typeface="標楷體"/>
                        </a:rPr>
                        <a:t>減脂範例</a:t>
                      </a:r>
                      <a:endParaRPr b="0" i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炒飯、炒麵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白飯、糙米飯、壽司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煎豬排、炸豬排、梅干扣肉、炸獅子頭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烤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豬排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粉蒸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里肌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蒜泥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里肌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蔥爆牛肉、蠔油牛肉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烤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牛肉串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紅燒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牛肉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燉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牛肉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荷包蛋、炒蛋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滷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蛋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蒸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蛋、蛋花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湯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D7B3-ACB6-4D16-8A71-EA9910122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908000" y="549360"/>
            <a:ext cx="588672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38080" y="2565360"/>
          <a:ext cx="8001000" cy="2952720"/>
        </p:xfrm>
        <a:graphic>
          <a:graphicData uri="http://schemas.openxmlformats.org/drawingml/2006/table">
            <a:tbl>
              <a:tblPr/>
              <a:tblGrid>
                <a:gridCol w="4002120"/>
                <a:gridCol w="3998880"/>
              </a:tblGrid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e5815"/>
                          </a:solidFill>
                          <a:latin typeface="Times New Roman"/>
                          <a:ea typeface="標楷體"/>
                        </a:rPr>
                        <a:t>食品名稱</a:t>
                      </a:r>
                      <a:endParaRPr b="0" i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e5815"/>
                          </a:solidFill>
                          <a:latin typeface="Times New Roman"/>
                          <a:ea typeface="標楷體"/>
                        </a:rPr>
                        <a:t>減脂範例</a:t>
                      </a:r>
                      <a:endParaRPr b="0" i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炸魚片、炸魚排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魚湯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清蒸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魚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紅燒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魚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炸臭豆腐、麻婆豆腐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豆腐湯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涼拌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豆腐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炸蔬菜、乾煸四季豆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泡菜、蔬菜捲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滷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白菜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20"/>
          <p:cNvSpPr/>
          <p:nvPr/>
        </p:nvSpPr>
        <p:spPr>
          <a:xfrm>
            <a:off x="2124000" y="549360"/>
            <a:ext cx="5526000" cy="15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990000"/>
                </a:solidFill>
                <a:latin typeface="Times New Roman"/>
                <a:ea typeface="標楷體"/>
              </a:rPr>
              <a:t>減少膽固醇、三酸甘油酯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990000"/>
                </a:solidFill>
                <a:latin typeface="Times New Roman"/>
                <a:ea typeface="標楷體"/>
              </a:rPr>
              <a:t>改變烹調方法試試看</a:t>
            </a:r>
            <a:r>
              <a:rPr b="1" lang="en-US" sz="3800" spc="-1" strike="noStrike">
                <a:solidFill>
                  <a:srgbClr val="990000"/>
                </a:solidFill>
                <a:latin typeface="Times New Roman"/>
                <a:ea typeface="標楷體"/>
              </a:rPr>
              <a:t>!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0853-0403-4181-9B40-F29B4CE69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971640" y="2728800"/>
            <a:ext cx="7696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鈉是什麼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？</a:t>
            </a:r>
            <a:br>
              <a:rPr sz="2800"/>
            </a:b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鈉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是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礦物質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的一種，是人體調節生理機能不可或缺的元素。</a:t>
            </a:r>
            <a:r>
              <a:rPr b="1" i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攝取過多時，易罹患高血壓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攝取太少或缺乏時，會有疲勞、虛弱、倦怠的現象。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鈉可以從</a:t>
            </a:r>
            <a:r>
              <a:rPr b="1" lang="zh-TW" sz="2400" spc="-1" strike="noStrike" u="sng">
                <a:solidFill>
                  <a:srgbClr val="6600cc"/>
                </a:solidFill>
                <a:uFillTx/>
                <a:latin typeface="標楷體"/>
                <a:ea typeface="標楷體"/>
              </a:rPr>
              <a:t>自然食物</a:t>
            </a:r>
            <a:r>
              <a:rPr b="0" lang="zh-TW" sz="2400" spc="-1" strike="noStrike">
                <a:solidFill>
                  <a:srgbClr val="6600cc"/>
                </a:solidFill>
                <a:latin typeface="標楷體"/>
                <a:ea typeface="標楷體"/>
              </a:rPr>
              <a:t>、</a:t>
            </a:r>
            <a:r>
              <a:rPr b="1" lang="zh-TW" sz="2400" spc="-1" strike="noStrike" u="sng">
                <a:solidFill>
                  <a:srgbClr val="6600cc"/>
                </a:solidFill>
                <a:uFillTx/>
                <a:latin typeface="標楷體"/>
                <a:ea typeface="標楷體"/>
              </a:rPr>
              <a:t>加工食品</a:t>
            </a:r>
            <a:r>
              <a:rPr b="0" lang="zh-TW" sz="2400" spc="-1" strike="noStrike">
                <a:solidFill>
                  <a:srgbClr val="6600cc"/>
                </a:solidFill>
                <a:latin typeface="標楷體"/>
                <a:ea typeface="標楷體"/>
              </a:rPr>
              <a:t>、</a:t>
            </a:r>
            <a:r>
              <a:rPr b="1" lang="zh-TW" sz="2400" spc="-1" strike="noStrike" u="sng">
                <a:solidFill>
                  <a:srgbClr val="6600cc"/>
                </a:solidFill>
                <a:uFillTx/>
                <a:latin typeface="標楷體"/>
                <a:ea typeface="標楷體"/>
              </a:rPr>
              <a:t>調味品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或某些藥物中獲得，而其最主要來源是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食鹽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食鹽中約含有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標楷體"/>
              </a:rPr>
              <a:t>40%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的鈉，即</a:t>
            </a:r>
            <a:r>
              <a:rPr b="1" lang="zh-TW" sz="2400" spc="-1" strike="noStrike" u="sng">
                <a:solidFill>
                  <a:srgbClr val="0000cc"/>
                </a:solidFill>
                <a:uFillTx/>
                <a:latin typeface="標楷體"/>
                <a:ea typeface="標楷體"/>
              </a:rPr>
              <a:t>一公克食鹽中含有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Comic Sans MS"/>
                <a:ea typeface="標楷體"/>
              </a:rPr>
              <a:t>400</a:t>
            </a:r>
            <a:r>
              <a:rPr b="1" lang="zh-TW" sz="2400" spc="-1" strike="noStrike" u="sng">
                <a:solidFill>
                  <a:srgbClr val="0000cc"/>
                </a:solidFill>
                <a:uFillTx/>
                <a:latin typeface="標楷體"/>
                <a:ea typeface="標楷體"/>
              </a:rPr>
              <a:t>毫克的鈉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ff"/>
                </a:solidFill>
                <a:latin typeface="標楷體"/>
                <a:ea typeface="標楷體"/>
              </a:rPr>
              <a:t> 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348000" y="119700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6600cc"/>
                </a:solidFill>
                <a:latin typeface="Times New Roman"/>
                <a:ea typeface="標楷體"/>
              </a:rPr>
              <a:t>低鹽飲食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85D6-65C2-4DDB-9363-6D05AB282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941400" y="152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99"/>
                </a:solidFill>
                <a:latin typeface="Times New Roman"/>
              </a:rPr>
              <a:t>健康的挑戰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752480" y="1295280"/>
            <a:ext cx="457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近年追求健康的成果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癌症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心臟病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糖尿病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肥胖症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骨質疏鬆症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腎結石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自體免疫病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文明病暴增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4724280" y="1981080"/>
            <a:ext cx="231840" cy="3700440"/>
          </a:xfrm>
          <a:custGeom>
            <a:avLst/>
            <a:gdLst>
              <a:gd name="textAreaLeft" fmla="*/ 0 w 231840"/>
              <a:gd name="textAreaRight" fmla="*/ 83520 w 231840"/>
              <a:gd name="textAreaTop" fmla="*/ 96480 h 3700440"/>
              <a:gd name="textAreaBottom" fmla="*/ 3603960 h 370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9"/>
          <p:cNvSpPr/>
          <p:nvPr/>
        </p:nvSpPr>
        <p:spPr>
          <a:xfrm rot="16200000">
            <a:off x="5076720" y="3533760"/>
            <a:ext cx="550800" cy="493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6019920" y="2209680"/>
            <a:ext cx="609480" cy="33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00cc"/>
                </a:solidFill>
                <a:latin typeface="Times New Roman"/>
                <a:ea typeface="華康布丁體 Std W7"/>
              </a:rPr>
              <a:t>健康成為口號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1C24-B16D-447E-9D60-2A24B75FC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鈉過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76327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流行病學研究支持鈉與高血壓發生之相關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其他研究顯示，鹽分攝取會影響高血壓性腎臟疾病和腦血管疾病，尤其是對鹽敏感的人。因為目前無法立即確定對鹽的敏感性，且美國人之鹽分攝取，已大大的超過身體所需，建議其鹽分攝取應降低至每天不超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克以預防高血壓。故應儘可能減少烹調用鹽及用餐時額外加鹽，並避免高鹽分、加工產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1368-A9E6-416F-9F5A-0BBA6BE47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2467080" y="33336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 u="sng">
                <a:solidFill>
                  <a:srgbClr val="990033"/>
                </a:solidFill>
                <a:uFillTx/>
                <a:latin typeface="Arial"/>
                <a:ea typeface="標楷體"/>
              </a:rPr>
              <a:t>空腹血糖高常見的生活飲食習慣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237480" y="1268280"/>
            <a:ext cx="210996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飯</a:t>
            </a:r>
            <a:r>
              <a:rPr b="0" lang="zh-TW" sz="18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麵吃過量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喜歡喝飲料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水果吃到飽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4.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完全不運動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55640" y="4292640"/>
          <a:ext cx="7921800" cy="1650960"/>
        </p:xfrm>
        <a:graphic>
          <a:graphicData uri="http://schemas.openxmlformats.org/drawingml/2006/table">
            <a:tbl>
              <a:tblPr/>
              <a:tblGrid>
                <a:gridCol w="3960720"/>
                <a:gridCol w="3961080"/>
              </a:tblGrid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990033"/>
                          </a:solidFill>
                          <a:latin typeface="標楷體"/>
                          <a:ea typeface="標楷體"/>
                        </a:rPr>
                        <a:t>甜度高的水果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6600"/>
                          </a:solidFill>
                          <a:latin typeface="標楷體"/>
                          <a:ea typeface="標楷體"/>
                        </a:rPr>
                        <a:t>甜度低的水果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榴槤 釋迦 龍眼 荔枝 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甘蔗 芒果 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蘋果 蕃茄 水梨 奇異果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芭樂 西瓜 香蕉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0" name="Picture 15" descr="汽水"/>
          <p:cNvPicPr/>
          <p:nvPr/>
        </p:nvPicPr>
        <p:blipFill>
          <a:blip r:embed="rId1"/>
          <a:stretch/>
        </p:blipFill>
        <p:spPr>
          <a:xfrm>
            <a:off x="1116000" y="270828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C030"/>
          <p:cNvPicPr/>
          <p:nvPr/>
        </p:nvPicPr>
        <p:blipFill>
          <a:blip r:embed="rId2"/>
          <a:stretch/>
        </p:blipFill>
        <p:spPr>
          <a:xfrm>
            <a:off x="6012000" y="1557360"/>
            <a:ext cx="1296720" cy="1044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F016"/>
          <p:cNvPicPr/>
          <p:nvPr/>
        </p:nvPicPr>
        <p:blipFill>
          <a:blip r:embed="rId3"/>
          <a:stretch/>
        </p:blipFill>
        <p:spPr>
          <a:xfrm>
            <a:off x="6588000" y="2708280"/>
            <a:ext cx="1656000" cy="121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投影片編號版面配置區 6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BE8B-A0D6-4572-ADFA-CC0FF7CB8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蔬果份量要如何換算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5504040" cy="37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蔬菜類一份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約為生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公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大約是生的菜一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煮熟的菜半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水果類一份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約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~4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3600" spc="-1" strike="noStrike">
                <a:solidFill>
                  <a:srgbClr val="000099"/>
                </a:solidFill>
                <a:latin typeface="Times New Roman"/>
              </a:rPr>
              <a:t>切好後大約是半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80988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5" descr="167462369"/>
          <p:cNvPicPr/>
          <p:nvPr/>
        </p:nvPicPr>
        <p:blipFill>
          <a:blip r:embed="rId1"/>
          <a:srcRect l="7938" t="5619" r="8041" b="0"/>
          <a:stretch/>
        </p:blipFill>
        <p:spPr>
          <a:xfrm>
            <a:off x="5943600" y="2209680"/>
            <a:ext cx="2247840" cy="1654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467512765"/>
          <p:cNvPicPr/>
          <p:nvPr/>
        </p:nvPicPr>
        <p:blipFill>
          <a:blip r:embed="rId2"/>
          <a:stretch/>
        </p:blipFill>
        <p:spPr>
          <a:xfrm>
            <a:off x="5867280" y="4419720"/>
            <a:ext cx="24386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投影片編號版面配置區 7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59DC-C33C-455B-A1A5-C9D3FA749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蔬果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7</a:t>
            </a: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9 </a:t>
            </a: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要怎麼吃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53732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ff0000"/>
                </a:solidFill>
                <a:latin typeface="Times New Roman"/>
              </a:rPr>
              <a:t>女生</a:t>
            </a:r>
            <a:r>
              <a:rPr b="1" lang="zh-TW" sz="3400" spc="-1" strike="noStrike">
                <a:solidFill>
                  <a:srgbClr val="000000"/>
                </a:solidFill>
                <a:latin typeface="Times New Roman"/>
              </a:rPr>
              <a:t>每人每天要攝取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TW" sz="3400" spc="-1" strike="noStrike">
                <a:solidFill>
                  <a:srgbClr val="ff0000"/>
                </a:solidFill>
                <a:latin typeface="Times New Roman"/>
              </a:rPr>
              <a:t>份</a:t>
            </a:r>
            <a:r>
              <a:rPr b="1" lang="zh-TW" sz="3400" spc="-1" strike="noStrike">
                <a:solidFill>
                  <a:srgbClr val="000000"/>
                </a:solidFill>
                <a:latin typeface="Times New Roman"/>
              </a:rPr>
              <a:t>蔬菜和水果  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份蔬菜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+    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  <a:ea typeface="Arial"/>
              </a:rPr>
              <a:t>3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  <a:ea typeface="Arial"/>
              </a:rPr>
              <a:t>份水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份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4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個半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蔬菜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+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1.5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水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碗蔬菜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1.5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碗水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4" descr="167462369"/>
          <p:cNvPicPr/>
          <p:nvPr/>
        </p:nvPicPr>
        <p:blipFill>
          <a:blip r:embed="rId1"/>
          <a:stretch/>
        </p:blipFill>
        <p:spPr>
          <a:xfrm>
            <a:off x="1042920" y="5300640"/>
            <a:ext cx="1268640" cy="1020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167462369"/>
          <p:cNvPicPr/>
          <p:nvPr/>
        </p:nvPicPr>
        <p:blipFill>
          <a:blip r:embed="rId2"/>
          <a:stretch/>
        </p:blipFill>
        <p:spPr>
          <a:xfrm>
            <a:off x="2627280" y="5300640"/>
            <a:ext cx="1163520" cy="1062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467512765"/>
          <p:cNvPicPr/>
          <p:nvPr/>
        </p:nvPicPr>
        <p:blipFill>
          <a:blip r:embed="rId3"/>
          <a:stretch/>
        </p:blipFill>
        <p:spPr>
          <a:xfrm>
            <a:off x="5003640" y="5300640"/>
            <a:ext cx="1440000" cy="1081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467512765"/>
          <p:cNvPicPr/>
          <p:nvPr/>
        </p:nvPicPr>
        <p:blipFill>
          <a:blip r:embed="rId4"/>
          <a:stretch/>
        </p:blipFill>
        <p:spPr>
          <a:xfrm>
            <a:off x="6732720" y="5300640"/>
            <a:ext cx="1245960" cy="11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DC8F-0324-4E9D-85B4-85ECE01EC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蔬果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7</a:t>
            </a: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9 </a:t>
            </a: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要怎麼吃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39640" y="1413000"/>
            <a:ext cx="813600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男生每人每天要攝取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TW" sz="3600" spc="-1" strike="noStrike">
                <a:solidFill>
                  <a:srgbClr val="ff0000"/>
                </a:solidFill>
                <a:latin typeface="Arial"/>
              </a:rPr>
              <a:t>份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蔬菜和水果</a:t>
            </a:r>
            <a:r>
              <a:rPr b="1" lang="zh-TW" sz="3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i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1" lang="zh-TW" sz="3600" spc="-1" strike="noStrike">
                <a:solidFill>
                  <a:srgbClr val="000099"/>
                </a:solidFill>
                <a:latin typeface="Arial"/>
              </a:rPr>
              <a:t>份蔬菜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+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4</a:t>
            </a:r>
            <a:r>
              <a:rPr b="1" lang="zh-TW" sz="3600" spc="-1" strike="noStrike">
                <a:solidFill>
                  <a:srgbClr val="008000"/>
                </a:solidFill>
                <a:latin typeface="Arial"/>
                <a:ea typeface="Arial"/>
              </a:rPr>
              <a:t>份水果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份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5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個半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蔬菜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Arial"/>
              </a:rPr>
              <a:t>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(2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Arial"/>
              </a:rPr>
              <a:t>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Arial"/>
              </a:rPr>
              <a:t>切好水果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.5</a:t>
            </a:r>
            <a:r>
              <a:rPr b="1" lang="zh-TW" sz="3600" spc="-1" strike="noStrike">
                <a:solidFill>
                  <a:srgbClr val="000099"/>
                </a:solidFill>
                <a:latin typeface="Arial"/>
              </a:rPr>
              <a:t>碗蔬菜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1" lang="zh-TW" sz="3600" spc="-1" strike="noStrike">
                <a:solidFill>
                  <a:srgbClr val="008000"/>
                </a:solidFill>
                <a:latin typeface="Arial"/>
              </a:rPr>
              <a:t>碗切好水果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167462369"/>
          <p:cNvPicPr/>
          <p:nvPr/>
        </p:nvPicPr>
        <p:blipFill>
          <a:blip r:embed="rId1"/>
          <a:stretch/>
        </p:blipFill>
        <p:spPr>
          <a:xfrm>
            <a:off x="2286000" y="53341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167462369"/>
          <p:cNvPicPr/>
          <p:nvPr/>
        </p:nvPicPr>
        <p:blipFill>
          <a:blip r:embed="rId2"/>
          <a:stretch/>
        </p:blipFill>
        <p:spPr>
          <a:xfrm>
            <a:off x="4267080" y="5334120"/>
            <a:ext cx="144792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投影片編號版面配置區 6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F279-50F3-4DF7-AADF-4CF9761A8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51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611280" y="1628640"/>
            <a:ext cx="7696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除了力行蔬果天天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5 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、</a:t>
            </a:r>
            <a:r>
              <a:rPr b="1" lang="zh-TW" sz="28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7 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、</a:t>
            </a:r>
            <a:r>
              <a:rPr b="1" lang="zh-TW" sz="28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9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外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更需注意多攝取</a:t>
            </a:r>
            <a:r>
              <a:rPr b="1" lang="zh-TW" sz="3200" spc="-1" strike="noStrike">
                <a:solidFill>
                  <a:srgbClr val="ff0000"/>
                </a:solidFill>
                <a:latin typeface="Arial Narrow"/>
              </a:rPr>
              <a:t>各種顏色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的蔬菜水果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因為各種顏色的蔬果中富含了各種可以預防疾病的維他命及礦物質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。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蔬果的顏色大致可分為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紅</a:t>
            </a:r>
            <a:r>
              <a:rPr b="1" lang="zh-TW" sz="2800" spc="-1" strike="noStrike">
                <a:solidFill>
                  <a:srgbClr val="000099"/>
                </a:solidFill>
                <a:latin typeface="Arial Narrow"/>
              </a:rPr>
              <a:t>、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橙</a:t>
            </a:r>
            <a:r>
              <a:rPr b="1" lang="zh-TW" sz="2800" spc="-1" strike="noStrike">
                <a:solidFill>
                  <a:srgbClr val="000099"/>
                </a:solidFill>
                <a:latin typeface="Arial Narrow"/>
              </a:rPr>
              <a:t>、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黃</a:t>
            </a:r>
            <a:r>
              <a:rPr b="1" lang="zh-TW" sz="2800" spc="-1" strike="noStrike">
                <a:solidFill>
                  <a:srgbClr val="000099"/>
                </a:solidFill>
                <a:latin typeface="Arial Narrow"/>
              </a:rPr>
              <a:t>、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綠</a:t>
            </a:r>
            <a:r>
              <a:rPr b="1" lang="zh-TW" sz="2800" spc="-1" strike="noStrike">
                <a:solidFill>
                  <a:srgbClr val="000099"/>
                </a:solidFill>
                <a:latin typeface="Arial Narrow"/>
              </a:rPr>
              <a:t>、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藍</a:t>
            </a:r>
            <a:r>
              <a:rPr b="1" lang="zh-TW" sz="2800" spc="-1" strike="noStrike">
                <a:solidFill>
                  <a:srgbClr val="000099"/>
                </a:solidFill>
                <a:latin typeface="Arial Narrow"/>
              </a:rPr>
              <a:t>、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紫</a:t>
            </a:r>
            <a:r>
              <a:rPr b="1" lang="zh-TW" sz="2800" spc="-1" strike="noStrike">
                <a:solidFill>
                  <a:srgbClr val="000099"/>
                </a:solidFill>
                <a:latin typeface="Arial Narrow"/>
              </a:rPr>
              <a:t>、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白等七種顏色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好像雨後的彩虹一樣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，如果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我們每天能夠均衡攝取到這七種顏色的蔬菜和水果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就可以維持身體健康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這個攝食原理叫做</a:t>
            </a:r>
            <a:r>
              <a:rPr b="1" lang="zh-TW" sz="3200" spc="-1" strike="noStrike">
                <a:solidFill>
                  <a:srgbClr val="ff3300"/>
                </a:solidFill>
                <a:latin typeface="Arial Narrow"/>
              </a:rPr>
              <a:t>蔬果的彩虹攝食原則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。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5" descr="845610366"/>
          <p:cNvPicPr/>
          <p:nvPr/>
        </p:nvPicPr>
        <p:blipFill>
          <a:blip r:embed="rId1"/>
          <a:stretch/>
        </p:blipFill>
        <p:spPr>
          <a:xfrm>
            <a:off x="6781680" y="228600"/>
            <a:ext cx="2183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投影片編號版面配置區 7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9B32-B368-44AF-9DC4-B79413F59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5345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Times New Roman"/>
              </a:rPr>
              <a:t>紅色蔬果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蘋果、樱桃、西瓜、蕃茄、草莓、紅棗、枸杞</a:t>
            </a:r>
            <a:r>
              <a:rPr b="0" lang="zh-TW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ff33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875030428"/>
          <p:cNvPicPr/>
          <p:nvPr/>
        </p:nvPicPr>
        <p:blipFill>
          <a:blip r:embed="rId1"/>
          <a:stretch/>
        </p:blipFill>
        <p:spPr>
          <a:xfrm>
            <a:off x="1065240" y="2489040"/>
            <a:ext cx="1636560" cy="1600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1143895282"/>
          <p:cNvPicPr/>
          <p:nvPr/>
        </p:nvPicPr>
        <p:blipFill>
          <a:blip r:embed="rId2"/>
          <a:stretch/>
        </p:blipFill>
        <p:spPr>
          <a:xfrm>
            <a:off x="2924280" y="2558880"/>
            <a:ext cx="1616040" cy="16783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西瓜"/>
          <p:cNvPicPr/>
          <p:nvPr/>
        </p:nvPicPr>
        <p:blipFill>
          <a:blip r:embed="rId3"/>
          <a:stretch/>
        </p:blipFill>
        <p:spPr>
          <a:xfrm>
            <a:off x="611280" y="5013360"/>
            <a:ext cx="1981080" cy="1440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1293596610"/>
          <p:cNvPicPr/>
          <p:nvPr/>
        </p:nvPicPr>
        <p:blipFill>
          <a:blip r:embed="rId4"/>
          <a:stretch/>
        </p:blipFill>
        <p:spPr>
          <a:xfrm>
            <a:off x="4859280" y="2637000"/>
            <a:ext cx="2089080" cy="1600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草莓2"/>
          <p:cNvPicPr/>
          <p:nvPr/>
        </p:nvPicPr>
        <p:blipFill>
          <a:blip r:embed="rId5"/>
          <a:stretch/>
        </p:blipFill>
        <p:spPr>
          <a:xfrm>
            <a:off x="2987640" y="5084640"/>
            <a:ext cx="1652760" cy="1252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093"/>
          <p:cNvPicPr/>
          <p:nvPr/>
        </p:nvPicPr>
        <p:blipFill>
          <a:blip r:embed="rId6"/>
          <a:stretch/>
        </p:blipFill>
        <p:spPr>
          <a:xfrm>
            <a:off x="7164360" y="2708280"/>
            <a:ext cx="1752480" cy="144792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0"/>
          <p:cNvSpPr/>
          <p:nvPr/>
        </p:nvSpPr>
        <p:spPr>
          <a:xfrm>
            <a:off x="0" y="263376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72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11">
            <a:hlinkClick r:id="rId7"/>
          </p:cNvPr>
          <p:cNvSpPr/>
          <p:nvPr/>
        </p:nvSpPr>
        <p:spPr>
          <a:xfrm>
            <a:off x="3610080" y="2435400"/>
            <a:ext cx="19429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0" y="263376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72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3">
            <a:hlinkClick r:id="rId8"/>
          </p:cNvPr>
          <p:cNvSpPr/>
          <p:nvPr/>
        </p:nvSpPr>
        <p:spPr>
          <a:xfrm>
            <a:off x="3610080" y="2435400"/>
            <a:ext cx="19429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14" descr="2004611102133123"/>
          <p:cNvPicPr/>
          <p:nvPr/>
        </p:nvPicPr>
        <p:blipFill>
          <a:blip r:embed="rId9"/>
          <a:stretch/>
        </p:blipFill>
        <p:spPr>
          <a:xfrm>
            <a:off x="5076720" y="4869000"/>
            <a:ext cx="2057400" cy="1447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xinsrc_51206023013118333076129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236000" y="4869000"/>
            <a:ext cx="1676160" cy="1447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" descr="03"/>
          <p:cNvPicPr/>
          <p:nvPr/>
        </p:nvPicPr>
        <p:blipFill>
          <a:blip r:embed="rId12"/>
          <a:stretch/>
        </p:blipFill>
        <p:spPr>
          <a:xfrm>
            <a:off x="7924680" y="304920"/>
            <a:ext cx="6480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投影片編號版面配置區 6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13DF-2693-4512-97B8-3B549CFE3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497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TW" sz="4000" spc="-1" strike="noStrike">
                <a:solidFill>
                  <a:srgbClr val="ff0000"/>
                </a:solidFill>
                <a:latin typeface="Times New Roman"/>
              </a:rPr>
              <a:t>紅色蔬果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健康價值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紅色食物大多富含維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、胡蘿蔔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、花青素和茄紅素等營養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維護血管彈性，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使血液循環良好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，臉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自然紅潤，腦部血液暢通，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記憶力也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變好</a:t>
            </a:r>
            <a:r>
              <a:rPr b="0" lang="zh-TW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5" descr="08"/>
          <p:cNvPicPr/>
          <p:nvPr/>
        </p:nvPicPr>
        <p:blipFill>
          <a:blip r:embed="rId1"/>
          <a:stretch/>
        </p:blipFill>
        <p:spPr>
          <a:xfrm>
            <a:off x="3203640" y="5373720"/>
            <a:ext cx="107928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投影片編號版面配置區 7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A88A-1925-4FBD-BA93-310AF0E3C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59990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TW" sz="4000" spc="-1" strike="noStrike">
                <a:solidFill>
                  <a:srgbClr val="ff9900"/>
                </a:solidFill>
                <a:latin typeface="Times New Roman"/>
              </a:rPr>
              <a:t>黃色或橙色蔬果 </a:t>
            </a: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ff9900"/>
                </a:solidFill>
                <a:latin typeface="Times New Roman"/>
              </a:rPr>
              <a:t>紅蘿蔔、地瓜、胚芽米、玉米、柳丁、橘子、芒果、鳳梨、水梨、木瓜、檸檬、哈蜜瓜</a:t>
            </a:r>
            <a:r>
              <a:rPr b="0" lang="zh-TW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008"/>
          <p:cNvPicPr/>
          <p:nvPr/>
        </p:nvPicPr>
        <p:blipFill>
          <a:blip r:embed="rId1"/>
          <a:stretch/>
        </p:blipFill>
        <p:spPr>
          <a:xfrm>
            <a:off x="1065240" y="3857760"/>
            <a:ext cx="1752480" cy="1477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033"/>
          <p:cNvPicPr/>
          <p:nvPr/>
        </p:nvPicPr>
        <p:blipFill>
          <a:blip r:embed="rId2"/>
          <a:stretch/>
        </p:blipFill>
        <p:spPr>
          <a:xfrm>
            <a:off x="2195640" y="4869000"/>
            <a:ext cx="2041560" cy="1989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019"/>
          <p:cNvPicPr/>
          <p:nvPr/>
        </p:nvPicPr>
        <p:blipFill>
          <a:blip r:embed="rId3"/>
          <a:stretch/>
        </p:blipFill>
        <p:spPr>
          <a:xfrm>
            <a:off x="4788000" y="4869000"/>
            <a:ext cx="1727280" cy="1574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178197447"/>
          <p:cNvPicPr/>
          <p:nvPr/>
        </p:nvPicPr>
        <p:blipFill>
          <a:blip r:embed="rId4"/>
          <a:stretch/>
        </p:blipFill>
        <p:spPr>
          <a:xfrm>
            <a:off x="7315200" y="3429000"/>
            <a:ext cx="1523880" cy="838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465861598"/>
          <p:cNvPicPr/>
          <p:nvPr/>
        </p:nvPicPr>
        <p:blipFill>
          <a:blip r:embed="rId5"/>
          <a:stretch/>
        </p:blipFill>
        <p:spPr>
          <a:xfrm>
            <a:off x="7315200" y="4495680"/>
            <a:ext cx="1523880" cy="1152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1145547638"/>
          <p:cNvPicPr/>
          <p:nvPr/>
        </p:nvPicPr>
        <p:blipFill>
          <a:blip r:embed="rId6"/>
          <a:stretch/>
        </p:blipFill>
        <p:spPr>
          <a:xfrm>
            <a:off x="5715000" y="3505320"/>
            <a:ext cx="1378080" cy="1292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1469865740"/>
          <p:cNvPicPr/>
          <p:nvPr/>
        </p:nvPicPr>
        <p:blipFill>
          <a:blip r:embed="rId7"/>
          <a:stretch/>
        </p:blipFill>
        <p:spPr>
          <a:xfrm>
            <a:off x="6477120" y="5562720"/>
            <a:ext cx="1904760" cy="1295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地瓜1"/>
          <p:cNvPicPr/>
          <p:nvPr/>
        </p:nvPicPr>
        <p:blipFill>
          <a:blip r:embed="rId8"/>
          <a:stretch/>
        </p:blipFill>
        <p:spPr>
          <a:xfrm>
            <a:off x="2987640" y="3500280"/>
            <a:ext cx="2238480" cy="1667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339627805"/>
          <p:cNvPicPr/>
          <p:nvPr/>
        </p:nvPicPr>
        <p:blipFill>
          <a:blip r:embed="rId9"/>
          <a:stretch/>
        </p:blipFill>
        <p:spPr>
          <a:xfrm>
            <a:off x="6934320" y="685800"/>
            <a:ext cx="1904760" cy="1371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3" descr="03"/>
          <p:cNvPicPr/>
          <p:nvPr/>
        </p:nvPicPr>
        <p:blipFill>
          <a:blip r:embed="rId10"/>
          <a:stretch/>
        </p:blipFill>
        <p:spPr>
          <a:xfrm>
            <a:off x="900000" y="5489640"/>
            <a:ext cx="863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1814-339D-4108-A99A-961E74E49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79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TW" sz="4000" spc="-1" strike="noStrike">
                <a:solidFill>
                  <a:srgbClr val="ff9900"/>
                </a:solidFill>
                <a:latin typeface="Times New Roman"/>
              </a:rPr>
              <a:t>黃色或橙色蔬果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健康價值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黃色食物，多為五穀根莖澱粉類，比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地瓜、薏仁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主要含澱粉和糖，是能量的主要來源，人體若多攝取五穀類食物，獲得足夠的能量，以利內臟器官運作。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含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抗氧化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物質，如維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及胡蘿蔔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1A6C-BA90-4FF0-8F8D-0091F26E4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台灣地區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9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年十大主要死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惡性腫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1,046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心臟疾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,675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腦血管疾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134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肺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909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糖尿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211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事故傷害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,669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慢性下呼吸道疾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,197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8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慢性肝病及肝硬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,912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9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高血壓性疾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,174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0)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腎炎、腎徵症候群及腎性病變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,105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投影片編號版面配置區 7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9534-0E07-4C4E-AE3A-0BBABEF9D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61048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  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綠色蔬果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008000"/>
                </a:solidFill>
                <a:latin typeface="Times New Roman"/>
              </a:rPr>
              <a:t>蔥、菠菜、油菜、芥藍菜、青江菜、大黃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008000"/>
                </a:solidFill>
                <a:latin typeface="Times New Roman"/>
              </a:rPr>
              <a:t>青椒、高麗菜、空心菜、花椰菜、芹菜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008000"/>
                </a:solidFill>
                <a:latin typeface="Times New Roman"/>
              </a:rPr>
              <a:t>蘆筍、奇異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ff33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5" descr="1246813698"/>
          <p:cNvPicPr/>
          <p:nvPr/>
        </p:nvPicPr>
        <p:blipFill>
          <a:blip r:embed="rId1"/>
          <a:stretch/>
        </p:blipFill>
        <p:spPr>
          <a:xfrm>
            <a:off x="3056040" y="3714840"/>
            <a:ext cx="1401840" cy="1293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414516808"/>
          <p:cNvPicPr/>
          <p:nvPr/>
        </p:nvPicPr>
        <p:blipFill>
          <a:blip r:embed="rId2"/>
          <a:stretch/>
        </p:blipFill>
        <p:spPr>
          <a:xfrm>
            <a:off x="5076720" y="5229360"/>
            <a:ext cx="1524240" cy="1447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青花菜1"/>
          <p:cNvPicPr/>
          <p:nvPr/>
        </p:nvPicPr>
        <p:blipFill>
          <a:blip r:embed="rId3"/>
          <a:stretch/>
        </p:blipFill>
        <p:spPr>
          <a:xfrm>
            <a:off x="5003640" y="3573360"/>
            <a:ext cx="2016360" cy="1440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868343663"/>
          <p:cNvPicPr/>
          <p:nvPr/>
        </p:nvPicPr>
        <p:blipFill>
          <a:blip r:embed="rId4"/>
          <a:stretch/>
        </p:blipFill>
        <p:spPr>
          <a:xfrm>
            <a:off x="7093080" y="5157720"/>
            <a:ext cx="1600200" cy="1371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016"/>
          <p:cNvPicPr/>
          <p:nvPr/>
        </p:nvPicPr>
        <p:blipFill>
          <a:blip r:embed="rId5"/>
          <a:srcRect l="0" t="12062" r="0" b="10477"/>
          <a:stretch/>
        </p:blipFill>
        <p:spPr>
          <a:xfrm rot="565200">
            <a:off x="7497720" y="3735360"/>
            <a:ext cx="1381320" cy="1319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002"/>
          <p:cNvPicPr/>
          <p:nvPr/>
        </p:nvPicPr>
        <p:blipFill>
          <a:blip r:embed="rId6"/>
          <a:stretch/>
        </p:blipFill>
        <p:spPr>
          <a:xfrm>
            <a:off x="2700360" y="5157720"/>
            <a:ext cx="182880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投影片編號版面配置區 6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8751-F8F5-4D4B-9899-0B727A504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685800"/>
            <a:ext cx="66358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1342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  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綠色蔬果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健康價值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TW" sz="2800" spc="-1" strike="noStrike">
                <a:solidFill>
                  <a:srgbClr val="008000"/>
                </a:solidFill>
                <a:latin typeface="Times New Roman"/>
              </a:rPr>
              <a:t>綠色食物，尤其是深綠色食物，含有粗纖維、維生素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zh-TW" sz="2800" spc="-1" strike="noStrike">
                <a:solidFill>
                  <a:srgbClr val="008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zh-TW" sz="2800" spc="-1" strike="noStrike">
                <a:solidFill>
                  <a:srgbClr val="008000"/>
                </a:solidFill>
                <a:latin typeface="Times New Roman"/>
              </a:rPr>
              <a:t>群、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C</a:t>
            </a:r>
            <a:r>
              <a:rPr b="1" lang="zh-TW" sz="2800" spc="-1" strike="noStrike">
                <a:solidFill>
                  <a:srgbClr val="008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維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是一種重要的抗氧化劑，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幫助減低某些癌症和慢性病的發生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TW" sz="2800" spc="-1" strike="noStrike">
                <a:solidFill>
                  <a:srgbClr val="003399"/>
                </a:solidFill>
                <a:latin typeface="Times New Roman"/>
              </a:rPr>
              <a:t>維生素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A</a:t>
            </a:r>
            <a:r>
              <a:rPr b="1" lang="zh-TW" sz="2800" spc="-1" strike="noStrike">
                <a:solidFill>
                  <a:srgbClr val="003399"/>
                </a:solidFill>
                <a:latin typeface="Times New Roman"/>
              </a:rPr>
              <a:t>可強化眼睛功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維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群參與了能量代謝作用，與肝臟細胞營業素新陳代謝有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TW" sz="2800" spc="-1" strike="noStrike">
                <a:solidFill>
                  <a:srgbClr val="008000"/>
                </a:solidFill>
                <a:latin typeface="Times New Roman"/>
              </a:rPr>
              <a:t>多吃綠色蔬果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</a:rPr>
              <a:t>可滋養肝臟、膽、眼睛、筋骨肌肉等，可說有百益而無一害。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4" descr="054"/>
          <p:cNvPicPr/>
          <p:nvPr/>
        </p:nvPicPr>
        <p:blipFill>
          <a:blip r:embed="rId1"/>
          <a:stretch/>
        </p:blipFill>
        <p:spPr>
          <a:xfrm>
            <a:off x="7740720" y="836640"/>
            <a:ext cx="111600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投影片編號版面配置區 7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A5C4-EA90-41FF-ABF3-8EE7C45B0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259920"/>
            <a:ext cx="777240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  </a:t>
            </a:r>
            <a:r>
              <a:rPr b="1" lang="zh-TW" sz="4000" spc="-1" strike="noStrike">
                <a:solidFill>
                  <a:srgbClr val="cc00cc"/>
                </a:solidFill>
                <a:latin typeface="Times New Roman"/>
              </a:rPr>
              <a:t>紫色或藍黑色蔬果 </a:t>
            </a:r>
            <a:r>
              <a:rPr b="1" lang="en-US" sz="4000" spc="-1" strike="noStrike">
                <a:solidFill>
                  <a:srgbClr val="cc00cc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cc00cc"/>
                </a:solidFill>
                <a:latin typeface="Times New Roman"/>
              </a:rPr>
              <a:t>葡萄、葡萄乾、藍莓、茄子、加州李、桑椹、香菇、海帶、髮菜、黑木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4" descr="006"/>
          <p:cNvPicPr/>
          <p:nvPr/>
        </p:nvPicPr>
        <p:blipFill>
          <a:blip r:embed="rId1"/>
          <a:stretch/>
        </p:blipFill>
        <p:spPr>
          <a:xfrm>
            <a:off x="1330200" y="3137040"/>
            <a:ext cx="1646280" cy="2003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17600390"/>
          <p:cNvPicPr/>
          <p:nvPr/>
        </p:nvPicPr>
        <p:blipFill>
          <a:blip r:embed="rId2"/>
          <a:stretch/>
        </p:blipFill>
        <p:spPr>
          <a:xfrm>
            <a:off x="2895480" y="5181480"/>
            <a:ext cx="1828800" cy="14479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466116904"/>
          <p:cNvPicPr/>
          <p:nvPr/>
        </p:nvPicPr>
        <p:blipFill>
          <a:blip r:embed="rId3"/>
          <a:stretch/>
        </p:blipFill>
        <p:spPr>
          <a:xfrm>
            <a:off x="7086600" y="3276720"/>
            <a:ext cx="1752480" cy="16002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1248001977"/>
          <p:cNvPicPr/>
          <p:nvPr/>
        </p:nvPicPr>
        <p:blipFill>
          <a:blip r:embed="rId4"/>
          <a:stretch/>
        </p:blipFill>
        <p:spPr>
          <a:xfrm>
            <a:off x="4952880" y="5029200"/>
            <a:ext cx="1839960" cy="1523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1318870984"/>
          <p:cNvPicPr/>
          <p:nvPr/>
        </p:nvPicPr>
        <p:blipFill>
          <a:blip r:embed="rId5"/>
          <a:stretch/>
        </p:blipFill>
        <p:spPr>
          <a:xfrm>
            <a:off x="2895480" y="3352680"/>
            <a:ext cx="1828800" cy="1676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771944215"/>
          <p:cNvPicPr/>
          <p:nvPr/>
        </p:nvPicPr>
        <p:blipFill>
          <a:blip r:embed="rId6"/>
          <a:stretch/>
        </p:blipFill>
        <p:spPr>
          <a:xfrm>
            <a:off x="5029200" y="3429000"/>
            <a:ext cx="1828800" cy="1447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_1109927762_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10280" y="502920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08"/>
          <p:cNvPicPr/>
          <p:nvPr/>
        </p:nvPicPr>
        <p:blipFill>
          <a:blip r:embed="rId9"/>
          <a:stretch/>
        </p:blipFill>
        <p:spPr>
          <a:xfrm>
            <a:off x="971640" y="5300640"/>
            <a:ext cx="194292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投影片編號版面配置區 6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01CC-001B-4B89-9A99-FB2F39F94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98720" y="720720"/>
            <a:ext cx="66355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7201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  </a:t>
            </a:r>
            <a:r>
              <a:rPr b="1" lang="zh-TW" sz="3600" spc="-1" strike="noStrike">
                <a:solidFill>
                  <a:srgbClr val="cc00cc"/>
                </a:solidFill>
                <a:latin typeface="Times New Roman"/>
              </a:rPr>
              <a:t>紫色或藍黑色蔬果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健康價值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此類食物大多富含礦物質與微量元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香菇富含多醣體，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有抑制腫瘤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的作用，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可增加細胞免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上述舉例食物都含有不少的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鈣、鐵、硒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的元素，對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</a:rPr>
              <a:t>骨骼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成長非常有幫助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適量攝取能提昇免疫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</a:rPr>
              <a:t>有助加強記憶力、抗老化、</a:t>
            </a:r>
            <a:r>
              <a:rPr b="0" lang="zh-TW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</a:rPr>
              <a:t>降低癌症發生率功能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0" y="321624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72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5" descr="圖片預覽"/>
          <p:cNvPicPr/>
          <p:nvPr/>
        </p:nvPicPr>
        <p:blipFill>
          <a:blip r:embed="rId2"/>
          <a:stretch/>
        </p:blipFill>
        <p:spPr>
          <a:xfrm>
            <a:off x="6172200" y="4648320"/>
            <a:ext cx="2971800" cy="22096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03"/>
          <p:cNvPicPr/>
          <p:nvPr/>
        </p:nvPicPr>
        <p:blipFill>
          <a:blip r:embed="rId3"/>
          <a:stretch/>
        </p:blipFill>
        <p:spPr>
          <a:xfrm>
            <a:off x="7956720" y="1773360"/>
            <a:ext cx="86328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投影片編號版面配置區 7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F6FE-78C8-4238-9E86-505835D86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白色蔬果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白蘿蔔、冬瓜、竹筍、洋菇、金針菇、香蕉、芭樂 、西洋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4" descr="225709509"/>
          <p:cNvPicPr/>
          <p:nvPr/>
        </p:nvPicPr>
        <p:blipFill>
          <a:blip r:embed="rId1"/>
          <a:stretch/>
        </p:blipFill>
        <p:spPr>
          <a:xfrm>
            <a:off x="7238880" y="2819520"/>
            <a:ext cx="1657440" cy="19047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015"/>
          <p:cNvPicPr/>
          <p:nvPr/>
        </p:nvPicPr>
        <p:blipFill>
          <a:blip r:embed="rId2"/>
          <a:stretch/>
        </p:blipFill>
        <p:spPr>
          <a:xfrm>
            <a:off x="1131840" y="3137040"/>
            <a:ext cx="1684440" cy="1655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116342815"/>
          <p:cNvPicPr/>
          <p:nvPr/>
        </p:nvPicPr>
        <p:blipFill>
          <a:blip r:embed="rId3"/>
          <a:stretch/>
        </p:blipFill>
        <p:spPr>
          <a:xfrm>
            <a:off x="2743200" y="3352680"/>
            <a:ext cx="1905120" cy="13734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320352185"/>
          <p:cNvPicPr/>
          <p:nvPr/>
        </p:nvPicPr>
        <p:blipFill>
          <a:blip r:embed="rId4"/>
          <a:stretch/>
        </p:blipFill>
        <p:spPr>
          <a:xfrm>
            <a:off x="2743200" y="495288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1152694256"/>
          <p:cNvPicPr/>
          <p:nvPr/>
        </p:nvPicPr>
        <p:blipFill>
          <a:blip r:embed="rId5"/>
          <a:stretch/>
        </p:blipFill>
        <p:spPr>
          <a:xfrm>
            <a:off x="4932360" y="3284640"/>
            <a:ext cx="2077920" cy="15159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1093358138"/>
          <p:cNvPicPr/>
          <p:nvPr/>
        </p:nvPicPr>
        <p:blipFill>
          <a:blip r:embed="rId6"/>
          <a:stretch/>
        </p:blipFill>
        <p:spPr>
          <a:xfrm>
            <a:off x="7238880" y="5029200"/>
            <a:ext cx="1600200" cy="1523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0" descr="15652"/>
          <p:cNvPicPr/>
          <p:nvPr/>
        </p:nvPicPr>
        <p:blipFill>
          <a:blip r:embed="rId7"/>
          <a:stretch/>
        </p:blipFill>
        <p:spPr>
          <a:xfrm>
            <a:off x="4952880" y="4952880"/>
            <a:ext cx="1981440" cy="16495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1" descr="010"/>
          <p:cNvPicPr/>
          <p:nvPr/>
        </p:nvPicPr>
        <p:blipFill>
          <a:blip r:embed="rId8"/>
          <a:stretch/>
        </p:blipFill>
        <p:spPr>
          <a:xfrm>
            <a:off x="1116000" y="5157720"/>
            <a:ext cx="11523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6351-BBE9-4E0D-8940-610DB2AB6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0769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c0c0"/>
                </a:solidFill>
                <a:latin typeface="Times New Roman"/>
              </a:rPr>
              <a:t>  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白色蔬果健康價值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冬瓜含水份及水溶性纖維，可滋潤皮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竹筍含粗纖維，能加速大腸蠕動，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幫助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排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降低癌症發生率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促進心臟健康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維持膽固醇指數正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1"/>
          <a:stretch/>
        </p:blipFill>
        <p:spPr>
          <a:xfrm>
            <a:off x="5486400" y="3581280"/>
            <a:ext cx="23335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5F14-7D68-4C13-AA3A-223C3D07D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71048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99"/>
                </a:solidFill>
                <a:latin typeface="Times New Roman"/>
              </a:rPr>
              <a:t>蔬果天天 </a:t>
            </a: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0" lang="zh-TW" sz="4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7</a:t>
            </a:r>
            <a:r>
              <a:rPr b="0" lang="zh-TW" sz="4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9</a:t>
            </a:r>
            <a:br>
              <a:rPr sz="4800"/>
            </a:br>
            <a:r>
              <a:rPr b="0" lang="zh-TW" sz="4800" spc="-1" strike="noStrike">
                <a:solidFill>
                  <a:srgbClr val="000099"/>
                </a:solidFill>
                <a:latin typeface="Times New Roman"/>
              </a:rPr>
              <a:t>健康改造生活口訣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早餐蔬果汁爽口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再吃地瓜和水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下課果乾當零嘴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午餐青菜一定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TW" sz="3600" spc="-1" strike="noStrike">
                <a:solidFill>
                  <a:srgbClr val="cc3300"/>
                </a:solidFill>
                <a:latin typeface="Times New Roman"/>
              </a:rPr>
              <a:t>午茶來根紅蘿蔔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餐前蔬果不會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zh-TW" sz="3600" spc="-1" strike="noStrike">
                <a:solidFill>
                  <a:srgbClr val="009900"/>
                </a:solidFill>
                <a:latin typeface="Times New Roman"/>
              </a:rPr>
              <a:t>生菜沙拉不怕多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 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份量不忘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7.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拒絕檳榔和菸酒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生活改造健康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4" descr="m-1"/>
          <p:cNvPicPr/>
          <p:nvPr/>
        </p:nvPicPr>
        <p:blipFill>
          <a:blip r:embed="rId1"/>
          <a:stretch/>
        </p:blipFill>
        <p:spPr>
          <a:xfrm>
            <a:off x="3581280" y="5257800"/>
            <a:ext cx="2514600" cy="16002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5"/>
          <p:cNvSpPr/>
          <p:nvPr/>
        </p:nvSpPr>
        <p:spPr>
          <a:xfrm>
            <a:off x="0" y="262728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72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6" descr="圖片預覽"/>
          <p:cNvPicPr/>
          <p:nvPr/>
        </p:nvPicPr>
        <p:blipFill>
          <a:blip r:embed="rId2"/>
          <a:stretch/>
        </p:blipFill>
        <p:spPr>
          <a:xfrm>
            <a:off x="0" y="5257800"/>
            <a:ext cx="2664000" cy="160020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7"/>
          <p:cNvSpPr/>
          <p:nvPr/>
        </p:nvSpPr>
        <p:spPr>
          <a:xfrm>
            <a:off x="0" y="262728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72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8" descr="圖片預覽"/>
          <p:cNvPicPr/>
          <p:nvPr/>
        </p:nvPicPr>
        <p:blipFill>
          <a:blip r:embed="rId3"/>
          <a:stretch/>
        </p:blipFill>
        <p:spPr>
          <a:xfrm>
            <a:off x="6705720" y="5334120"/>
            <a:ext cx="220968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5010-E4C5-4E75-9A8F-112407DC4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21</a:t>
            </a:r>
            <a:r>
              <a:rPr b="0" lang="zh-TW" sz="4800" spc="-1" strike="noStrike">
                <a:solidFill>
                  <a:srgbClr val="000099"/>
                </a:solidFill>
                <a:latin typeface="Times New Roman"/>
              </a:rPr>
              <a:t>世紀健康用餐十守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先吃蔬菜再吃肉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肉類蛋白豆類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蔬菜雜糧纖維多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菇類蔥蒜樣樣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可見脂肪要</a:t>
            </a:r>
            <a:r>
              <a:rPr b="1" lang="en-US" sz="3600" spc="-1" strike="noStrike">
                <a:solidFill>
                  <a:srgbClr val="000000"/>
                </a:solidFill>
                <a:latin typeface="新細明體"/>
              </a:rPr>
              <a:t>say no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外皮肥肉要挑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少吃醃燻和燒烤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蒸煮清燉最爽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少碰甜點不會錯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天天蔬果健康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4" descr="200572016263"/>
          <p:cNvPicPr/>
          <p:nvPr/>
        </p:nvPicPr>
        <p:blipFill>
          <a:blip r:embed="rId1"/>
          <a:stretch/>
        </p:blipFill>
        <p:spPr>
          <a:xfrm>
            <a:off x="0" y="5181480"/>
            <a:ext cx="2743200" cy="16765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chef002"/>
          <p:cNvPicPr/>
          <p:nvPr/>
        </p:nvPicPr>
        <p:blipFill>
          <a:blip r:embed="rId2"/>
          <a:stretch/>
        </p:blipFill>
        <p:spPr>
          <a:xfrm>
            <a:off x="5562720" y="5181480"/>
            <a:ext cx="2286000" cy="16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FB4B-95BC-4354-A413-D74B194AE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2" descr="background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3"/>
          <p:cNvSpPr/>
          <p:nvPr/>
        </p:nvSpPr>
        <p:spPr>
          <a:xfrm>
            <a:off x="0" y="762120"/>
            <a:ext cx="655308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TW" sz="4400" spc="-1" strike="noStrike">
                <a:solidFill>
                  <a:srgbClr val="6600cc"/>
                </a:solidFill>
                <a:latin typeface="華康布丁體 Std W7"/>
                <a:ea typeface="華康布丁體 Std W7"/>
              </a:rPr>
              <a:t>健康百分百  人生才精采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華康布丁體 Std W7"/>
                <a:ea typeface="華康布丁體 Std W7"/>
              </a:rPr>
              <a:t> </a:t>
            </a:r>
            <a:r>
              <a:rPr b="1" lang="zh-TW" sz="3600" spc="-1" strike="noStrike">
                <a:solidFill>
                  <a:srgbClr val="ff0000"/>
                </a:solidFill>
                <a:latin typeface="華康布丁體 Std W7"/>
                <a:ea typeface="華康布丁體 Std W7"/>
              </a:rPr>
              <a:t>謝謝聆聽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華康布丁體 Std W7"/>
                <a:ea typeface="華康布丁體 Std W7"/>
              </a:rPr>
              <a:t> </a:t>
            </a:r>
            <a:r>
              <a:rPr b="1" lang="zh-TW" sz="3600" spc="-1" strike="noStrike">
                <a:solidFill>
                  <a:srgbClr val="ff9900"/>
                </a:solidFill>
                <a:latin typeface="華康布丁體 Std W7"/>
                <a:ea typeface="華康布丁體 Std W7"/>
              </a:rPr>
              <a:t>祝 活得健康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華康布丁體 Std W7"/>
                <a:ea typeface="華康布丁體 Std W7"/>
              </a:rPr>
              <a:t>       </a:t>
            </a:r>
            <a:r>
              <a:rPr b="1" lang="zh-TW" sz="3600" spc="-1" strike="noStrike">
                <a:solidFill>
                  <a:srgbClr val="0033cc"/>
                </a:solidFill>
                <a:latin typeface="華康布丁體 Std W7"/>
                <a:ea typeface="華康布丁體 Std W7"/>
              </a:rPr>
              <a:t>活得快樂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華康布丁體 Std W7"/>
                <a:ea typeface="華康布丁體 Std W7"/>
              </a:rPr>
              <a:t>          </a:t>
            </a:r>
            <a:r>
              <a:rPr b="1" lang="zh-TW" sz="3600" spc="-1" strike="noStrike">
                <a:solidFill>
                  <a:srgbClr val="990099"/>
                </a:solidFill>
                <a:latin typeface="華康布丁體 Std W7"/>
                <a:ea typeface="華康布丁體 Std W7"/>
              </a:rPr>
              <a:t>活得自在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5426-99D8-492D-BB99-AE255A113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台灣地區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9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年十大主要癌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氣管、支氣管和肺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.0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肝和肝內膽管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.9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結腸、直腸和肛門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.4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女性乳房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2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口腔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8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胃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5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7)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前列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攝護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5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8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食道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8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9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胰臟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6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0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子宮頸及部位未明示子宮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7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12BC-56DC-47FD-94DD-83E83BBFB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花蓮縣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9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年十大主要死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52480" y="1447920"/>
            <a:ext cx="5639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惡性腫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心臟疾病（高血壓性疾病除外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腦血管疾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事故傷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肺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糖尿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慢性肝病及肝硬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高血壓性疾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慢性下呼吸道疾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敗血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5156-8952-4D5C-997B-9BC2F3656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380880" y="304920"/>
            <a:ext cx="754380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飲食不均衡與慢性病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飽和脂肪酸與癌症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D:\Documents and Settings\pctest\桌面\File0127.jpg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9C6B-BAA2-475A-958C-605A19202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0880" y="0"/>
            <a:ext cx="754380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飲食不均衡與慢性病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膽固醇過高與動脈硬化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D:\Documents and Settings\pctest\桌面\File0126.jpg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A250-BF3A-48B7-BD52-1C39C343E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380880" y="304920"/>
            <a:ext cx="754380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飲食不均衡與慢性病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蔗糖吃過多與蛀牙、龋齒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素食者與營養不均衡、骨質疏鬆症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" descr="D:\Documents and Settings\pctest\桌面\File0128.jpg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BDF1-2168-4794-8378-723223F2C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457200" y="0"/>
            <a:ext cx="754380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飲食不均衡與慢性病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食物精緻與大腸病變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D:\Documents and Settings\pctest\桌面\File0129.jpg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廖容瑜</cp:lastModifiedBy>
  <dcterms:modified xsi:type="dcterms:W3CDTF">2011-11-20T03:40:14Z</dcterms:modified>
  <cp:revision>9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