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12920" y="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87120" y="766800"/>
            <a:ext cx="511164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1292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9AD-831D-47A7-8C1B-E6336AA14D4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249B-AAAD-4F8A-BE92-5B70BE574AA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26DA-E3E2-4CC1-A2F8-2DBE4D4A0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3B0-C254-414F-85F5-2BA20410F47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0229-C13B-453D-984B-A2C36E91F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BC09-949F-47B8-8436-A51134D4730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2995-208E-4FA1-9622-E92F5A93E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2EF9-7409-4409-A807-2EA18E75FF5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FB95-9711-4527-89AC-333CF93E8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53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E881-F24C-4083-9B79-F05641179ED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99C-81D5-4FA0-A3CA-57C23AA785D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59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BC7-EC16-4881-BF99-DEB2F1BC0B1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9464-D938-46A7-BF1F-E915440195C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65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2252-2330-4467-BCEA-1A10267DF69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5656-8E07-4699-9DE6-F501F58EA92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FB47-1E69-42C9-8088-F61739CC856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1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0718-5194-483B-8B0D-6E362FCBFBD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4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644-3F16-40D0-99FA-48C68D4FA0C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7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0AE-BEFD-4926-B1F5-CA7D7D2478A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80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8CC9-08F3-4BFC-9359-74F8BCD7160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83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1D49-678F-4DD3-80AA-FE7E38B8A98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86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63EA-2912-436D-A4A8-2DFFE968BE7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89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6B0B-F97C-48B7-BBF6-D3FE7B70441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92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C4F4-5A4F-4BE1-A7E1-451EC98A521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95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5264-BB4F-4BE0-949F-AEC2FCE9019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22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A5B3-8915-4A54-BC88-DB75C4B9881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98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0637-A8CE-4686-863B-6873E7C3136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01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EF52-D58E-48B2-BE40-17BDAB56EAE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04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67A8-05DE-4ED7-AC97-CB6A7150B2A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07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7D7-871E-4C9B-B276-7C2C79FE01D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25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5196-A209-4DEB-B3E5-ADB3F262203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28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6DFE-5D56-448E-9A89-451831B2F9F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1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431A-5203-47B4-9640-20EE1CDFF2E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54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7760" y="48574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13280" y="9710640"/>
            <a:ext cx="307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65F7-2DBA-41A2-86B9-91CAF74B703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D807-4C02-4BA7-9CDF-C59F5E6D1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53E9-6B41-48FB-AB61-9FF7C7B33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D465-7C5E-4A1B-91E5-3E2E2023D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1484-19E8-4CB3-8370-3577D1674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A653-531E-4904-B6EE-5CEFD3C456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999A-72F8-41D4-B09A-C4AB8DB813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5DE0-E029-4A08-B20E-E2A34F9EF7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5E43-39C5-4B24-95F3-7897714495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06BE-9284-480E-8D63-1ABBDE1A06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A4D1-EE70-4944-886C-54F7A8E510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E9C0-B000-4414-AF2C-F8E792E64F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9222-7A6A-42DB-AF0E-31A90D51E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961B-D0F5-4F18-BFB6-BE802C6B6F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7A1F-D155-4AA9-ADFA-26998C805F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C9A9-D8BD-460D-B430-DAAC014770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B960-4917-49EC-A67F-9D2182DAA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2949-5E81-4BF4-A6F5-8432FEC22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7241-F6CD-461B-BC7F-CE334E9E3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C2D8-8CC1-435C-A113-22E9A85F8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C72B-6B87-4C60-9057-41AA00E00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BDC6-D596-41A3-B9E9-41323564E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CE3E-D616-4A57-8FB9-CE6B3981A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4FBA-A117-4F13-8B58-2006A39AB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529B-A5A9-47A6-B256-2B44276F0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8"/>
          <p:cNvSpPr/>
          <p:nvPr/>
        </p:nvSpPr>
        <p:spPr>
          <a:xfrm>
            <a:off x="0" y="723960"/>
            <a:ext cx="9144000" cy="1238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3"/>
          <p:cNvSpPr/>
          <p:nvPr/>
        </p:nvSpPr>
        <p:spPr>
          <a:xfrm>
            <a:off x="0" y="0"/>
            <a:ext cx="6867360" cy="72396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126"/>
          <p:cNvSpPr/>
          <p:nvPr/>
        </p:nvSpPr>
        <p:spPr>
          <a:xfrm>
            <a:off x="-12600" y="343080"/>
            <a:ext cx="6032520" cy="679320"/>
          </a:xfrm>
          <a:custGeom>
            <a:avLst/>
            <a:gdLst>
              <a:gd name="textAreaLeft" fmla="*/ 0 w 6032520"/>
              <a:gd name="textAreaRight" fmla="*/ 6032880 w 6032520"/>
              <a:gd name="textAreaTop" fmla="*/ 0 h 679320"/>
              <a:gd name="textAreaBottom" fmla="*/ 679320 h 679320"/>
            </a:gdLst>
            <a:ahLst/>
            <a:rect l="textAreaLeft" t="textAreaTop" r="textAreaRight" b="textAreaBottom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E8E9-DCD2-4303-AD08-F8D6045A083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4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9" descr="8"/>
          <p:cNvPicPr/>
          <p:nvPr/>
        </p:nvPicPr>
        <p:blipFill>
          <a:blip r:embed="rId2"/>
          <a:stretch/>
        </p:blipFill>
        <p:spPr>
          <a:xfrm>
            <a:off x="7640640" y="782640"/>
            <a:ext cx="150336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80"/>
          <p:cNvSpPr/>
          <p:nvPr/>
        </p:nvSpPr>
        <p:spPr>
          <a:xfrm>
            <a:off x="6873840" y="0"/>
            <a:ext cx="776160" cy="72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81"/>
          <p:cNvSpPr/>
          <p:nvPr/>
        </p:nvSpPr>
        <p:spPr>
          <a:xfrm>
            <a:off x="7647120" y="1440"/>
            <a:ext cx="738000" cy="723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82"/>
          <p:cNvSpPr/>
          <p:nvPr/>
        </p:nvSpPr>
        <p:spPr>
          <a:xfrm>
            <a:off x="8388360" y="0"/>
            <a:ext cx="755640" cy="722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3"/>
          <p:cNvSpPr/>
          <p:nvPr/>
        </p:nvSpPr>
        <p:spPr>
          <a:xfrm>
            <a:off x="7643880" y="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84"/>
          <p:cNvSpPr/>
          <p:nvPr/>
        </p:nvSpPr>
        <p:spPr>
          <a:xfrm>
            <a:off x="8386920" y="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94" descr="06"/>
          <p:cNvPicPr/>
          <p:nvPr/>
        </p:nvPicPr>
        <p:blipFill>
          <a:blip r:embed="rId2"/>
          <a:stretch/>
        </p:blipFill>
        <p:spPr>
          <a:xfrm>
            <a:off x="0" y="2516040"/>
            <a:ext cx="9144000" cy="2970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88"/>
          <p:cNvSpPr/>
          <p:nvPr/>
        </p:nvSpPr>
        <p:spPr>
          <a:xfrm>
            <a:off x="0" y="2797200"/>
            <a:ext cx="9144000" cy="275436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848720" y="5943600"/>
            <a:ext cx="106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91"/>
          <p:cNvSpPr/>
          <p:nvPr/>
        </p:nvSpPr>
        <p:spPr>
          <a:xfrm>
            <a:off x="0" y="0"/>
            <a:ext cx="3048120" cy="280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92"/>
          <p:cNvSpPr/>
          <p:nvPr/>
        </p:nvSpPr>
        <p:spPr>
          <a:xfrm>
            <a:off x="3048120" y="0"/>
            <a:ext cx="3124080" cy="2800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3"/>
          <p:cNvSpPr/>
          <p:nvPr/>
        </p:nvSpPr>
        <p:spPr>
          <a:xfrm>
            <a:off x="6172200" y="0"/>
            <a:ext cx="2971800" cy="2800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4723920" y="65527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82E3-2E9A-4243-85BB-4D5D78A1DA1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3" descr="8"/>
          <p:cNvPicPr/>
          <p:nvPr/>
        </p:nvPicPr>
        <p:blipFill>
          <a:blip r:embed="rId1"/>
          <a:stretch/>
        </p:blipFill>
        <p:spPr>
          <a:xfrm>
            <a:off x="108000" y="4751280"/>
            <a:ext cx="5751360" cy="209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logo2"/>
          <p:cNvPicPr/>
          <p:nvPr/>
        </p:nvPicPr>
        <p:blipFill>
          <a:blip r:embed="rId2"/>
          <a:stretch/>
        </p:blipFill>
        <p:spPr>
          <a:xfrm>
            <a:off x="8273880" y="5989680"/>
            <a:ext cx="870120" cy="868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892080" y="2349360"/>
            <a:ext cx="79250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花蓮縣教師專業發展評鑑</a:t>
            </a:r>
            <a:br>
              <a:rPr sz="5400"/>
            </a:br>
            <a:r>
              <a:rPr b="1" lang="zh-TW" sz="5400" spc="-1" strike="noStrike">
                <a:solidFill>
                  <a:srgbClr val="002060"/>
                </a:solidFill>
                <a:latin typeface="標楷體"/>
                <a:ea typeface="標楷體"/>
              </a:rPr>
              <a:t>申辦說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東華附小 連安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102.02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字方塊 4"/>
          <p:cNvSpPr/>
          <p:nvPr/>
        </p:nvSpPr>
        <p:spPr>
          <a:xfrm>
            <a:off x="5508720" y="573264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資料來源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修改自教師專業發展評鑑網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教專計畫辦理計畫與申請流程圖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rcRect l="24060" t="21081" r="12092" b="5367"/>
          <a:stretch/>
        </p:blipFill>
        <p:spPr>
          <a:xfrm>
            <a:off x="395280" y="870120"/>
            <a:ext cx="831708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023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申辦期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84360" y="4221000"/>
            <a:ext cx="309708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學校線上填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申辦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9640" y="3068640"/>
            <a:ext cx="3168720" cy="503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參與申辦說明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2112840" y="5516640"/>
            <a:ext cx="648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205092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205092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539640" y="1916280"/>
            <a:ext cx="2986200" cy="576000"/>
          </a:xfrm>
          <a:prstGeom prst="hexagon">
            <a:avLst>
              <a:gd name="adj" fmla="val 115616"/>
              <a:gd name="vf" fmla="val 11547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公布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1638360" y="6021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（接下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5219640" y="907920"/>
            <a:ext cx="1871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1042920" y="907920"/>
            <a:ext cx="2160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歷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4284720" y="1771560"/>
            <a:ext cx="439092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10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正式公告當年度申辦表格及規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1"/>
          <p:cNvSpPr/>
          <p:nvPr/>
        </p:nvSpPr>
        <p:spPr>
          <a:xfrm>
            <a:off x="4284720" y="2862360"/>
            <a:ext cx="453528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縣市政府辦理申辦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1"/>
          <p:cNvSpPr/>
          <p:nvPr/>
        </p:nvSpPr>
        <p:spPr>
          <a:xfrm>
            <a:off x="4284720" y="4005360"/>
            <a:ext cx="4537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學校於</a:t>
            </a:r>
            <a:r>
              <a:rPr b="0" lang="en-US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19</a:t>
            </a:r>
            <a:r>
              <a:rPr b="0" lang="zh-TW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日</a:t>
            </a:r>
            <a:r>
              <a:rPr b="0" lang="en-US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-3</a:t>
            </a:r>
            <a:r>
              <a:rPr b="0" lang="zh-TW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22</a:t>
            </a:r>
            <a:r>
              <a:rPr b="0" lang="zh-TW" sz="2400" spc="-1" strike="noStrike">
                <a:solidFill>
                  <a:srgbClr val="cc00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完成校務會議</a:t>
            </a:r>
            <a:r>
              <a:rPr b="0" lang="en-US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課發會</a:t>
            </a:r>
            <a:r>
              <a:rPr b="0" lang="en-US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2060"/>
                </a:solidFill>
                <a:latin typeface="標楷體"/>
                <a:ea typeface="標楷體"/>
              </a:rPr>
              <a:t>提案或報告案後，並進行線上申請作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4356000" y="5445000"/>
            <a:ext cx="1224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校務會議</a:t>
            </a:r>
            <a:r>
              <a:rPr b="0" lang="en-US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課發會</a:t>
            </a:r>
            <a:r>
              <a:rPr b="0" lang="en-US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提案通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向右箭號 17"/>
          <p:cNvSpPr/>
          <p:nvPr/>
        </p:nvSpPr>
        <p:spPr>
          <a:xfrm>
            <a:off x="5651640" y="5732640"/>
            <a:ext cx="21564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a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40360" y="5445000"/>
            <a:ext cx="1224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成立推動小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7524720" y="5445000"/>
            <a:ext cx="1224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推動小組審查計畫通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向右箭號 20"/>
          <p:cNvSpPr/>
          <p:nvPr/>
        </p:nvSpPr>
        <p:spPr>
          <a:xfrm>
            <a:off x="7236000" y="5732640"/>
            <a:ext cx="21564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a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8"/>
          <p:cNvSpPr/>
          <p:nvPr/>
        </p:nvSpPr>
        <p:spPr>
          <a:xfrm>
            <a:off x="1619280" y="5834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（接下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5292720" y="981000"/>
            <a:ext cx="1871640" cy="40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68360" y="2000160"/>
            <a:ext cx="3166920" cy="532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學校提送申辦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1171440" y="4849920"/>
            <a:ext cx="163836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縣市初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1990800" y="53928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2009880" y="26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826920" y="3429000"/>
            <a:ext cx="2448000" cy="504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學校行政審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200988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1042920" y="90792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歷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4500720" y="1762200"/>
            <a:ext cx="3943080" cy="11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校於</a:t>
            </a:r>
            <a:r>
              <a:rPr b="1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</a:t>
            </a: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前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列印線上填報之申請表單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浮水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函送縣市政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5"/>
          <p:cNvSpPr/>
          <p:nvPr/>
        </p:nvSpPr>
        <p:spPr>
          <a:xfrm>
            <a:off x="4491000" y="3070080"/>
            <a:ext cx="394344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縣市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-14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行縣市行政初審，依據行政初審表檢核各校文件，並上網填報審核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4491000" y="4724280"/>
            <a:ext cx="3943440" cy="8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並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8-19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召開委員會進行正式審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2142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申辦及審查期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8"/>
          <p:cNvSpPr/>
          <p:nvPr/>
        </p:nvSpPr>
        <p:spPr>
          <a:xfrm>
            <a:off x="1581120" y="5637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（接下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5292720" y="981000"/>
            <a:ext cx="1871640" cy="40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468360" y="2000160"/>
            <a:ext cx="3166920" cy="532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縣市提送申辦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611280" y="4627440"/>
            <a:ext cx="316872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行政審查結果公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1969920" y="51116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2009880" y="26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971640" y="3429000"/>
            <a:ext cx="2448000" cy="504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縣市行政審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200988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1042920" y="90792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歷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4500720" y="1846440"/>
            <a:ext cx="394308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縣市於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前依教育部規定將申辦文件裝訂後，送達指定地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491000" y="3179880"/>
            <a:ext cx="3943440" cy="12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13-17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針對縣市提送之申辦文件，進行資料檢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8"/>
          <p:cNvSpPr/>
          <p:nvPr/>
        </p:nvSpPr>
        <p:spPr>
          <a:xfrm>
            <a:off x="4500720" y="4522680"/>
            <a:ext cx="3943080" cy="11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1933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17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</a:t>
            </a:r>
            <a:r>
              <a:rPr b="0" lang="zh-TW" sz="2400" spc="-1" strike="noStrike">
                <a:solidFill>
                  <a:srgbClr val="001933"/>
                </a:solidFill>
                <a:latin typeface="標楷體"/>
                <a:ea typeface="標楷體"/>
              </a:rPr>
              <a:t>電子郵件通知縣市政府須補正資料，並副知需補件之學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2142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申辦及審查期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3"/>
          <p:cNvSpPr/>
          <p:nvPr/>
        </p:nvSpPr>
        <p:spPr>
          <a:xfrm>
            <a:off x="768240" y="2276640"/>
            <a:ext cx="2710080" cy="57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縣市補提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10168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5435640" y="979560"/>
            <a:ext cx="1871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1187280" y="907920"/>
            <a:ext cx="1872000" cy="601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辦歷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643280" y="2060640"/>
            <a:ext cx="3961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29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前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將修正資料送達指定地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4643280" y="3551400"/>
            <a:ext cx="3961080" cy="9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6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4-5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行複審，縣市派員出席報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539640" y="3716280"/>
            <a:ext cx="3311640" cy="57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教育部複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8"/>
          <p:cNvSpPr/>
          <p:nvPr/>
        </p:nvSpPr>
        <p:spPr>
          <a:xfrm>
            <a:off x="2087640" y="429084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1420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申辦期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6" descr="logo2"/>
          <p:cNvPicPr/>
          <p:nvPr/>
        </p:nvPicPr>
        <p:blipFill>
          <a:blip r:embed="rId1"/>
          <a:stretch/>
        </p:blipFill>
        <p:spPr>
          <a:xfrm>
            <a:off x="8244000" y="606744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6"/>
          <p:cNvSpPr/>
          <p:nvPr/>
        </p:nvSpPr>
        <p:spPr>
          <a:xfrm>
            <a:off x="539640" y="5118120"/>
            <a:ext cx="3311640" cy="57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公告審查結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4643280" y="5003640"/>
            <a:ext cx="4023000" cy="80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於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6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28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布審查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/>
          <p:cNvSpPr/>
          <p:nvPr/>
        </p:nvSpPr>
        <p:spPr>
          <a:xfrm>
            <a:off x="250920" y="1052640"/>
            <a:ext cx="7777080" cy="53290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623880" y="3141360"/>
            <a:ext cx="6035760" cy="3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395280" y="2976480"/>
            <a:ext cx="228600" cy="336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84360" y="234936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標楷體"/>
              </a:rPr>
              <a:t>102</a:t>
            </a: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注意與配合事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6" descr="4"/>
          <p:cNvPicPr/>
          <p:nvPr/>
        </p:nvPicPr>
        <p:blipFill>
          <a:blip r:embed="rId1"/>
          <a:stretch/>
        </p:blipFill>
        <p:spPr>
          <a:xfrm>
            <a:off x="6516720" y="2852640"/>
            <a:ext cx="1387440" cy="3556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3" descr="logo2"/>
          <p:cNvPicPr/>
          <p:nvPr/>
        </p:nvPicPr>
        <p:blipFill>
          <a:blip r:embed="rId2"/>
          <a:stretch/>
        </p:blipFill>
        <p:spPr>
          <a:xfrm>
            <a:off x="838836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50920" y="3284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教專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700360" y="1082520"/>
            <a:ext cx="5951520" cy="52754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教專計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2700360" y="2201760"/>
            <a:ext cx="57769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標楷體"/>
                <a:ea typeface="標楷體"/>
              </a:rPr>
              <a:t>評鑑方式</a:t>
            </a:r>
            <a:r>
              <a:rPr b="1" lang="en-US" sz="2800" spc="-1" strike="noStrike">
                <a:solidFill>
                  <a:srgbClr val="7030a0"/>
                </a:solidFill>
                <a:latin typeface="標楷體"/>
                <a:ea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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原規定：自由選用教學觀察、教學檔案、晤談教師、蒐集學生或家長反應等途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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修正為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教學觀察為主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適時輔予教學檔案、晤談教師及蒐集學生或家長教學反應等多元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24000" y="301932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填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700360" y="1082520"/>
            <a:ext cx="5951520" cy="52754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文件填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2700360" y="2201760"/>
            <a:ext cx="577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表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-1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檢附資料欄位 之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0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學年度教專典範學校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影本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僅限教育部核定之典範學校填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輔導費之申請：逐年期組初次申請學校申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最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3-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最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次；其餘學校申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最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1-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最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次，連續參加滿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4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年之學校申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0-3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24000" y="301932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填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700360" y="1082520"/>
            <a:ext cx="5951520" cy="52754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文件填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2692440" y="2201760"/>
            <a:ext cx="57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輔導夥伴之住宿費限離島地區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澎湖縣、金門縣、連江縣、屏東縣琉球鄉、台東縣蘭嶼鄉、台東縣綠島鄉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學校申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輔導夥伴之交通費應核實估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24000" y="301932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填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2700360" y="1082520"/>
            <a:ext cx="5951520" cy="47498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文件填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700360" y="2201760"/>
            <a:ext cx="57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縣市申辦行政研習時，學校不能申請行政研習交通費、住宿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教學輔導教師減授時數鐘點費之申請，縣市所轄之國中、國小部分，由縣市統一申請；國立小學於線上直接申請；高中職將以另案方式辦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綱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250920" y="1052640"/>
            <a:ext cx="7777080" cy="53290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9"/>
          <p:cNvGrpSpPr/>
          <p:nvPr/>
        </p:nvGrpSpPr>
        <p:grpSpPr>
          <a:xfrm>
            <a:off x="395280" y="2637000"/>
            <a:ext cx="6624720" cy="892080"/>
            <a:chOff x="395280" y="2637000"/>
            <a:chExt cx="6624720" cy="892080"/>
          </a:xfrm>
        </p:grpSpPr>
        <p:sp>
          <p:nvSpPr>
            <p:cNvPr id="108" name="Line 71"/>
            <p:cNvSpPr/>
            <p:nvPr/>
          </p:nvSpPr>
          <p:spPr>
            <a:xfrm flipV="1">
              <a:off x="633240" y="3357720"/>
              <a:ext cx="6386760" cy="1584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2"/>
            <p:cNvSpPr/>
            <p:nvPr/>
          </p:nvSpPr>
          <p:spPr>
            <a:xfrm>
              <a:off x="395280" y="3218040"/>
              <a:ext cx="237960" cy="31104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3"/>
            <p:cNvSpPr/>
            <p:nvPr/>
          </p:nvSpPr>
          <p:spPr>
            <a:xfrm>
              <a:off x="755640" y="2637000"/>
              <a:ext cx="612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102</a:t>
              </a: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年申辦期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00"/>
          <p:cNvGrpSpPr/>
          <p:nvPr/>
        </p:nvGrpSpPr>
        <p:grpSpPr>
          <a:xfrm>
            <a:off x="395280" y="3645000"/>
            <a:ext cx="3313080" cy="965160"/>
            <a:chOff x="395280" y="3645000"/>
            <a:chExt cx="3313080" cy="965160"/>
          </a:xfrm>
        </p:grpSpPr>
        <p:sp>
          <p:nvSpPr>
            <p:cNvPr id="112" name="Line 75"/>
            <p:cNvSpPr/>
            <p:nvPr/>
          </p:nvSpPr>
          <p:spPr>
            <a:xfrm flipV="1">
              <a:off x="628560" y="4437000"/>
              <a:ext cx="3079800" cy="64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6"/>
            <p:cNvSpPr/>
            <p:nvPr/>
          </p:nvSpPr>
          <p:spPr>
            <a:xfrm>
              <a:off x="395280" y="4276800"/>
              <a:ext cx="233280" cy="33336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7"/>
            <p:cNvSpPr/>
            <p:nvPr/>
          </p:nvSpPr>
          <p:spPr>
            <a:xfrm>
              <a:off x="1340640" y="36450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注意與配合事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01"/>
          <p:cNvGrpSpPr/>
          <p:nvPr/>
        </p:nvGrpSpPr>
        <p:grpSpPr>
          <a:xfrm>
            <a:off x="395280" y="4724280"/>
            <a:ext cx="4321080" cy="827280"/>
            <a:chOff x="395280" y="4724280"/>
            <a:chExt cx="4321080" cy="827280"/>
          </a:xfrm>
        </p:grpSpPr>
        <p:sp>
          <p:nvSpPr>
            <p:cNvPr id="116" name="Line 79"/>
            <p:cNvSpPr/>
            <p:nvPr/>
          </p:nvSpPr>
          <p:spPr>
            <a:xfrm flipV="1">
              <a:off x="623880" y="5373720"/>
              <a:ext cx="4092480" cy="2376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80"/>
            <p:cNvSpPr/>
            <p:nvPr/>
          </p:nvSpPr>
          <p:spPr>
            <a:xfrm>
              <a:off x="395280" y="5241960"/>
              <a:ext cx="228600" cy="309600"/>
            </a:xfrm>
            <a:prstGeom prst="ellipse">
              <a:avLst/>
            </a:prstGeom>
            <a:gradFill rotWithShape="0">
              <a:gsLst>
                <a:gs pos="0">
                  <a:srgbClr val="fcc704"/>
                </a:gs>
                <a:gs pos="100000">
                  <a:srgbClr val="a8850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1"/>
            <p:cNvSpPr/>
            <p:nvPr/>
          </p:nvSpPr>
          <p:spPr>
            <a:xfrm>
              <a:off x="1223640" y="4724280"/>
              <a:ext cx="23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結語</a:t>
              </a:r>
              <a:r>
                <a:rPr b="1" lang="en-US" sz="32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~</a:t>
              </a:r>
              <a:r>
                <a:rPr b="1" lang="zh-TW" sz="32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依期程進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86" descr="4"/>
          <p:cNvPicPr/>
          <p:nvPr/>
        </p:nvPicPr>
        <p:blipFill>
          <a:blip r:embed="rId1"/>
          <a:stretch/>
        </p:blipFill>
        <p:spPr>
          <a:xfrm>
            <a:off x="6516720" y="2852640"/>
            <a:ext cx="1387440" cy="355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7" descr="logo2"/>
          <p:cNvPicPr/>
          <p:nvPr/>
        </p:nvPicPr>
        <p:blipFill>
          <a:blip r:embed="rId2"/>
          <a:stretch/>
        </p:blipFill>
        <p:spPr>
          <a:xfrm>
            <a:off x="8342280" y="6165720"/>
            <a:ext cx="692280" cy="692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5"/>
          <p:cNvSpPr/>
          <p:nvPr/>
        </p:nvSpPr>
        <p:spPr>
          <a:xfrm>
            <a:off x="1460520" y="1700280"/>
            <a:ext cx="3624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98"/>
          <p:cNvGrpSpPr/>
          <p:nvPr/>
        </p:nvGrpSpPr>
        <p:grpSpPr>
          <a:xfrm>
            <a:off x="395280" y="1700280"/>
            <a:ext cx="3456000" cy="850680"/>
            <a:chOff x="395280" y="1700280"/>
            <a:chExt cx="3456000" cy="850680"/>
          </a:xfrm>
        </p:grpSpPr>
        <p:sp>
          <p:nvSpPr>
            <p:cNvPr id="123" name="Line 93"/>
            <p:cNvSpPr/>
            <p:nvPr/>
          </p:nvSpPr>
          <p:spPr>
            <a:xfrm>
              <a:off x="701640" y="2397240"/>
              <a:ext cx="3149640" cy="2376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94"/>
            <p:cNvSpPr/>
            <p:nvPr/>
          </p:nvSpPr>
          <p:spPr>
            <a:xfrm>
              <a:off x="395280" y="224460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923760" y="17002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前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179280" y="1413000"/>
            <a:ext cx="237672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24000" y="301932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填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2700360" y="1082520"/>
            <a:ext cx="5951520" cy="52992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557520" y="14018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文件填寫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2700360" y="2201760"/>
            <a:ext cx="595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原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98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學年度核定之核心學校已完成階段性任務，自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年度起，由各直轄市、縣（市）擇一所能具體協助推動教師專業發展評鑑之學校，擔任核心學校；核心學校須為已申請多年期學校或於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年申請多年期之學校，原經費概算表中協辦學校經費改為核心學校經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組成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700360" y="1081080"/>
            <a:ext cx="5803920" cy="48690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申請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2987640" y="2308320"/>
            <a:ext cx="54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班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下學校每一社群人數需達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4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3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至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24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班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下學校每一社群人數需達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6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25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至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48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班班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上學校每一社群人數需達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9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以。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49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班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上學校每一社群人數需達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人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組成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2700360" y="1081080"/>
            <a:ext cx="5803920" cy="32115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申請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2987640" y="2308320"/>
            <a:ext cx="54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每一社群需有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75%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以上成員係參與教師專業發展評鑑計畫之教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每位教師僅能參與一項社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撰寫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2700360" y="1081080"/>
            <a:ext cx="5803920" cy="450864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內容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2987640" y="2308320"/>
            <a:ext cx="54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社群內容應與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教師教學及學生學習直接相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每一項社群應有一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具體的主體，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並能於實施後有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具體的產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社群活動次數不得少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12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次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並於當年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6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月底前執行完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撰寫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2700360" y="1081080"/>
            <a:ext cx="5803920" cy="50119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內容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2987640" y="2308320"/>
            <a:ext cx="544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社群之討論議題，應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聚焦於評鑑歷程中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所收集到客觀教學資料之理性討論，並安排固定的對話期程，以達成專業學習社群之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講師交通費應核實估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08080" y="270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社群撰寫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2700360" y="1081080"/>
            <a:ext cx="5803920" cy="51973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社群內容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2700360" y="230832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引言人須為外聘人員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且全程參與討論，方能領取引言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考量社群運作時，需邀請有經驗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專家全程參與討論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因此由學校編列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引言費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支應；講師費則用於支付實際辦理專題講座之用，因二者運作方是不同，因此同一場次社群活動，僅能支付講座鐘點費或引言費其中一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8"/>
          <p:cNvSpPr/>
          <p:nvPr/>
        </p:nvSpPr>
        <p:spPr>
          <a:xfrm>
            <a:off x="2843280" y="1521000"/>
            <a:ext cx="763560" cy="401400"/>
          </a:xfrm>
          <a:prstGeom prst="rightArrow">
            <a:avLst>
              <a:gd name="adj1" fmla="val 50000"/>
              <a:gd name="adj2" fmla="val 584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08080" y="3330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線上申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2700360" y="1081080"/>
            <a:ext cx="5803920" cy="51973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線上申請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2987640" y="2308320"/>
            <a:ext cx="54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10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日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4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日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開放學校於教師專業發展評鑑網上直接填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教師專業社群計畫申請併本計畫一同於教專網進行線上申請，申請學校限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1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及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年參加本計畫之學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除逐年期組初次申請學校外，其餘學校應完成規準上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8"/>
          <p:cNvSpPr/>
          <p:nvPr/>
        </p:nvSpPr>
        <p:spPr>
          <a:xfrm>
            <a:off x="2987640" y="1521000"/>
            <a:ext cx="619200" cy="401400"/>
          </a:xfrm>
          <a:prstGeom prst="rightArrow">
            <a:avLst>
              <a:gd name="adj1" fmla="val 50000"/>
              <a:gd name="adj2" fmla="val 584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179280" y="1413000"/>
            <a:ext cx="230508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08080" y="3330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線上申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700360" y="1081080"/>
            <a:ext cx="5803920" cy="494028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2843280" y="1211400"/>
            <a:ext cx="5661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3606840" y="14018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線上申請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2987640" y="2308320"/>
            <a:ext cx="54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Arial"/>
                <a:ea typeface="標楷體"/>
              </a:rPr>
              <a:t>初次申辦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逐年期及多年期組學校，</a:t>
            </a:r>
            <a:r>
              <a:rPr b="1" lang="zh-TW" sz="2800" spc="-1" strike="noStrike">
                <a:solidFill>
                  <a:srgbClr val="c00000"/>
                </a:solidFill>
                <a:latin typeface="Arial"/>
                <a:ea typeface="標楷體"/>
              </a:rPr>
              <a:t>將計畫上傳網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8"/>
          <p:cNvSpPr/>
          <p:nvPr/>
        </p:nvSpPr>
        <p:spPr>
          <a:xfrm>
            <a:off x="2987640" y="1521000"/>
            <a:ext cx="619200" cy="401400"/>
          </a:xfrm>
          <a:prstGeom prst="rightArrow">
            <a:avLst>
              <a:gd name="adj1" fmla="val 50000"/>
              <a:gd name="adj2" fmla="val 584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179280" y="1413000"/>
            <a:ext cx="24480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50920" y="270828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學校申辦資料提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2700360" y="1082520"/>
            <a:ext cx="5951520" cy="558648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3557520" y="14018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資料提送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2700360" y="2201760"/>
            <a:ext cx="57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所送紙本須是教專網線上填報後列印之紙本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有浮水印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否則視同無效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須經評鑑推動小組審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申辦文件提送份數，依各縣市政府規定辦理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注意與配合事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179280" y="1413000"/>
            <a:ext cx="24480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50920" y="270828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學校申辦資料提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2700360" y="1082520"/>
            <a:ext cx="5951520" cy="558648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2843280" y="1211400"/>
            <a:ext cx="5634000" cy="961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557520" y="14018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資料提送注意事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2700360" y="2201760"/>
            <a:ext cx="577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評鑑人員進階研習與教學輔導教師儲訓之推薦表格，須於教專網填寫並列印後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評鑑人員進階研習推薦表須經評鑑推動小組審查通過，並由委員簽名後，方能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教學輔導教師儲訓推薦表，須由評鑑推動小組審查同意推薦，送教評會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課發會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2060"/>
                </a:solidFill>
                <a:latin typeface="Arial"/>
                <a:ea typeface="標楷體"/>
              </a:rPr>
              <a:t>依程序審查，並完成簽名後，方能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8"/>
          <p:cNvSpPr/>
          <p:nvPr/>
        </p:nvSpPr>
        <p:spPr>
          <a:xfrm>
            <a:off x="2887560" y="1501920"/>
            <a:ext cx="649440" cy="401400"/>
          </a:xfrm>
          <a:prstGeom prst="rightArrow">
            <a:avLst>
              <a:gd name="adj1" fmla="val 50000"/>
              <a:gd name="adj2" fmla="val 584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前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116000" y="1413000"/>
            <a:ext cx="7128000" cy="46083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16280" y="17701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線上申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187280" y="2349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教專業務主管單位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: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教育部師培藝教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教育部定位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為教師專業發展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/>
          <p:cNvSpPr/>
          <p:nvPr/>
        </p:nvSpPr>
        <p:spPr>
          <a:xfrm>
            <a:off x="3203640" y="1859040"/>
            <a:ext cx="584280" cy="401400"/>
          </a:xfrm>
          <a:prstGeom prst="rightArrow">
            <a:avLst>
              <a:gd name="adj1" fmla="val 50000"/>
              <a:gd name="adj2" fmla="val 583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常見錯誤類型說明</a:t>
            </a:r>
            <a:r>
              <a:rPr b="1" lang="zh-TW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8675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表件格式不符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用舊表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申辦表件應從網路下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參與比例計算錯誤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要協助核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組別選擇錯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0" y="189000"/>
            <a:ext cx="6588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縣市行政審查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常見錯誤類型說明</a:t>
            </a:r>
            <a:r>
              <a:rPr b="1" lang="zh-TW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8675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相關會議紀錄是否完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議題的寫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家長代表缺少身分註記（未到應寫請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推動小組會議次數（至少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0" y="189000"/>
            <a:ext cx="6588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縣市行政審查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常見錯誤類型說明</a:t>
            </a:r>
            <a:r>
              <a:rPr b="1" lang="zh-TW" sz="4400" spc="-1" strike="noStrike">
                <a:solidFill>
                  <a:srgbClr val="ff3300"/>
                </a:solidFill>
                <a:latin typeface="Wingdings"/>
                <a:ea typeface="Wingdings"/>
              </a:rPr>
              <a:t>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89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群計劃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應以提升學生學習成效為目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群活動內容語意模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教師增能為主，未能應用於教學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0" y="189000"/>
            <a:ext cx="6588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縣市行政審查注意事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一、委員會成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89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應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行政人員、學校行政人員、學者專家、同級教師會代表及家長團體代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且具備中小學教學經驗五年以上之委員不得少於委員總額二分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其組成方式及比例，由直轄市、縣（市）政府定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0" y="189000"/>
            <a:ext cx="73087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縣市教專推動會初審注意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181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二、討論議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89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申請文件是否符合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輔導教師、進階人員推薦名單審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0" y="189000"/>
            <a:ext cx="73087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縣市教專推動會初審注意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1404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Arial"/>
              <a:ea typeface="標楷體"/>
            </a:endParaRPr>
          </a:p>
        </p:txBody>
      </p:sp>
      <p:sp>
        <p:nvSpPr>
          <p:cNvPr id="380" name="AutoShape 3"/>
          <p:cNvSpPr/>
          <p:nvPr/>
        </p:nvSpPr>
        <p:spPr>
          <a:xfrm>
            <a:off x="250920" y="1052640"/>
            <a:ext cx="7777080" cy="53290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8"/>
          <p:cNvGrpSpPr/>
          <p:nvPr/>
        </p:nvGrpSpPr>
        <p:grpSpPr>
          <a:xfrm>
            <a:off x="324000" y="2946240"/>
            <a:ext cx="6120720" cy="1130040"/>
            <a:chOff x="324000" y="2946240"/>
            <a:chExt cx="6120720" cy="1130040"/>
          </a:xfrm>
        </p:grpSpPr>
        <p:sp>
          <p:nvSpPr>
            <p:cNvPr id="382" name="Line 9"/>
            <p:cNvSpPr/>
            <p:nvPr/>
          </p:nvSpPr>
          <p:spPr>
            <a:xfrm>
              <a:off x="670320" y="3877560"/>
              <a:ext cx="57744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0"/>
            <p:cNvSpPr/>
            <p:nvPr/>
          </p:nvSpPr>
          <p:spPr>
            <a:xfrm>
              <a:off x="324000" y="3678480"/>
              <a:ext cx="346320" cy="39780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2123640" y="2946240"/>
              <a:ext cx="340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4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依期程辦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16" descr="4"/>
          <p:cNvPicPr/>
          <p:nvPr/>
        </p:nvPicPr>
        <p:blipFill>
          <a:blip r:embed="rId1"/>
          <a:stretch/>
        </p:blipFill>
        <p:spPr>
          <a:xfrm>
            <a:off x="6516720" y="2852640"/>
            <a:ext cx="1387440" cy="3556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3" descr="logo2"/>
          <p:cNvPicPr/>
          <p:nvPr/>
        </p:nvPicPr>
        <p:blipFill>
          <a:blip r:embed="rId2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1404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  <a:ea typeface="標楷體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990720" y="509112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4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351440" y="1481040"/>
            <a:ext cx="6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第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60000" y="3919680"/>
            <a:ext cx="7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第二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990720" y="283356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solidFill>
            <a:srgbClr val="008d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上網填寫申辦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solidFill>
            <a:srgbClr val="8abc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先經評鑑推動小組審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2" descr="logo2"/>
          <p:cNvPicPr/>
          <p:nvPr/>
        </p:nvPicPr>
        <p:blipFill>
          <a:blip r:embed="rId1"/>
          <a:stretch/>
        </p:blipFill>
        <p:spPr>
          <a:xfrm>
            <a:off x="8229600" y="6053040"/>
            <a:ext cx="804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1404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  <a:ea typeface="標楷體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990720" y="509112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4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436400" y="148104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1f3f5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三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436400" y="391968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1f3f5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第四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7"/>
          <p:cNvSpPr/>
          <p:nvPr/>
        </p:nvSpPr>
        <p:spPr>
          <a:xfrm>
            <a:off x="990720" y="283356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8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solidFill>
            <a:srgbClr val="008d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依縣市所訂時間提送申辦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solidFill>
            <a:srgbClr val="8abc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需要補件時，依時限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logo2"/>
          <p:cNvPicPr/>
          <p:nvPr/>
        </p:nvPicPr>
        <p:blipFill>
          <a:blip r:embed="rId1"/>
          <a:stretch/>
        </p:blipFill>
        <p:spPr>
          <a:xfrm>
            <a:off x="8229600" y="6053040"/>
            <a:ext cx="804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66"/>
                </a:solidFill>
                <a:latin typeface="標楷體"/>
                <a:ea typeface="標楷體"/>
              </a:rPr>
              <a:t>對話時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858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2700360" y="429264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1"/>
          <p:cNvPicPr/>
          <p:nvPr/>
        </p:nvPicPr>
        <p:blipFill>
          <a:blip r:embed="rId1"/>
          <a:stretch/>
        </p:blipFill>
        <p:spPr>
          <a:xfrm>
            <a:off x="1908000" y="1197000"/>
            <a:ext cx="6432840" cy="4824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4932360" y="234936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c0092"/>
                </a:solidFill>
                <a:latin typeface="Arial"/>
                <a:ea typeface="Arial"/>
              </a:rPr>
              <a:t>Q &amp;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71280" y="2852280"/>
            <a:ext cx="356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[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新細明體"/>
              </a:rPr>
              <a:t>孩子的希望在教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3"/>
          <p:cNvSpPr txBox="1"/>
          <p:nvPr/>
        </p:nvSpPr>
        <p:spPr>
          <a:xfrm>
            <a:off x="2050920" y="3860640"/>
            <a:ext cx="4969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+mn-ea"/>
              </a:rPr>
              <a:t>歡迎貴校的加入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414" name="Picture 9" descr="8"/>
          <p:cNvPicPr/>
          <p:nvPr/>
        </p:nvPicPr>
        <p:blipFill>
          <a:blip r:embed="rId1"/>
          <a:stretch/>
        </p:blipFill>
        <p:spPr>
          <a:xfrm>
            <a:off x="108000" y="5300640"/>
            <a:ext cx="5751360" cy="13748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1"/>
          <p:cNvSpPr/>
          <p:nvPr/>
        </p:nvSpPr>
        <p:spPr>
          <a:xfrm>
            <a:off x="4427640" y="2852640"/>
            <a:ext cx="38163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181f"/>
                </a:solidFill>
                <a:latin typeface="Arial"/>
              </a:rPr>
              <a:t>[ </a:t>
            </a:r>
            <a:r>
              <a:rPr b="0" lang="zh-TW" sz="2800" spc="-1" strike="noStrike">
                <a:solidFill>
                  <a:srgbClr val="d7181f"/>
                </a:solidFill>
                <a:latin typeface="Arial"/>
              </a:rPr>
              <a:t>我們就是專業 </a:t>
            </a:r>
            <a:r>
              <a:rPr b="0" lang="en-US" sz="2800" spc="-1" strike="noStrike">
                <a:solidFill>
                  <a:srgbClr val="d7181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logo2"/>
          <p:cNvPicPr/>
          <p:nvPr/>
        </p:nvPicPr>
        <p:blipFill>
          <a:blip r:embed="rId2"/>
          <a:stretch/>
        </p:blipFill>
        <p:spPr>
          <a:xfrm>
            <a:off x="7885080" y="5708520"/>
            <a:ext cx="114948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前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79280" y="1413000"/>
            <a:ext cx="27432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68360" y="270828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作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059280" y="1268280"/>
            <a:ext cx="5545080" cy="46087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3129120" y="1413000"/>
            <a:ext cx="5348160" cy="12952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00009f"/>
              </a:gs>
              <a:gs pos="100000">
                <a:srgbClr val="e9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716280" y="17701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線上申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203640" y="29242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起，計畫及社群申請全部改為線上作業，須完成線上申請後，方能列印表格送縣市審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0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8"/>
          <p:cNvSpPr/>
          <p:nvPr/>
        </p:nvSpPr>
        <p:spPr>
          <a:xfrm>
            <a:off x="3203640" y="1859040"/>
            <a:ext cx="584280" cy="401400"/>
          </a:xfrm>
          <a:prstGeom prst="rightArrow">
            <a:avLst>
              <a:gd name="adj1" fmla="val 50000"/>
              <a:gd name="adj2" fmla="val 583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2060"/>
                </a:solidFill>
                <a:latin typeface="標楷體"/>
                <a:ea typeface="標楷體"/>
              </a:rPr>
              <a:t>前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179280" y="1413000"/>
            <a:ext cx="27432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79280" y="270828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作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059280" y="1268280"/>
            <a:ext cx="5545080" cy="46087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3133800" y="1378080"/>
            <a:ext cx="5347800" cy="1296360"/>
            <a:chOff x="3133800" y="1378080"/>
            <a:chExt cx="5347800" cy="1296360"/>
          </a:xfrm>
        </p:grpSpPr>
        <p:sp>
          <p:nvSpPr>
            <p:cNvPr id="146" name="AutoShape 7"/>
            <p:cNvSpPr/>
            <p:nvPr/>
          </p:nvSpPr>
          <p:spPr>
            <a:xfrm>
              <a:off x="3133800" y="1378080"/>
              <a:ext cx="5347800" cy="129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00008f"/>
                </a:gs>
                <a:gs pos="100000">
                  <a:srgbClr val="e9e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>
              <a:off x="3184200" y="1860480"/>
              <a:ext cx="585000" cy="401760"/>
            </a:xfrm>
            <a:prstGeom prst="rightArrow">
              <a:avLst>
                <a:gd name="adj1" fmla="val 50000"/>
                <a:gd name="adj2" fmla="val 606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9"/>
          <p:cNvSpPr/>
          <p:nvPr/>
        </p:nvSpPr>
        <p:spPr>
          <a:xfrm>
            <a:off x="3852720" y="1736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校對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230640" y="306864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為避免因彙整資料，而在學期中麻煩縣市及學校填報，因此配合線上申請作業，同時校對縣市及學校各項線上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2060"/>
                </a:solidFill>
                <a:latin typeface="標楷體"/>
                <a:ea typeface="標楷體"/>
              </a:rPr>
              <a:t>前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179280" y="1413000"/>
            <a:ext cx="27432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270828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標楷體"/>
              </a:rPr>
              <a:t>102</a:t>
            </a: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060"/>
                </a:solidFill>
                <a:latin typeface="Arial"/>
                <a:ea typeface="標楷體"/>
              </a:rPr>
              <a:t>申辦作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059280" y="1268280"/>
            <a:ext cx="5545080" cy="46087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3133800" y="1378080"/>
            <a:ext cx="5347800" cy="1296360"/>
            <a:chOff x="3133800" y="1378080"/>
            <a:chExt cx="5347800" cy="1296360"/>
          </a:xfrm>
        </p:grpSpPr>
        <p:sp>
          <p:nvSpPr>
            <p:cNvPr id="156" name="AutoShape 7"/>
            <p:cNvSpPr/>
            <p:nvPr/>
          </p:nvSpPr>
          <p:spPr>
            <a:xfrm>
              <a:off x="3133800" y="1378080"/>
              <a:ext cx="5347800" cy="129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00008f"/>
                </a:gs>
                <a:gs pos="100000">
                  <a:srgbClr val="e9e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>
              <a:off x="3184200" y="1860480"/>
              <a:ext cx="585000" cy="401760"/>
            </a:xfrm>
            <a:prstGeom prst="rightArrow">
              <a:avLst>
                <a:gd name="adj1" fmla="val 50000"/>
                <a:gd name="adj2" fmla="val 606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3852720" y="1736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決定申請組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059280" y="3068640"/>
            <a:ext cx="542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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逐年期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初辦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要先辦帳號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續辦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只要曾申請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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年期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初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2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續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核心學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—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四年一期，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01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學年屆滿四年，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02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學年度不開放申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logo2"/>
          <p:cNvPicPr/>
          <p:nvPr/>
        </p:nvPicPr>
        <p:blipFill>
          <a:blip r:embed="rId1"/>
          <a:stretch/>
        </p:blipFill>
        <p:spPr>
          <a:xfrm>
            <a:off x="8269200" y="6093000"/>
            <a:ext cx="765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3"/>
          <p:cNvSpPr/>
          <p:nvPr/>
        </p:nvSpPr>
        <p:spPr>
          <a:xfrm>
            <a:off x="250920" y="1052640"/>
            <a:ext cx="7777080" cy="53290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0080a2"/>
              </a:gs>
              <a:gs pos="50000">
                <a:srgbClr val="3e9fb9"/>
              </a:gs>
              <a:gs pos="100000">
                <a:srgbClr val="0080a2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V="1">
            <a:off x="623880" y="3141360"/>
            <a:ext cx="6035760" cy="3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395280" y="2976480"/>
            <a:ext cx="228600" cy="336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84360" y="234936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標楷體"/>
              </a:rPr>
              <a:t>102</a:t>
            </a: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年申辦期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介       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4"/>
          <p:cNvPicPr/>
          <p:nvPr/>
        </p:nvPicPr>
        <p:blipFill>
          <a:blip r:embed="rId1"/>
          <a:stretch/>
        </p:blipFill>
        <p:spPr>
          <a:xfrm>
            <a:off x="6516720" y="2852640"/>
            <a:ext cx="1387440" cy="355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3" descr="logo2"/>
          <p:cNvPicPr/>
          <p:nvPr/>
        </p:nvPicPr>
        <p:blipFill>
          <a:blip r:embed="rId2"/>
          <a:stretch/>
        </p:blipFill>
        <p:spPr>
          <a:xfrm>
            <a:off x="838836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7031" t="19716" r="6982" b="8092"/>
          <a:stretch/>
        </p:blipFill>
        <p:spPr>
          <a:xfrm>
            <a:off x="179280" y="836640"/>
            <a:ext cx="8353440" cy="5832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教專計畫辦理計畫與申請流程圖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教專計畫辦理計畫與申請流程圖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14696" t="19716" r="12092" b="5367"/>
          <a:stretch/>
        </p:blipFill>
        <p:spPr>
          <a:xfrm>
            <a:off x="0" y="907920"/>
            <a:ext cx="85564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4:49:19Z</dcterms:created>
  <dc:creator>USER</dc:creator>
  <dc:description/>
  <dc:language>en-US</dc:language>
  <cp:lastModifiedBy>東華大學附小</cp:lastModifiedBy>
  <dcterms:modified xsi:type="dcterms:W3CDTF">2013-02-20T09:06:09Z</dcterms:modified>
  <cp:revision>328</cp:revision>
  <dc:subject/>
  <dc:title>計畫內容修正與調整及未來辦理方向</dc:title>
</cp:coreProperties>
</file>