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4F1F-7F5B-4C05-8858-586918C5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2395-1FF8-42CD-87DF-13ED1460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FB9F-F4E3-45D5-9589-B44F0ADA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3639-86AA-40DA-9738-6CE79019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BD1B-CDEC-45B4-BF1B-895D557E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E3A1-F3B1-4359-9E86-E587966A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8712-310F-49DA-873A-7A96167E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4576-0C87-4309-A3AA-CFCA309D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1DFC-ECC7-49BA-92B4-09C367B1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793A-C336-49D8-B700-E854C740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81BD-5CAA-4C89-92CD-EB3A807A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D324-4496-4F29-B209-0AD26A55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060F-E878-4EBA-AEC4-A7CECC64C119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38200" y="399960"/>
            <a:ext cx="80676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03:35:54Z</dcterms:created>
  <dc:creator>Valued Acer Customer</dc:creator>
  <dc:description/>
  <dc:language>en-US</dc:language>
  <cp:lastModifiedBy>22</cp:lastModifiedBy>
  <dcterms:modified xsi:type="dcterms:W3CDTF">2013-11-27T01:06:44Z</dcterms:modified>
  <cp:revision>1</cp:revision>
  <dc:subject/>
  <dc:title>投影片 1</dc:title>
</cp:coreProperties>
</file>