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3FCB-C2CD-4C75-97CF-68B99C3E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C68-7223-46EB-AAF5-70AC2F32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D6D2-A5E0-424B-8A22-C5970778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50BA-5F56-4933-85ED-51A99E2E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E92A-D6AA-431A-AC05-405A5823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DF56-E81B-4761-BD2B-6B40B010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CFCB-DE25-4896-A1E1-95CFBC7E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6426-BB05-4BFE-9419-58B75698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A71-0526-4B1B-8312-9B8F38C9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C099-6341-4AE7-B20B-36B52469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3F19-89A2-46A8-AED2-2B10BD7E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4718-51C0-4D11-A3D6-CCBD0C05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3322-C28E-4715-B985-CBF921CAD3B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97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3:33:29Z</dcterms:created>
  <dc:creator>Valued Acer Customer</dc:creator>
  <dc:description/>
  <dc:language>en-US</dc:language>
  <cp:lastModifiedBy>22</cp:lastModifiedBy>
  <dcterms:modified xsi:type="dcterms:W3CDTF">2013-11-27T01:06:03Z</dcterms:modified>
  <cp:revision>1</cp:revision>
  <dc:subject/>
  <dc:title>投影片 1</dc:title>
</cp:coreProperties>
</file>