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B5C-CD20-4D95-9B71-0AE93682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E4D-0287-4376-8BC7-BA4728B3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B42-507E-49FF-A143-A70C44FA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7D8-6C12-4AF4-8C13-0EA1A221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63C-758B-493B-855C-84E54D20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98E-FF32-4C4B-88ED-79EC3B58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CEF-A0DC-4E6D-9E12-D3E30C98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492-4967-44CF-9546-38BD402E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9E9-A5EF-4364-A7F3-4D21A39E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BB4-5209-431B-B8E5-44F2FF1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CF7-ACBB-42FC-85C5-1BD66981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3C9-ABC2-4B76-9E79-7AA2DBA5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17A3-FEC1-481F-B82A-0CD9E19FA38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260280"/>
            <a:ext cx="816264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16Z</dcterms:created>
  <dc:creator>Valued Acer Customer</dc:creator>
  <dc:description/>
  <dc:language>en-US</dc:language>
  <cp:lastModifiedBy>22</cp:lastModifiedBy>
  <dcterms:modified xsi:type="dcterms:W3CDTF">2013-11-27T01:06:29Z</dcterms:modified>
  <cp:revision>1</cp:revision>
  <dc:subject/>
  <dc:title>投影片 1</dc:title>
</cp:coreProperties>
</file>