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9B6-295B-45BF-B287-88374C61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71D-7B78-488F-862D-1D79F587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26E-A3D3-4E0F-BC12-30008612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D96-B952-4E36-BF5D-FD9D2BA4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1735-632E-4857-B641-95EEE86F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A889-166F-4F54-9E7A-E68CD118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F22-7558-4A36-B616-5945D4B6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838-FA20-442E-B980-EE5193BC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D1D0-F60D-418C-9C12-08DF07BE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6C3F-A397-4947-93D7-CDDA0768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1DF-61A9-419F-97E1-D3833396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407-0477-4868-B232-9CF0E109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5E58-10E9-4536-9EAD-D4F15FB73C1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90680" y="189000"/>
            <a:ext cx="816264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4:38Z</dcterms:created>
  <dc:creator>Valued Acer Customer</dc:creator>
  <dc:description/>
  <dc:language>en-US</dc:language>
  <cp:lastModifiedBy>22</cp:lastModifiedBy>
  <dcterms:modified xsi:type="dcterms:W3CDTF">2013-11-27T01:06:18Z</dcterms:modified>
  <cp:revision>1</cp:revision>
  <dc:subject/>
  <dc:title>投影片 1</dc:title>
</cp:coreProperties>
</file>