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8DF-C775-48C1-A5AB-D3935936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A1E-DCDC-4975-B043-6F78C93F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63B-D3F6-4D49-8FA7-6A8D2188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C63-CE01-4540-8266-A8040014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D12-6854-4EA5-B13D-2D439F11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08C-0758-4DDB-A666-49CEDDFE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F34-EDF5-49D9-883A-3601B4A1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D7F-A015-4795-BDDE-44E203E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B6A-62C3-45BE-8D69-EAD3883C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7DF-C700-4E9D-AA40-C19A0BAE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5F9-D3B7-412E-9DCE-D71FBDA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5ED-5EC4-4A79-AAE7-4443BAFE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12AE-643B-4B5E-809B-2F50DA2671C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423720"/>
            <a:ext cx="79250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6:30Z</dcterms:created>
  <dc:creator>Valued Acer Customer</dc:creator>
  <dc:description/>
  <dc:language>en-US</dc:language>
  <cp:lastModifiedBy>22</cp:lastModifiedBy>
  <dcterms:modified xsi:type="dcterms:W3CDTF">2013-11-27T01:06:54Z</dcterms:modified>
  <cp:revision>1</cp:revision>
  <dc:subject/>
  <dc:title>投影片 1</dc:title>
</cp:coreProperties>
</file>