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AE5-933E-4F32-8E21-057E7DE1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F8A-3D72-4AD4-96B4-C780138E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C31-43E3-4FF1-85F2-89E1C98C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C99-B33D-4957-A6AD-54D9829E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F31-25A6-4EB6-AABD-E3686A19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138-50BF-4599-9157-CC46A624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B48-C184-4ADB-A83E-0F972DF5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AEA-B9AF-4C0C-B4E4-9226378D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BB5-1EC5-4BFF-B5BF-F1EFC1E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87B-C8AB-4027-892A-1F98CDE7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1BC-60F3-461C-B128-C6A1B4E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35B-DCE7-4067-9A36-4F697464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4EF8-023C-4F7E-9356-2E9A0F06946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花博總價決標</a:t>
            </a:r>
            <a:r>
              <a:rPr b="0" lang="en-US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/</a:t>
            </a: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藍委做球 審計部不願背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民黨立委賴士葆日前出任體檢花博顧問團成員，引發爭議，甚至被譏為背書團。他昨天要求林慶隆說明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什麼是「總價決標」，相關規定允不允許個別採購項目可以報價較高？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審計長林慶隆回應表示，在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中並無「總價決標」名詞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52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規定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，訂有底價的採購，應在底價內以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最低標報價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為原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賴追問，若議會已通過的預算，事後又被質疑太高怎麼辦？林則說，要從底價及預算編列來看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46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規定，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必須逐項考量成本、市場行情、以往決標資料，包括工程會決標資料庫，逐項照市價編列，最後成為施工預算，再由機關首長核定底價，依採購法精神，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每項單價都應符合市場行情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林慶隆說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政府機關訂底價時要照市場行情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……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偏差不能太大；但廠商每項報價高低，與市府每項底價高低不一定一樣，最後決標時，廠商合計總報價，</a:t>
            </a:r>
            <a:r>
              <a:rPr b="0" lang="zh-TW" sz="23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雖然法律上沒有「總價決標」，仍可累積一個總報價在底標內來決標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但簽約時</a:t>
            </a:r>
            <a:r>
              <a:rPr b="0" lang="zh-TW" sz="23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仍應看廠商報價合不合理</a:t>
            </a:r>
            <a:r>
              <a:rPr b="0" lang="zh-TW" sz="18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010/10/14/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由時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6:20:01Z</dcterms:created>
  <dc:creator>Valued Acer Customer</dc:creator>
  <dc:description/>
  <dc:language>en-US</dc:language>
  <cp:lastModifiedBy>22</cp:lastModifiedBy>
  <dcterms:modified xsi:type="dcterms:W3CDTF">2013-11-27T01:07:08Z</dcterms:modified>
  <cp:revision>1</cp:revision>
  <dc:subject/>
  <dc:title>花博總價決標/藍委做球 審計部不願背書</dc:title>
</cp:coreProperties>
</file>