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5A55-A738-4E8E-AED2-6ADF6D58B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3904-7192-4A42-A5BB-40A45F47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EFAF-018D-4995-8A05-A357669A7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956B-AF24-48FA-8804-4A6E280CC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C801-7D25-4E8B-B4B1-E2FFD1D8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E8EB-0603-4A11-B51C-4A0BD4FB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23ED-6684-42B3-95ED-C353051D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4E72-F17B-456C-B952-B5662B0B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0775-A95E-4345-94F3-7D9966C6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71DC-54F5-47CD-9365-E82D5583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8CD8-124D-45E7-B2AB-D58B03A8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C41A-F870-4D67-B085-C888D3A2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D869-31DD-49AE-A674-3BEDB49BD9CD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538200" y="399960"/>
            <a:ext cx="80676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03:35:54Z</dcterms:created>
  <dc:creator>Valued Acer Customer</dc:creator>
  <dc:description/>
  <dc:language>en-US</dc:language>
  <cp:lastModifiedBy>22</cp:lastModifiedBy>
  <dcterms:modified xsi:type="dcterms:W3CDTF">2013-11-27T01:06:44Z</dcterms:modified>
  <cp:revision>1</cp:revision>
  <dc:subject/>
  <dc:title>投影片 1</dc:title>
</cp:coreProperties>
</file>