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969-EE17-4264-8719-ED00F048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03D-9410-4C81-AA25-53D88C0E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E805-BDED-45A4-9057-A6460471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BB6-F6C9-476F-A69D-9ABBA258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1EE-BC5A-4287-8A9B-14470D18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B30-36F3-441E-A22C-3C893C8E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4B8-BA58-4234-B4EE-A7EAA2FF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A3E-71D9-49B0-BD05-02398550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520C-665B-4D3B-A2DD-AAB55669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210-FD82-4433-8710-62F61FB8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640-9A1F-4692-8B0A-044CBC2B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AE7-D7B3-42E6-8639-9D29BCD9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E072-63BA-4245-A89B-9AE85F91A35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90680" y="189000"/>
            <a:ext cx="816264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4:38Z</dcterms:created>
  <dc:creator>Valued Acer Customer</dc:creator>
  <dc:description/>
  <dc:language>en-US</dc:language>
  <cp:lastModifiedBy>22</cp:lastModifiedBy>
  <dcterms:modified xsi:type="dcterms:W3CDTF">2013-11-27T01:06:18Z</dcterms:modified>
  <cp:revision>1</cp:revision>
  <dc:subject/>
  <dc:title>投影片 1</dc:title>
</cp:coreProperties>
</file>