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7F71-08D7-40D3-8354-A67259388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15D2-E9B7-45F2-956D-900826A4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A30-41A1-4E97-B08D-F9E2AADC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003-D205-4B12-ADE4-F4EC90AC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4EF-4610-4B25-9E68-3710F5E6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1CD-E119-4F59-9533-A51E6304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99B-A495-4C6D-A9CF-E90D1F07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018-5660-4C09-8D96-F49560BD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954-76DD-4891-866C-7598B2A2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B7C-09D8-4EB7-8BA8-50092793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E14-9C28-4E36-A235-4FBCBBED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F06-58AA-4227-A21D-489DDA46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7AF-EE2C-455A-8218-196BECFF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589-9FAC-4460-AFAF-9E463EAC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3EC8-1E50-4AC9-A75E-4269163E4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1332000"/>
            <a:ext cx="2073240" cy="5526000"/>
          </a:xfrm>
          <a:prstGeom prst="rect">
            <a:avLst/>
          </a:prstGeom>
          <a:solidFill>
            <a:srgbClr val="80808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4000" y="1844640"/>
            <a:ext cx="1784160" cy="93492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動員全校師生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317520" y="356220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申請國軍支援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324000" y="515772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啟動開口契約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68360" y="1628640"/>
            <a:ext cx="5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68360" y="3429000"/>
            <a:ext cx="59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68360" y="5013360"/>
            <a:ext cx="73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916360" y="1125360"/>
            <a:ext cx="583236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颱風過後第一天上午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節課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動員全校師生共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清理校園環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需要外援協助清運的垃圾，擇定校內適當的地點做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垃圾暫時集中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花蓮市及吉安鄉解除警報三天內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清運樹木及環境垃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清潔回收場不收運棄費，需學校人員押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2987640" y="2924280"/>
            <a:ext cx="5904000" cy="172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請於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颱風過後上班日（含周休二日）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中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2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時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前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填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「申請國軍支援救災需求表」，傳真至縣府民政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兵役行政科彙整後，轉報花蓮縣後備司令部派遣國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支援救災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民政處兵役行政科 傳真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30576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電話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2189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32047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27171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5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2987640" y="4797360"/>
            <a:ext cx="5832360" cy="194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若有大型樹木需扶正或清運時，請於颱風過後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上班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天內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填寫學校搶修（險）通知單並傳真至教育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設施科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傳真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8462782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；電話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8462781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教育處彙整後通知開口合約廠商準備機具人員，儘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各校辦理災害搶險搶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針對災害後重大樹木倒塌折斷需清運及砍除，小型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枝，請國軍、清潔隊及學校師生義工處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324000" y="26028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颱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豪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2843280" y="189000"/>
            <a:ext cx="590544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因應「颱風」及「豪雨」等天然災害肆虐校園環境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復原作業流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.09.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修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2124000" y="765000"/>
            <a:ext cx="71928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1116000" y="119700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1116000" y="292428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9"/>
          <p:cNvSpPr/>
          <p:nvPr/>
        </p:nvSpPr>
        <p:spPr>
          <a:xfrm>
            <a:off x="1116000" y="450864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7:12:03Z</dcterms:created>
  <dc:creator>hlc</dc:creator>
  <dc:description/>
  <dc:language>en-US</dc:language>
  <cp:lastModifiedBy>user</cp:lastModifiedBy>
  <dcterms:modified xsi:type="dcterms:W3CDTF">2016-09-26T02:48:02Z</dcterms:modified>
  <cp:revision>30</cp:revision>
  <dc:subject/>
  <dc:title>投影片 1</dc:title>
</cp:coreProperties>
</file>